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135-C03F-4B1C-A61E-D56C1D5B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FAC-7394-477E-8CE4-AFD151BA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0D61-0790-4819-BE92-AC37B47B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356-CCC1-48BC-A02F-1917E672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22E3-4208-4F75-9B5F-8D7C69DB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B167-4BE4-49B8-B7B7-4D26CF89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5E0B-D2E8-4930-8BCF-45B8CDA5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BA34-584A-4BEE-B646-7544F188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9E00-A364-4D8F-895A-E79A7C78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D37C-F45C-4781-9627-A885B040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9741-FFA4-4660-9DC3-21653B05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E71-8794-425D-A37D-A1A3B40A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6C5B-0818-4A1C-9505-A2A08604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E2DF-991F-45AB-9409-7D76D982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0FDB-C43F-46E5-8E11-04DDB7DE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B90D-8FCD-4A33-8A0D-20090BA5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1D0F-D410-47A7-AF3D-8BC9BBF7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BAD9C-A425-45C1-B830-2D07E3C0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96C83-7FE7-478C-8350-395E3859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5CEB1-408A-4484-8E89-D700768C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64CE5-9720-4CF8-8285-F39E284F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C9FBB-45D5-416C-A9CC-C0312C30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122-A27B-4A8F-BA22-9BB424E2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06082-EA28-428D-AE4F-6C95BEA3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256C2-2EA4-4B1D-9CEE-1159CCB0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3172C-BD8D-40F6-9E30-F9290D1A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F79CF-363A-4C70-A8E9-22178E9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15B41-156C-4CDF-97B9-805FBDFD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B9B65-69DB-4FDD-BE3F-7B0B8613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0972B-3EE2-4FD5-8159-F65AB2F3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EB9FA-5EB7-407E-8D30-D5E916A8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C2A15-BDAF-420A-93EF-F4DE8672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24E57-D7B6-4597-8108-EAE9EDB8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B9E9-E411-45A8-A784-6374284F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C300F-F8B3-4E15-918A-1E6069F8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49356-7C75-45AA-B4E2-38DAA5F5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AA1EA-292E-4FF3-BB6E-F6A61854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E2FE0-3892-43AC-BEC4-92A1FFC0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443E5-F7A2-4733-AEED-A5DC6C5F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F3175-F14E-459B-AC73-E3F7EAD6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DEEBA-017A-4C2D-A1E1-0C2E3C5F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54B11-D3BA-4237-8985-FB9376E2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80D2C-9695-4B5B-B452-3B387BA4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BC6C1-51F2-4D39-B547-1AAABA3C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CA2-D1E8-48C5-B9D1-860E47BA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7A0AA-60D1-4B40-8D39-74D2805C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BABCD-687D-4765-BFDD-A20D733E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F9016-3E32-470D-B9CA-7FDE938A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21C65-00AA-4002-9738-A1937F70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D95D9-E007-4011-8353-48E008F2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20E68-1725-4502-895D-6C1FF81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CC608-1C8E-41BB-BBE1-4DFE7957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783EA-7B05-40E5-84D8-F7A69A70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84E45-4FC2-45AD-A176-B9F64529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55159-AEBD-45B9-9A37-B959F24B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4978-658E-42F2-ADE6-8D201286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C86BE-C401-4CA2-AB7D-1D2FF457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1B733-898B-43D4-BD00-9EAB1AFE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05CB7-5DB1-41BF-AE39-9468F959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8B229-9286-4922-A96E-5C2A5757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92406-D492-4E3F-8975-1299D7DA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17B98-08D6-4746-9A81-4B1FB777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D14BF-C7B2-4FAA-AA30-699E5CC2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29518-FED2-4C37-BFF5-A0E6A754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DEB5B-DCD5-4697-97E4-1DD77B6F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95E08-63BF-4B1D-96D9-0F537174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A02-6F62-4A89-8D02-929F7009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78C94-4360-4A67-BCA5-A4FAA503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13459-15A2-4D7E-972A-FEB7DE99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85A9E-1761-404B-8D29-8CCE1C8B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AD174-6D53-4020-B03D-F84D38AB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D5DE0-A7FF-48A5-AE31-39474112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6C875-03BE-4F03-9A53-2F94CD90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471CA-36E0-453E-8974-FC7171D3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68F9A-A6AB-4D98-BDCB-12F06925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12D3D-C3C9-4E91-A9C8-FB71DCF2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FD568-D7A9-4EDC-BB41-2CAE19F2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5CD-6C64-491B-8134-A5F4481A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9C118-6DA0-401E-A807-5C8A0482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7933C-2D94-4013-B4BE-3A78F4E6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A0D8C-726A-45E8-8D29-56A464A8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245F2-8E02-4FB2-908A-34A2ECD8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FDA79-51A0-414D-925D-022E04BA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43371-CC6B-4982-BE26-BA3D20FB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6C10C-FE33-4FA2-90B3-3DE0FFC5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400D8-B922-4891-A581-9414E69B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46FBC-0551-4361-9B65-C40DC679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EA959-ADDD-4C0E-BC5E-07BC3032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457-59A6-4E9E-BF3D-8C2545A3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08B56-8040-4ED5-9C02-C77F3375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A32EB-1063-4F28-95E9-93331D70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50157-668D-421D-8FA5-7C73F03C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B3EFB-6514-499C-9E57-C410906A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E4D17-4272-4554-9C00-5151A50F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C6BAC-CD8A-4692-8EC2-E125F2AA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6C911-EB1E-4445-8F3C-D1C300F9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8683-D065-4203-A397-55B2BF8BE9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E235-F0A1-40BE-A82D-8B4E5C10B4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D53F-B7D0-4ECC-B0A6-2E2527BF0D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55BE-073F-41B8-A373-C9135CD936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F0C7-9E80-41EA-8D36-A46984AFDC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5852-F082-4357-AE76-F5400BFD3F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7678-3E78-4339-9E66-B33531FFC3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AA31-8BF8-4179-AA43-17B5156787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819936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4.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6840" y="1882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+ 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posites Theorem, 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(flip over x-axi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 cos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 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 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measured in radians,   flip over 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ta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lements Theor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2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2 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25360" y="262080"/>
            <a:ext cx="84679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measured in radia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ta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si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1/3  , find cos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+ 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/3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8/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Object 4"/>
          <p:cNvGraphicFramePr/>
          <p:nvPr/>
        </p:nvGraphicFramePr>
        <p:xfrm>
          <a:off x="990720" y="5105520"/>
          <a:ext cx="4757760" cy="112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5105520"/>
                    <a:ext cx="47577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sin x = .681, find sin(-x) and 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x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-x) = -sin(x) = -.68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x) = sin x = .68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ing the unit circle, explain wh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Line 10"/>
          <p:cNvSpPr/>
          <p:nvPr/>
        </p:nvSpPr>
        <p:spPr>
          <a:xfrm>
            <a:off x="4495680" y="29718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1"/>
          <p:cNvSpPr/>
          <p:nvPr/>
        </p:nvSpPr>
        <p:spPr>
          <a:xfrm>
            <a:off x="2590920" y="48769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2"/>
          <p:cNvSpPr/>
          <p:nvPr/>
        </p:nvSpPr>
        <p:spPr>
          <a:xfrm>
            <a:off x="3505320" y="3962520"/>
            <a:ext cx="190476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7"/>
          <p:cNvCxnSpPr/>
          <p:nvPr/>
        </p:nvCxnSpPr>
        <p:spPr>
          <a:xfrm flipH="1" flipV="1">
            <a:off x="2894760" y="4037760"/>
            <a:ext cx="1600920" cy="839160"/>
          </a:xfrm>
          <a:prstGeom prst="straightConnector1">
            <a:avLst/>
          </a:prstGeom>
          <a:ln w="5724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0" name="Straight Arrow Connector 9"/>
          <p:cNvCxnSpPr/>
          <p:nvPr/>
        </p:nvCxnSpPr>
        <p:spPr>
          <a:xfrm flipV="1">
            <a:off x="4495320" y="4037760"/>
            <a:ext cx="1677240" cy="839160"/>
          </a:xfrm>
          <a:prstGeom prst="straightConnector1">
            <a:avLst/>
          </a:prstGeom>
          <a:ln w="5724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 flipH="1">
            <a:off x="2666520" y="4876920"/>
            <a:ext cx="1829520" cy="30528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392" name="TextBox 16"/>
          <p:cNvSpPr/>
          <p:nvPr/>
        </p:nvSpPr>
        <p:spPr>
          <a:xfrm>
            <a:off x="2214360" y="3809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7"/>
          <p:cNvSpPr/>
          <p:nvPr/>
        </p:nvSpPr>
        <p:spPr>
          <a:xfrm>
            <a:off x="6175800" y="3809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8"/>
          <p:cNvSpPr/>
          <p:nvPr/>
        </p:nvSpPr>
        <p:spPr>
          <a:xfrm>
            <a:off x="2062080" y="5105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9"/>
          <p:cNvSpPr/>
          <p:nvPr/>
        </p:nvSpPr>
        <p:spPr>
          <a:xfrm>
            <a:off x="6252120" y="5105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Straight Arrow Connector 20"/>
          <p:cNvCxnSpPr/>
          <p:nvPr/>
        </p:nvCxnSpPr>
        <p:spPr>
          <a:xfrm>
            <a:off x="4495320" y="4876920"/>
            <a:ext cx="1677240" cy="30528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Pages 255 – 256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2 – 20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(omit 3, 8, 11, 16)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2:16:07Z</dcterms:created>
  <dc:creator>teacher</dc:creator>
  <dc:description/>
  <dc:language>en-US</dc:language>
  <cp:lastModifiedBy>teacher</cp:lastModifiedBy>
  <dcterms:modified xsi:type="dcterms:W3CDTF">2010-11-11T20:03:33Z</dcterms:modified>
  <cp:revision>3</cp:revision>
  <dc:subject/>
  <dc:title>Basic Identities Involving Sines, Cosines, and Tangents</dc:title>
</cp:coreProperties>
</file>