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ABC-7063-457B-BB64-64E48132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336-28A1-45CB-AAF7-E44B1EF7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0B6-8E95-4FA3-B30A-FEF31E3B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B9E-4911-4F7D-852C-1B83BE68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35CF-DFAC-4577-85DD-ACA7A611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63C5-A8F0-43E7-B009-714167C5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1749-2E81-4C47-B729-882D2D76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4F98-4607-422E-88CE-AA184F3C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1A8A-C20B-405E-9E8E-5E940F02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B506-EAA2-458C-869A-F0747FDD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35AE-26D9-4940-8C2E-B69E8795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83D-664E-4EFC-A3BC-78A2CB15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7E8F-572C-4066-8E06-418C5231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703E-D1E6-4903-8914-0C9FD30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452C-A868-4EC7-B5AC-AD055BAB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7A86-D848-40D8-829D-68ECC44E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74D0-7D8D-4BBC-B94A-69B80C4A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56BF-9510-4E94-A3D0-52031C10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E6CF-7CBC-4AD1-8712-0C4A079E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4029-E32C-4E3E-ADFF-0C934EBE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B092-195A-4221-B600-D2DE3948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7424-4AAF-45CF-9D61-3498C356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FC8-F15C-496B-AEFB-B7484680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D695-FB51-4F1B-88A0-89CCE6ED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A380B-C65E-4385-96FF-0E5490E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69E3-9834-432B-A6B2-54B8589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730A-0B48-4F84-83C1-04558A6E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0B67-40AC-4902-A7E5-ABFB0710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96DB-DCBB-453E-BDF6-BFB321B6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C365A-0926-4985-9AA5-F7BCE68E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84E4-0ED8-4BBC-AB58-9C792753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4560-A130-411F-926A-AD419BDB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FB500-BE28-4FED-B5F8-4881EBFF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3BA-24E9-4BA6-AB4C-B61407F1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9E5DD-84BE-4C2E-9202-83F15A56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E44D6-73B4-4AD4-A8C4-12A8BF1F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1D2A9-ED71-4FB6-A209-6EE2462E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9155-BB91-4C1D-8BBA-03560E16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1AC4-78C0-469B-A534-C0F2EB4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5326-F320-4306-83D0-C836A58B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47F6D-6E82-4694-AD46-544BC00A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77C69-C79A-4603-9000-C0487B4C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FD469-090D-4989-98BD-FB015B3C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FAD13-A304-4084-956B-DA4DC067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9EE-E7CC-4667-9578-7352AF2E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B7550-8625-4919-BFA8-A761EC65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DFB06-258E-40F9-BF82-8D072D93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B1ECD-8F34-46C3-AB4A-597F69A5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FE130-3D92-4D94-9F91-CA262617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66A76-2D17-49EB-84E6-51A5F56D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C203B-42D8-4E5C-BBDD-7C70027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63474-7EC3-423D-B287-6482EB5D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1CC2F-CA80-405A-889E-FAA21CB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7DD7-6E3B-443B-9CF6-573F9A92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142EA-6C4A-435D-A6D3-4FE5C56C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C43-DB00-44BD-A239-1FB0770C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F1EF5-665A-4683-A879-0B93B902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F39E1-6F50-4C05-823E-A69EA5DD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961F2-5657-4619-B01F-CAEEF820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027D2-747E-4A35-9894-51D5118A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52CCF-5DA8-4AB7-955E-937C5821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BF658-B37C-45E3-A888-A3C19D6C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9B15A-5FDA-42D2-AE94-8109E99D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DDCE2-4FA6-4429-972F-E5C4273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B2CEC-3963-4D5A-876B-98847D6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B2F77-ABC5-4FFB-81D3-D6CC0AA8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EA0-D426-42C6-80DD-B07FAA7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B0745-EB55-4C6F-9F88-28ABBC2D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2B761-407F-4229-B54E-B30A90F7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387B8-EE2D-4C11-B7B2-E07B81DB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FFFDA-8945-4DA8-9BB6-94D0D9A9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EAA2D-B8D8-46AB-9CE7-DD48F6A3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B9B50-FE6B-465C-AF28-BB47C2B9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A24A9-1D92-47A0-BBCC-9CDACB9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CB532-ADA8-44D6-B66E-5C856AE0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A4294-32CA-489C-8CA4-6B929E0B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24331-89FB-438A-AF11-9B79905B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129-D570-4BF8-B6BB-17A246BC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0DA81-40AA-4381-ACDE-69800049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0643E-4062-4472-8B73-7DA79F45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BB9AB-0273-42F4-98A8-AEB19600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F4ADC-965B-4DA4-801F-56E0A763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6867B-B7F4-44D0-9E20-414BDE2F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95102-E118-4EA6-B2C5-E776BC9F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4DFF7-0828-49BA-9227-1F5F8779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641F0-109A-4743-8C5E-B92E88CA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AC027-E071-419F-9A55-CA80CD63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E66B9-C8DF-4067-9F0F-1B150297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CB6-238F-4634-8994-4818B75E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AFA1B-A338-4061-AA92-EEE8A790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B6FD-31E5-41EA-9B2F-4F032F30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AD7C1-C10A-4CD2-8FB3-17BF5508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DE376-26F9-42C3-9BF6-F4AA487E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657D2-5105-450A-AC82-AF19FC70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31B65-D467-4294-8529-1A3E8467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05590-3E13-48A6-BDF3-D4325F0C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75BA-5A5A-4BF4-86C2-160BCD5434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4288-2800-468D-B795-3AD629CB4D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07EA-CB27-414E-AFC7-37BDE81CA9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8F66-BC9C-4B07-B63B-36D3152D85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C8E6-E809-48E0-B5EC-F5AB79903B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1A6C-96A1-46E5-B0E0-90540FED72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BAD3-1A89-4A38-9A59-D0458B2A29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E053-7BB0-45F4-813B-8935228212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19936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4.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882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posites Theorem,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(flip over x-axi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 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,   flip over 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ta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ments Theor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262080"/>
            <a:ext cx="8467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ta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1/3  , find cos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/3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8/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Object 4"/>
          <p:cNvGraphicFramePr/>
          <p:nvPr/>
        </p:nvGraphicFramePr>
        <p:xfrm>
          <a:off x="990720" y="5105520"/>
          <a:ext cx="4757760" cy="11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5105520"/>
                    <a:ext cx="4757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x = .681, find sin(-x) and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x) = -sin(x) = -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 = sin x = 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ing the unit circle, explain wh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Line 10"/>
          <p:cNvSpPr/>
          <p:nvPr/>
        </p:nvSpPr>
        <p:spPr>
          <a:xfrm>
            <a:off x="4495680" y="29718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1"/>
          <p:cNvSpPr/>
          <p:nvPr/>
        </p:nvSpPr>
        <p:spPr>
          <a:xfrm>
            <a:off x="2590920" y="48769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2"/>
          <p:cNvSpPr/>
          <p:nvPr/>
        </p:nvSpPr>
        <p:spPr>
          <a:xfrm>
            <a:off x="3505320" y="3962520"/>
            <a:ext cx="190476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7"/>
          <p:cNvCxnSpPr/>
          <p:nvPr/>
        </p:nvCxnSpPr>
        <p:spPr>
          <a:xfrm flipH="1" flipV="1">
            <a:off x="2894760" y="4037760"/>
            <a:ext cx="160092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0" name="Straight Arrow Connector 9"/>
          <p:cNvCxnSpPr/>
          <p:nvPr/>
        </p:nvCxnSpPr>
        <p:spPr>
          <a:xfrm flipV="1">
            <a:off x="4495320" y="4037760"/>
            <a:ext cx="167724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 flipH="1">
            <a:off x="2666520" y="4876920"/>
            <a:ext cx="182952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392" name="TextBox 16"/>
          <p:cNvSpPr/>
          <p:nvPr/>
        </p:nvSpPr>
        <p:spPr>
          <a:xfrm>
            <a:off x="2214360" y="3809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6175800" y="38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8"/>
          <p:cNvSpPr/>
          <p:nvPr/>
        </p:nvSpPr>
        <p:spPr>
          <a:xfrm>
            <a:off x="2062080" y="5105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9"/>
          <p:cNvSpPr/>
          <p:nvPr/>
        </p:nvSpPr>
        <p:spPr>
          <a:xfrm>
            <a:off x="6252120" y="5105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Straight Arrow Connector 20"/>
          <p:cNvCxnSpPr/>
          <p:nvPr/>
        </p:nvCxnSpPr>
        <p:spPr>
          <a:xfrm>
            <a:off x="4495320" y="4876920"/>
            <a:ext cx="167724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Pages 255 – 256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2 – 20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(omit 3, 8, 11, 16)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2:16:07Z</dcterms:created>
  <dc:creator>teacher</dc:creator>
  <dc:description/>
  <dc:language>en-US</dc:language>
  <cp:lastModifiedBy>teacher</cp:lastModifiedBy>
  <dcterms:modified xsi:type="dcterms:W3CDTF">2010-11-11T20:03:33Z</dcterms:modified>
  <cp:revision>3</cp:revision>
  <dc:subject/>
  <dc:title>Basic Identities Involving Sines, Cosines, and Tangents</dc:title>
</cp:coreProperties>
</file>