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C83-D791-4A9C-B04F-139EEE0F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112-DEFA-4BA3-AF8D-B3487BEE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29E4C7-1AFC-4A5D-AE77-630A2C28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9A37E-0127-477E-8DB5-5AAE32D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64262-2B07-461F-ACCF-ECCFAB2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1E60E-64A9-485B-8E13-A1B0A3B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22A23C-A410-4703-A4CF-8D90CC57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5067C4-A638-4FA8-9ACD-F7B8C27D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1EEC69-3A80-4B73-A611-437C74C5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839BB-8254-416E-8A37-4CF13575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0DA2A-A09E-4DD1-A054-2B639F8A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A59C9-BD23-4EFF-91B7-F93174E5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608-776A-4324-A8E0-EBCF9AFA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A9461-8754-4CBF-842A-7540BA4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83C4D-A352-4779-9EFC-21D0895C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84EDD-D192-4E07-85A3-B25C3C33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95579-B56C-4615-B318-BEDB789B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54E54-7BE7-4470-8512-8C727661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0CE324-090D-45A0-A0C8-DF6FD88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36CF8-A92A-41AA-9AF5-2E4785AE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F95BEF-DE6E-49AA-BD95-AC71B49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9F805-7C20-4E1E-8779-8E168E97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79F63-89D9-446A-B16D-6D654107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018-0847-4447-BEB4-0B8EFA96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5A832-E5AC-45CB-A2EC-AC8E2492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6091C-F872-48F2-A4C4-74E98ECF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DD749-35B6-4C60-9D5C-155196E2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90CA5-4030-488A-944C-5424FCE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8905F-F7A4-4F52-B491-45AE7DB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9DA62-9692-4887-97A8-31730634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EBAD9-2EF0-406E-833C-3EFCE76F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9082A-0DD0-45E6-BDFE-B34964FE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5B4E6-85ED-4EF0-ADF7-F77D969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E3C2-CE0A-40C6-BB14-5160A7F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56A4-00BB-4CC0-92EA-017482E6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DB21B-7D94-4924-A502-4C954990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1AA04-F339-429E-A178-AC916FD4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E64A9-A9F6-4087-AF33-5678DCD0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D9C05-01F2-4280-B997-265F95E50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C54F4-A031-40F0-AEFD-EE998CC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7BC96F-FB6A-4A8D-9BC5-C693D006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5E8F4-AA0C-4E7A-842C-65F1C577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F4463-3E53-4740-9398-7D3251E7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FD78E-29D1-48F3-A157-53147593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60CB0-5E52-4EF2-B3A1-3B287E30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AFF5-0B9D-41E4-B686-3708EC62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CDA6B-E517-4D25-81FA-962C6C54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145D3-58A8-493E-9423-4EC20A64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9AAC63-001D-4BB5-A06F-BA884EE1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AA5CA-1CDD-4E94-838D-7E4F7581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4A6716-1157-40EB-947B-3F7F2217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9F08-465F-451C-8744-2083AEB5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C1C0-11C8-4A75-9C7A-36FF69E0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1C95-8184-4868-B816-CF04AC28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10C3-3FF1-4483-9DD4-3DBCDD0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6F1D-D0CE-4FEE-B459-1140F31E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F9F-063B-401D-B70B-49192F26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700A-CC87-44E6-B651-148A8E5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9EBB-2E7E-4F5F-91F8-F47A2894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C8CB-D4E0-4C3C-B65B-8474754B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4BB6-C20D-4E3A-9F62-E4DD6625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1AE0-967A-46DE-8DF8-EE9421AD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563F-FDCD-4A6F-B3AF-04AF32BA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A951-D7A9-49E3-8DFC-BE6AED5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BDE7-8314-40C8-9838-196F841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7C47-DAE6-4FE3-A126-03B00EF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7AFA-F656-4020-ADA0-7F66C3C0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AF4-0722-45FF-AFE2-E8AE6D6F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35AC-93E7-49AA-AED8-7E6B8080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D852-D531-4C59-96E7-65E705DD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6503-805B-42CD-ACA5-F2B1C8FB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D4B2-BC99-4665-9A06-8AA18D29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DDA7-C849-4F41-8F00-F321CBF8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B3E3-2E75-4AAE-83BD-9280BC24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1010-E050-449C-80B2-F42FA99C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33EC-50AA-4397-81FA-207B526E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1FC1F-1E48-46F2-86F0-66418D0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6D31-6DA3-456D-A71B-A42DA42B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574C-120E-4228-AC38-EED3A144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9DED-96EA-4EBC-BB64-E21AC1D2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A0A3-8579-4998-B484-97192092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4306-1D65-429B-9385-16EC091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A5B9D-EF6A-48BB-B13A-A1B676E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D8E5-79FF-470B-AEFD-C278C9D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7AF6A-3567-4B60-B1C0-D4CE97F2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5761-C747-40C2-BDA8-18C40457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5FB9-1311-447F-8399-D40328F1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04807-283D-4DD4-86A3-29B8C14B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26E74-1AC5-4EA0-BD38-D80A3477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069-0D65-42E5-A89B-74F7682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7D5C3-7C39-4285-BC5C-758A84F9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2D07-38FC-49BA-BDF3-6B341A7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529F-24A7-4C3E-AF4D-1A5B1E81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54542-4AF6-475B-AA31-4D48F8AB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D014D-4FB0-4205-97C7-E6F6C09F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8884-BACD-4E09-8B29-BFC77B34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23AAB-87F6-4890-9393-5952C7D4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F4546-E085-4A37-8C81-F5FF9EDC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F1911-EE32-45C7-BF19-007E518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FFCBD-B4F4-4C76-8C8B-27B8ADD4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D8FC-3F3E-448D-9D7E-E4940E1B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EEDC-5FC1-40EC-B501-EF699D60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99499-A934-4CC3-9CD8-9B172D75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7FE80-3290-493D-948F-30771175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C70DB-4185-4987-88D9-37DF24D3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8E80E-9ADD-4EDD-8746-5DFA548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0047-6C8F-486C-BFB1-906F732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74CB-DC96-48FA-9EDC-01D391BC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12C78-2DA6-48DD-A968-DF3A8282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0A00-9FFC-4D77-AE05-72F2E3EE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BFA61-212F-4559-A5A2-06CB2F4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6B7-7495-489E-9E5E-68998D83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F34B5-6DBC-43F6-B466-354F54D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7A83-71D9-4E47-BD0B-8D2E4702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A82C5-640B-4A84-95D1-848091EF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442F8-0A72-42C3-A28C-CE5393B2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AF336-B473-4409-8A26-B0B80BC8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62AB8-FBEE-458B-B834-B34544B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7C448-9414-48BE-8094-FE420796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8749-8427-4CD9-B9E5-2FC452E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0D92F-2BED-434E-B9A5-973CC92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73333-9EE8-4F79-B1EB-B8EC4264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A0DB-30B2-41EF-808D-07E301B3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C36D-12AE-4C3B-B6C3-F33941E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8B384-7562-4D32-B637-7904788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4D432-2108-4100-BC67-D79FC1B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3355-C6B7-403E-8624-D620414C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ABCF-72CC-4891-A8DA-5E7658B9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84074-4C05-4DFA-9D7E-01F43B83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8F2FC-41D9-42C7-9F96-61231278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5D0C-A82C-4276-B7DD-537BFE0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4905C-5AA3-4017-BD44-42C9E1E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3D410-C4B2-4E8A-BDFD-5F609165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212-E8B5-4001-AA7F-415768F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08B3B-2309-4394-8E20-AF884E24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5297D-B391-43D8-820B-CADAE262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69070-4CD0-4AC2-B378-676CB47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5904-119D-4D97-A1B5-BB7D6129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FF734-1B1C-454F-8DF1-AC12FBD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307BD-A397-4215-8207-A0A3FBC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C1CEB-1A7A-4E56-98AF-B5893194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44387-7874-4AE3-BF72-1129659B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34A35-6BDB-42EC-8F8E-725A987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C2CD46-6D5B-4A9A-B86C-81928C16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BACA-BAB5-42A2-803B-56915EA44B0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5BF-87A4-4255-8B28-88E74C587844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EA4-5C9F-4410-99CD-B673D1E8D476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7475-9C49-4ADF-A565-CF8A73BEB622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573-A94D-4E3E-A256-AFC48E791A3C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D494-3E96-4800-97EA-2FD9E61B527A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528D-A0D4-457F-A8A9-7A6080262F1F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AE30-7021-49FA-A420-D9C4E1F4AB33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cb00c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0C30-4D65-4F73-AE14-A879963378C5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7F8-C602-436C-9ABA-167C93C1CC87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C153-B04A-4A59-B95E-60DD42576494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51e1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51e1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5dff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ff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5dff0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66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6b3d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51e10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EDF9-D11A-4770-B46F-F6D047B21E0D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00cc"/>
                </a:solidFill>
                <a:latin typeface="Georgia"/>
              </a:rPr>
              <a:t>LESSON 4.3</a:t>
            </a:r>
            <a:endParaRPr b="0" lang="en-US" sz="16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ff"/>
                </a:solidFill>
                <a:latin typeface="Georgia"/>
              </a:rPr>
              <a:t>Sines, Cosines, and Tangents</a:t>
            </a:r>
            <a:endParaRPr b="0" lang="en-US" sz="4200" spc="-1" strike="noStrike">
              <a:solidFill>
                <a:srgbClr val="51e10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,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) = R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    </a:t>
            </a:r>
            <a:r>
              <a:rPr b="0" lang="en-US" sz="27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you start at (1,0) and rotate the image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uni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Ta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= sin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 cos 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θ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1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270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maps (1,0) onto (0, -1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cos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sin 270˚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Evaluate tan 270˚ =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587760" y="243828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359520" y="3352680"/>
            <a:ext cx="115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-1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2977920" y="4343400"/>
            <a:ext cx="9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0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5" name="TextBox 6"/>
          <p:cNvSpPr/>
          <p:nvPr/>
        </p:nvSpPr>
        <p:spPr>
          <a:xfrm>
            <a:off x="3749040" y="5334120"/>
            <a:ext cx="28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undefined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Find, to the nearest thousandth, the coordinates of the image of (1,0) under a rotation of -10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/9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R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10</a:t>
            </a:r>
            <a:r>
              <a:rPr b="0" lang="el-GR" sz="2700" spc="-1" strike="noStrike" baseline="-25000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 baseline="-25000">
                <a:solidFill>
                  <a:srgbClr val="6b3d8c"/>
                </a:solidFill>
                <a:latin typeface="Georgia"/>
              </a:rPr>
              <a:t>/9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1,0) = (cos -10π/9, sin -10π/9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alculator!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(-.94, .342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©Carolyn C. Wheater, 2000</a:t>
            </a:r>
            <a:endParaRPr b="0" lang="en-US" sz="12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F39-37E7-4A9B-A2BD-CA7BBAD71589}" type="slidenum">
              <a:rPr b="0" lang="en-US" sz="1600" spc="-1" strike="noStrike">
                <a:solidFill>
                  <a:srgbClr val="51e10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All Star Trig Class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Use the phrase “All Star Trig Class” to remember the signs of the trig functions in different quadrants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grpSp>
        <p:nvGrpSpPr>
          <p:cNvPr id="622" name="Group 6"/>
          <p:cNvGrpSpPr/>
          <p:nvPr/>
        </p:nvGrpSpPr>
        <p:grpSpPr>
          <a:xfrm>
            <a:off x="2057400" y="3048120"/>
            <a:ext cx="4800600" cy="3429000"/>
            <a:chOff x="2057400" y="3048120"/>
            <a:chExt cx="4800600" cy="3429000"/>
          </a:xfrm>
        </p:grpSpPr>
        <p:sp>
          <p:nvSpPr>
            <p:cNvPr id="623" name="Line 4"/>
            <p:cNvSpPr/>
            <p:nvPr/>
          </p:nvSpPr>
          <p:spPr>
            <a:xfrm>
              <a:off x="4419720" y="3048120"/>
              <a:ext cx="0" cy="342900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  <p:sp>
          <p:nvSpPr>
            <p:cNvPr id="624" name="Line 5"/>
            <p:cNvSpPr/>
            <p:nvPr/>
          </p:nvSpPr>
          <p:spPr>
            <a:xfrm>
              <a:off x="2057400" y="4800600"/>
              <a:ext cx="4800600" cy="0"/>
            </a:xfrm>
            <a:prstGeom prst="line">
              <a:avLst/>
            </a:prstGeom>
            <a:ln w="38160">
              <a:solidFill>
                <a:srgbClr val="6b3d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6b3d8c"/>
                </a:solidFill>
                <a:latin typeface="Arial"/>
              </a:endParaRPr>
            </a:p>
          </p:txBody>
        </p:sp>
      </p:grpSp>
      <p:sp>
        <p:nvSpPr>
          <p:cNvPr id="625" name="Text Box 7"/>
          <p:cNvSpPr/>
          <p:nvPr/>
        </p:nvSpPr>
        <p:spPr>
          <a:xfrm>
            <a:off x="5217840" y="281952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All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2832480" y="3352680"/>
            <a:ext cx="11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Star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2622960" y="4876920"/>
            <a:ext cx="11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Trig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4958640" y="5105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Class</a:t>
            </a:r>
            <a:endParaRPr b="0" lang="en-US" sz="36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4495680" y="3429000"/>
            <a:ext cx="207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A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ll functions are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0" name="Text Box 12"/>
          <p:cNvSpPr/>
          <p:nvPr/>
        </p:nvSpPr>
        <p:spPr>
          <a:xfrm>
            <a:off x="1905120" y="38862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S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ine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2057400" y="563868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T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an is 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648320" y="56386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0cc"/>
                </a:solidFill>
                <a:latin typeface="Georgia"/>
              </a:rPr>
              <a:t>C</a:t>
            </a: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os is  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Georgia"/>
              </a:rPr>
              <a:t>positive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Give the sign of each of the following: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. Cos (-1˚)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b. Sin (-1˚)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c . Tan (-1˚)  = 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2377440" y="236232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posi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6" name="TextBox 4"/>
          <p:cNvSpPr/>
          <p:nvPr/>
        </p:nvSpPr>
        <p:spPr>
          <a:xfrm>
            <a:off x="2530800" y="3429000"/>
            <a:ext cx="293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= 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37" name="TextBox 5"/>
          <p:cNvSpPr/>
          <p:nvPr/>
        </p:nvSpPr>
        <p:spPr>
          <a:xfrm>
            <a:off x="2908800" y="441972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3d8c"/>
                </a:solidFill>
                <a:latin typeface="Arial"/>
              </a:rPr>
              <a:t>negative</a:t>
            </a:r>
            <a:endParaRPr b="0" lang="en-US" sz="4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A large clock with rotating hour and minute hands is on a building with its center 20 feet tall.  The length of the hour hand is 1.5 feet and the length of the minute hand is 2 feet.  At 8:20, give the height off the ground of the tip of each hand.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Minute hand: 20 + 2sin(-</a:t>
            </a:r>
            <a:r>
              <a:rPr b="0" lang="el-GR" sz="2700" spc="-1" strike="noStrike">
                <a:solidFill>
                  <a:srgbClr val="6b3d8c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/6)  = 1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ff00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b3d8c"/>
                </a:solidFill>
                <a:latin typeface="Georgia"/>
              </a:rPr>
              <a:t>Hour hand: 20 + 1.5sin(-160˚) = 19.49 feet</a:t>
            </a:r>
            <a:endParaRPr b="0" lang="en-US" sz="27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1e10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51e10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Pages 248 – 249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  <a:p>
            <a:pPr marL="272880" indent="-2728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b3d8c"/>
                </a:solidFill>
                <a:latin typeface="Georgia"/>
              </a:rPr>
              <a:t>2 - 17</a:t>
            </a:r>
            <a:endParaRPr b="0" lang="en-US" sz="8000" spc="-1" strike="noStrike">
              <a:solidFill>
                <a:srgbClr val="6b3d8c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0:30:12Z</dcterms:created>
  <dc:creator>teacher</dc:creator>
  <dc:description/>
  <dc:language>en-US</dc:language>
  <cp:lastModifiedBy>teacher</cp:lastModifiedBy>
  <dcterms:modified xsi:type="dcterms:W3CDTF">2010-11-09T16:23:54Z</dcterms:modified>
  <cp:revision>2</cp:revision>
  <dc:subject/>
  <dc:title>Sines, Cosines, and Tangents</dc:title>
</cp:coreProperties>
</file>