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A71-0748-464D-9F61-2728728B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E56-2E07-480A-A840-23FC27D8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3BBF5-FA18-486A-8217-190C9672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3733E-5B8E-45CA-A2A9-7AA845EF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3D16F-F9F9-437A-B597-E4A570F7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24F7F-5CC2-47A8-999A-CCA8C4B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9C2C0-8105-4B77-8666-D87E31E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4A705-5736-42EC-9C1E-2DC5247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D6C38-4559-495D-9C9F-853C1AA6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2EFD9-AB70-441F-9290-338AAF53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4E366-0B36-49C4-8A36-97B1AF8E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C7065-2AB8-42A6-B117-4C9FD7AB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F26-E3B0-47C7-AE03-DE582D4A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445C2-1E87-4CF1-9707-A384148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5DEFF-66FF-42A7-8D86-E91594E7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EC97E-A345-4ADF-B242-B503305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300E1-6044-4809-806F-2F7C215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034DB-CFF0-4E42-AA8F-247C9D1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98B65-8A8E-46B4-9622-F1AC70D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EC455-BA6C-46D8-8B09-5FF675F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03DD1-BAEA-4245-B1EE-A56F9DD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B8590-1F66-4B1D-ADDF-6E690B62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4426A-2CD9-4022-9D8E-81397DFD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3E7-CBE7-44BD-A63F-14EA911D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B800C-B5F1-4634-8FBC-AF5BFBA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0024-304C-4D87-AF69-57892BF8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8AFD-64C9-4622-9E4A-EDCE1655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EC614-F4CE-4CB5-92B4-3EE2CE4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8DF12-FE0C-40D3-A88F-3C17A9A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A54F-2DC9-419B-A70A-20BB4E9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16C62-B5F9-4A13-A7A7-0CC92C7D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EDEB-0122-4B93-A1B8-C3A3111C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4ED38-8D36-456A-88BD-F3BD51C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FFA7D-83FA-45B0-A673-65CC90F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C614-BC06-4C13-80DD-FA926BD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4FBA1-9B51-44BB-89D8-0C517F4D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9562-9C9B-431E-9054-7FAF034D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6702-D9F6-40A1-B3E0-B4279728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52369-24CC-4C64-BDBE-AA574AE0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C9A12-6C00-4029-AC6B-2FACEF3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3F123-8F26-4D00-85A1-72515C43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1E806-1345-416A-BA85-6280C42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73E40-72C0-4FAA-958A-5252961E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404FC-3518-4E76-8FF5-EFFFBCC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BEC2B-6DE9-4B75-9E34-EE0E38E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4AD2-D47E-4169-871D-23894BA6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350F2-5206-4F32-8152-B3A184D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7582F-E91B-4F4B-B4D2-FE625FB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6A06D-3944-4F30-8DAE-52F9AB8D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04917-CD45-4744-9A75-65521AC2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B601B-B08A-43C6-9737-2FDC9766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D080-1F04-42FF-9F91-A77B141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67C-50B5-4D25-9778-6BBB1FDB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0B6-6A69-4641-91F9-29D6C84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0F69-8F94-48F7-A7C8-6A925776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95E1-0FB0-49B6-9C9D-A0EC3EF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688-62E6-4697-BF28-73E0D237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B4F3-2E42-424F-9DF5-B3F54CC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FF1C-03D8-4F31-95BB-7A2209D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7AAE-E773-45A7-886B-B183EC78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D36E-58DF-42DB-BC30-BD0D9FD9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64D3-03D7-461B-BBA1-90907B94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157C-78B7-46FC-96FF-0A03AA05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5472-8A9D-43D1-84B8-60A8362C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652F-EDAF-42BE-8D7C-A717D2A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E980-C43D-4CEB-AD94-FB40DF63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C335-C7FB-4C9A-B155-4FAAA733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7D0-0D42-40B9-8D4B-3929F2CD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2660-66A0-4540-B4CC-01C5911E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68A6-8882-4098-9F1B-B4ADCD4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FB6D-D421-4B6D-83EF-9D64B80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C274-F336-4B83-8D89-A23C67A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D850-4A6E-4503-9922-394F04F8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CBCE-9FDD-482A-8CA5-DE79D19F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1B54-92E2-48B7-A6DD-21631467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C80D-125D-4468-A330-05BAD00C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54DF-F094-49CA-8980-85471E7C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D33F-5172-4819-8BED-4AB897CB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D8D-1495-49C1-9D2C-6E96A839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A2D4-D964-4D30-9843-FFEEBF1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4262-0115-4C2F-837F-8FEE0C2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C68D-FF56-49F7-923B-0A73FC0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342C-771A-4E1A-B9F1-9CBEEDB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14E0-94D8-4A60-8B16-F8903AB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4CAF-1E43-40B8-A029-365280C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12B4-99F6-48B6-B5B8-0EB77E6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A665-586E-4FEC-A563-86A2B1EB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8FEB-5CF8-44AF-A214-7C773E47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7771C-7648-44BF-B31D-1C402A56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23B-3282-4502-A8C1-D1F1459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AEDD-45DD-4290-95CD-AEA8E3DE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13832-EC96-4E61-A694-0ABE31B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CB50-C096-4664-8649-E75B63C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EBD1-D1BC-4AE8-9276-B02DC133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9B02-C4AB-4B18-ADD2-CD780CC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B46A-8758-41A6-A21B-B065CCC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3F59-68FF-4420-92D5-C1EBF57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7B459-9014-4695-A6CE-88DA01CC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52C8-8F8C-469C-9D76-A72BAF88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D950-0942-46CE-AA68-358FC170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866-15D8-4B55-B5E4-88908649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15766-CCDB-42C0-BFBA-0251CBF7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ECF3-B01A-4FF9-9092-AD697630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0979-94CA-4379-81F4-222970FD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FABA-E626-4592-A2A2-5B018744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15AC1-DCCE-406A-A234-17C8854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1F45-71EC-4042-B2AE-B2460157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BE2C3-45B0-4035-8D54-8BDC55BC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9DFF-636F-4549-9FA7-53A0D6F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7E7A-EE3D-45C8-B6FF-1197F5B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18A5-3CD6-4919-88E6-6C5A9DB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32D-5135-4577-9DE2-2E932BE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302ED-FCA0-45FF-AB54-C7A127DE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3B28-9878-4B66-9FAE-689EA381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37F4-4371-47CF-A6FB-32D38D56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AF49-E920-4329-91BE-C3A0FF56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CF07-807B-400E-8235-E52F9A7B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19CA-1A83-4D9C-B563-4DEB257E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6F54-0F84-44FB-B606-BDE03F2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9196-9914-429A-957F-046DFFB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B9581-F5B5-47A7-875E-BD4D459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8E46-160A-4E54-855A-F4875B4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2AA-3878-45CA-A218-B240CD3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3906-4AC1-442F-822A-A3E1CF8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27D9-6516-4526-94BE-8ABB7E3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6463-1EA4-4532-915F-FD5FFF6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4160-5AC0-47F3-9F2E-F1A79D2D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CFB3-F42C-49DA-BAAE-F5C40766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29591-E611-4FDF-8C8B-AEBB49A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E329-7737-43EF-8B69-083C751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F697-009F-45CE-A877-C4A0869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B1CC-5E75-48F3-93A4-C8051E2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7FC3D-D378-457C-91DA-32971B15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7C5-41D2-4666-AC81-F1AC547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DB8C3-2D2B-4FE8-9AFF-94387305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E6631-B63A-464A-ABE3-CFE43CD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C08C-2E95-477A-9763-03D6E09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B8235-EC31-4DD1-A2DA-4FA0C0D9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37CC1-A825-4751-9D89-7047D9A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F78FC-CD80-4178-B6C2-ED86AF46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68EC-7100-4891-82EC-03D4EC22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D8067-3024-4694-9DAA-D10C5D2D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38294-9DEF-4D22-A380-95D8A4E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08704-BF4E-4C06-8AB0-BD1C7FE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9CEF-4E04-4178-B7A4-9C6F09E52D89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8166-9534-4ED2-B1E9-35A228315FB7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2707-2627-407E-B013-78FB8860BDAB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CC5-BFCA-4560-9393-DF1A718ACF07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6B0-2E19-497F-BBBA-654382AB19DC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0C18-E7E4-448D-A8F4-4576D284B4AF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CAE1-1239-46A2-8653-93B58AE0CE75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D3A-6359-4A72-9694-5E8275D99C17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2CD-A802-4A07-AC44-1C81324F7235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C1AA-D0BF-4731-BC7A-F5F4375AB1A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4AEF-A356-4656-97CD-E839DED25FE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03E3-D96B-4070-A70D-32E661C7D381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00cc"/>
                </a:solidFill>
                <a:latin typeface="Georgia"/>
              </a:rPr>
              <a:t>LESSON 4.3</a:t>
            </a:r>
            <a:endParaRPr b="0" lang="en-US" sz="16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eorgia"/>
              </a:rPr>
              <a:t>Sines, Cosines, and Tangents</a:t>
            </a:r>
            <a:endParaRPr b="0" lang="en-US" sz="4200" spc="-1" strike="noStrike">
              <a:solidFill>
                <a:srgbClr val="51e10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,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) = R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    </a:t>
            </a:r>
            <a:r>
              <a:rPr b="0" lang="en-US" sz="27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you start at (1,0) and rotate the image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uni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a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=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 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270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maps (1,0) onto (0, -1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cos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sin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27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587760" y="2438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359520" y="3352680"/>
            <a:ext cx="11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-1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2977920" y="43434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749040" y="533412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undefined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nd, to the nearest thousandth, the coordinates of the image of (1,0) under a rotation of -10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9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10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/9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= (cos -10π/9, sin -10π/9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alculator!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-.94, .342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©Carolyn C. Wheater, 2000</a:t>
            </a:r>
            <a:endParaRPr b="0" lang="en-US" sz="12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2C39-5A00-4791-926F-5AE2F44184F1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All Star Trig Class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Use the phrase “All Star Trig Class” to remember the signs of the trig functions in different quadran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057400" y="3048120"/>
            <a:ext cx="4800600" cy="3429000"/>
            <a:chOff x="2057400" y="3048120"/>
            <a:chExt cx="4800600" cy="3429000"/>
          </a:xfrm>
        </p:grpSpPr>
        <p:sp>
          <p:nvSpPr>
            <p:cNvPr id="623" name="Line 4"/>
            <p:cNvSpPr/>
            <p:nvPr/>
          </p:nvSpPr>
          <p:spPr>
            <a:xfrm>
              <a:off x="4419720" y="3048120"/>
              <a:ext cx="0" cy="342900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057400" y="4800600"/>
              <a:ext cx="4800600" cy="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</p:grpSp>
      <p:sp>
        <p:nvSpPr>
          <p:cNvPr id="625" name="Text Box 7"/>
          <p:cNvSpPr/>
          <p:nvPr/>
        </p:nvSpPr>
        <p:spPr>
          <a:xfrm>
            <a:off x="5217840" y="281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ll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832480" y="33526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Star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2622960" y="487692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rig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958640" y="5105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Class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4495680" y="3429000"/>
            <a:ext cx="207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ll functions are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905120" y="38862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ine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2057400" y="56386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an is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64832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os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Give the sign of each of the following: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. Cos (-1˚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b. Sin (-1˚)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 . Tan (-1˚) 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2377440" y="236232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posi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6" name="TextBox 4"/>
          <p:cNvSpPr/>
          <p:nvPr/>
        </p:nvSpPr>
        <p:spPr>
          <a:xfrm>
            <a:off x="2530800" y="3429000"/>
            <a:ext cx="29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2908800" y="4419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 large clock with rotating hour and minute hands is on a building with its center 20 feet tall.  The length of the hour hand is 1.5 feet and the length of the minute hand is 2 feet.  At 8:20, give the height off the ground of the tip of each hand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Minute hand: 20 + 2sin(-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/6)  = 1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Hour hand: 20 + 1.5sin(-160˚) = 19.4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Pages 248 – 249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2 - 17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30:12Z</dcterms:created>
  <dc:creator>teacher</dc:creator>
  <dc:description/>
  <dc:language>en-US</dc:language>
  <cp:lastModifiedBy>teacher</cp:lastModifiedBy>
  <dcterms:modified xsi:type="dcterms:W3CDTF">2010-11-09T16:23:54Z</dcterms:modified>
  <cp:revision>2</cp:revision>
  <dc:subject/>
  <dc:title>Sines, Cosines, and Tangents</dc:title>
</cp:coreProperties>
</file>