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8D1D-0AC2-4347-8840-30515D9E5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DBAE-6F0A-4398-B2B5-217C0453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CEA06A-F585-4E69-81F6-5671D778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229F75-64A3-444B-BF4E-2C60A93F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7F9CA5-85D5-4026-AA8A-AF381A16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E84F46-DF37-4486-9884-8727515B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3C4575-B744-4E75-9F73-47E41FD8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27DAC0-E0A6-4440-8F4F-BB57BA7D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9E74D3-9F46-42DA-BF02-067A2497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7A5666-6122-40DB-82CA-D6B58A1D1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56ED7A-B07B-4718-9E83-EFC294C83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21B0ED-AE86-46C3-8E68-DE105D74E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FC47-28F5-4768-937E-B31A708AB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CFC71F-9F54-4398-A6D1-ACC2F9B1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9BF05D-348A-4430-9223-0078C0FD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D7CE7F-2479-49DA-BE59-4DD55192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2F20DB-4BB2-457A-A07B-B5119139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A77ED0-088F-4BBA-8194-44FA0991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B64AE4-9067-4877-B202-79871F0C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A2BD66-076D-4BA8-B073-B71178A6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3878E8-E9F0-47BC-A3E4-7BC15EE8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4AC4AF-69C7-46F6-8F60-70F29BDA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EE6562-AD03-42DA-827F-532322CBA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DD2B-634B-4D9B-868C-9D6A08D9E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0F4257-8085-42C3-9ACB-43066D4C6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23CC53-A4AB-4121-A919-4FCD11A80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A7AA0-FF16-4C77-8F1C-67177D2B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79B86-7ADD-402C-ADF9-A3437E09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13496D-3B6B-4DD2-B572-B5033D80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10559-7BA8-468C-B6AE-AD205361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01F230-47B2-4825-8C91-EDFB7D3D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82F5A-9834-40D4-8468-4B1F3003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ACE36-1376-4FC2-A1B1-D254DFCE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4D953-A686-4FE3-82D4-B763950D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02AD-E82B-4896-92E5-C7B3E0C0F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DC97D-C8C7-42A5-B2F8-F8C9EE70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6420A0-237D-4FBF-A262-04DE1C691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D2BA70-6E7B-482E-815A-5491F45C4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A7B51E-16E1-404B-A18A-0C66B345F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24E354-73D9-4DD5-92F7-4FA84C0D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D9DCC9-372D-4149-AC96-6FC6CAB5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2DA256-0049-4C86-BBF0-AA9C7D4A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8CAC8F-0E29-445C-822C-4E32CE1F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DBE663-A64E-4287-885A-86C83CBA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DD83CA-FB54-426A-BC8B-1EDE2EB6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C2C40-312D-4499-9F22-5F615D37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99E8A6-8946-48C3-A43B-CD905F5D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CC829A-44F0-4082-90F0-55BDF1A7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E4A285-E902-4654-AE23-F5AB592E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97D4F7-77A4-4453-B6F6-D07F30848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D6210E-5F8E-489A-A94A-54B4734A8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3113-646F-4A2B-9C51-93024A4A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B4971-E2A6-408E-9168-3ABE1EAF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9DB4-2DE0-456C-82E7-1E75B680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1817A-C51E-478E-98EC-7D9FFDD2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9DC0-E6F3-4A24-AE43-8578A1FF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9EDD-ED6A-461A-B6D2-B1EAA76F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DEEB1-F1E6-46DA-9F99-723C0954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6C60E-4858-4E67-8614-007F3E0A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7F3F-0D21-4127-AC69-A18DAA85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32E3-8BB1-4ABC-AAF9-BB6F0AAEE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8034-4304-4D82-929D-1C5297475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B6B67-F646-4189-9B0A-35368B0FB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06A8E-41BD-4283-957F-38E1C7DE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9079A-69BE-4AF9-A80A-6396E903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123BD-A2BF-4EED-B829-48BA92EF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97B8E-F688-4F98-B705-273137E7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3EE0-6EC3-4D75-B30E-769A092A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E7370-BBBF-4B6B-A25D-23DE1B6D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6796A-482A-4FF7-975B-1081A2F3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EB8C2-76BC-448D-95E4-11E10D8B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DA616-2FFC-4BBB-B68B-D2E6C366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B2DDA-3A05-448C-ABD0-E961AA19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70611-A736-464F-96C5-2501E2D1C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B7FE2-06F1-456A-B7F2-B05B9C293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7A117-20CB-47E3-B578-1FAFD274F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0899D-6143-4F32-8F9B-BDE86E5E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B5B57-0811-496C-A1CB-AAAEEB60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33CA-6B0F-4472-B563-80760225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C3869-BEB5-42F8-8A59-0B77F555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4A1F6-3626-463C-A1B1-E0254859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18733-AB62-4F7F-8225-BB5B3BCE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FC0F1-5193-48F1-91E5-D3802AB2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F57EA-D533-404A-B67F-D5574DFB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D8343-194B-4AAD-8099-29A0BF66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A12C7-8290-4AE3-98AB-570F5FE4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C4951-5F9A-4AAF-8B28-5FA34CB29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5C1EA-D3BC-445C-B3B0-0F68D58C3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7EDA4-0CCF-4F5C-A69E-7995435F6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B702-07BC-4A4C-A0E0-DC1CC8D5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EA7F9-79D0-41D7-A4F1-C30C37FF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D5A81-E0D2-4E50-AB6A-CD7688E2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F1077-6EF6-4A88-A68A-56C1F446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17FB1-F4AF-47F0-B031-DA4CE343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46BE8-19AD-4F31-9E86-C01413EF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5544C-0AE1-4988-ACBF-257BD826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68EB2-F3FD-4014-B7CA-42541DC5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2218D-70EB-4397-A214-9FDD0F41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F3FD6-D6F3-497D-8D85-A19532F8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CCE48-DF67-47B3-B086-1B6A48EDC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86CB-B9E3-49D1-BF9D-1257456E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22D88-2A0F-496E-9D6F-4D02754D9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EDC42-7650-4631-AFD7-64D9D22D8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4D678-2A21-499B-A3D5-6CCE7969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F75C5-353A-458F-AF52-D6272799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4EFB1-438F-4A8C-9810-CDCADB5B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B8083-6189-4204-B5AC-9D6287AE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BD2B6-DBA8-4399-89E3-24C62200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54352-1D62-4CCF-AC0E-27A25245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008C7-C6D8-4DB5-8EAA-7BA12A44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1BBFF-77EB-4F1B-ACED-364432F9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CAC4-1188-40B2-A0B8-08600C64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51252-F353-4BD0-B693-1274546A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EB006-B3FC-4817-9DC9-2EBB5762C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73142-9CAD-43EC-981F-C0DF3E20D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FB824-C283-45A7-9A6D-18DAF7F42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D6EEB-0605-412D-917B-805A557E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0CD25-0E45-466D-8B1C-0C32ACC9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79BB1-B604-454E-B6DF-2EEA1467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469F2-22B9-4DE2-BFE4-16E6E2AE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C61FE-3EE0-4F2B-859B-AD54E918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6BF5D-EB8B-4E7C-B08E-D01DB4C6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82E8-A162-45FD-BE81-7961AE1A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D623A-C73F-4FC0-AF9B-BD5679F3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BDE52-A36F-4322-A51F-A43C433E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DA5A8-689F-4FDE-9800-07E39FBB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B7468-FCBB-4C43-BFB9-CF6355CF4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A9BEC-5F49-458A-8EA6-F282879A1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9FA76-AA54-42A2-A912-BE216B491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0E261-6D57-4E44-B599-C5F8D5BB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A69F4-BCEB-430F-945C-184972F7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3BABA-FEF6-4A02-9C4D-EA2AEFFB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9AC57-B867-4111-BFCA-72590900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4308-0001-4B50-8001-B862181A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6547D-D85A-4E10-A5DD-7F4B73EC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62E46-4682-42D1-8000-11CC03FC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32363-7271-4AC0-85A3-6B2349C7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0CC22-05A9-4578-BDA9-9113F4CB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2D69D-B1C7-4EC3-B278-6B93EC97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6ED3A-55BF-46FD-905D-729E1C1AB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20919-CC6A-4A02-845C-3204EBDC4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E24D9B-7BB1-4BC9-9FBE-A56A0BB33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1A61CD-7DF3-4682-BEEA-9D951260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D10756-4C7D-46AE-8946-D52BA423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7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984E-E20D-4793-8D82-D392D8761CDC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7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5C23-77A4-45B0-B349-F76B3FABE25C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BEB8-F1D6-4CD2-9701-F698914AA896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2FC0-08E1-4CC7-A028-03792404E2C3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A0B4-1DE3-4FA6-B119-7D0EC200CFDC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0F50-C419-4C38-A755-51B89C32626B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7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E01B-6458-48A3-89F4-CBF38FB37CAD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cb00c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3F57-F4BB-4221-9070-4AC9100F52FA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cb00c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1416-28E4-40A7-9B3C-6D37FBCB4EA7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7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E53D-99E9-47E9-9437-4FF2FCFAE82A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7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F273-77FF-4A02-8339-4A4C9EB8E988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7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F53E-0544-4E14-B457-5C4B92C0DD5F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b00cc"/>
                </a:solidFill>
                <a:latin typeface="Georgia"/>
              </a:rPr>
              <a:t>LESSON 4.3</a:t>
            </a:r>
            <a:endParaRPr b="0" lang="en-US" sz="16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ff"/>
                </a:solidFill>
                <a:latin typeface="Georgia"/>
              </a:rPr>
              <a:t>Sines, Cosines, and Tangents</a:t>
            </a:r>
            <a:endParaRPr b="0" lang="en-US" sz="4200" spc="-1" strike="noStrike">
              <a:solidFill>
                <a:srgbClr val="51e10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(Cos </a:t>
            </a:r>
            <a:r>
              <a:rPr b="0" lang="el-GR" sz="2700" spc="-1" strike="noStrike">
                <a:solidFill>
                  <a:srgbClr val="6b3d8c"/>
                </a:solidFill>
                <a:latin typeface="Georgia"/>
              </a:rPr>
              <a:t>θ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 , sin </a:t>
            </a:r>
            <a:r>
              <a:rPr b="0" lang="el-GR" sz="2700" spc="-1" strike="noStrike">
                <a:solidFill>
                  <a:srgbClr val="6b3d8c"/>
                </a:solidFill>
                <a:latin typeface="Georgia"/>
              </a:rPr>
              <a:t>θ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) = R</a:t>
            </a:r>
            <a:r>
              <a:rPr b="0" lang="el-GR" sz="2700" spc="-1" strike="noStrike" baseline="-25000">
                <a:solidFill>
                  <a:srgbClr val="6b3d8c"/>
                </a:solidFill>
                <a:latin typeface="Georgia"/>
              </a:rPr>
              <a:t>θ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(1,0)     </a:t>
            </a:r>
            <a:r>
              <a:rPr b="0" lang="en-US" sz="2700" spc="-1" strike="noStrike">
                <a:solidFill>
                  <a:srgbClr val="6b3d8c"/>
                </a:solidFill>
                <a:latin typeface="Wingdings"/>
                <a:ea typeface="Wingdings"/>
              </a:rPr>
              <a:t>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 you start at (1,0) and rotate the image </a:t>
            </a:r>
            <a:r>
              <a:rPr b="0" lang="el-GR" sz="2700" spc="-1" strike="noStrike">
                <a:solidFill>
                  <a:srgbClr val="6b3d8c"/>
                </a:solidFill>
                <a:latin typeface="Georgia"/>
              </a:rPr>
              <a:t>θ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 units.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an </a:t>
            </a:r>
            <a:r>
              <a:rPr b="0" lang="el-GR" sz="2700" spc="-1" strike="noStrike">
                <a:solidFill>
                  <a:srgbClr val="6b3d8c"/>
                </a:solidFill>
                <a:latin typeface="Georgia"/>
              </a:rPr>
              <a:t>θ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 = sin </a:t>
            </a:r>
            <a:r>
              <a:rPr b="0" lang="el-GR" sz="2700" spc="-1" strike="noStrike">
                <a:solidFill>
                  <a:srgbClr val="6b3d8c"/>
                </a:solidFill>
                <a:latin typeface="Georgia"/>
              </a:rPr>
              <a:t>θ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 / cos </a:t>
            </a:r>
            <a:r>
              <a:rPr b="0" lang="el-GR" sz="2700" spc="-1" strike="noStrike">
                <a:solidFill>
                  <a:srgbClr val="6b3d8c"/>
                </a:solidFill>
                <a:latin typeface="Georgia"/>
              </a:rPr>
              <a:t>θ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Example 1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R</a:t>
            </a:r>
            <a:r>
              <a:rPr b="0" lang="en-US" sz="2700" spc="-1" strike="noStrike" baseline="-25000">
                <a:solidFill>
                  <a:srgbClr val="6b3d8c"/>
                </a:solidFill>
                <a:latin typeface="Georgia"/>
              </a:rPr>
              <a:t>270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(1,0) maps (1,0) onto (0, -1)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Evaluate cos 270˚ 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Evaluate sin 270˚ 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Evaluate tan 0˚ =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Evaluate tan 270˚ =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12" name="TextBox 3"/>
          <p:cNvSpPr/>
          <p:nvPr/>
        </p:nvSpPr>
        <p:spPr>
          <a:xfrm>
            <a:off x="3587760" y="2438280"/>
            <a:ext cx="97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b3d8c"/>
                </a:solidFill>
                <a:latin typeface="Arial"/>
              </a:rPr>
              <a:t>= 0</a:t>
            </a:r>
            <a:endParaRPr b="0" lang="en-US" sz="44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13" name="TextBox 4"/>
          <p:cNvSpPr/>
          <p:nvPr/>
        </p:nvSpPr>
        <p:spPr>
          <a:xfrm>
            <a:off x="3359520" y="3352680"/>
            <a:ext cx="115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b3d8c"/>
                </a:solidFill>
                <a:latin typeface="Arial"/>
              </a:rPr>
              <a:t>= -1</a:t>
            </a:r>
            <a:endParaRPr b="0" lang="en-US" sz="44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14" name="TextBox 5"/>
          <p:cNvSpPr/>
          <p:nvPr/>
        </p:nvSpPr>
        <p:spPr>
          <a:xfrm>
            <a:off x="2977920" y="4343400"/>
            <a:ext cx="97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b3d8c"/>
                </a:solidFill>
                <a:latin typeface="Arial"/>
              </a:rPr>
              <a:t>= 0</a:t>
            </a:r>
            <a:endParaRPr b="0" lang="en-US" sz="44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15" name="TextBox 6"/>
          <p:cNvSpPr/>
          <p:nvPr/>
        </p:nvSpPr>
        <p:spPr>
          <a:xfrm>
            <a:off x="3749040" y="5334120"/>
            <a:ext cx="285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b3d8c"/>
                </a:solidFill>
                <a:latin typeface="Arial"/>
              </a:rPr>
              <a:t>undefined</a:t>
            </a:r>
            <a:endParaRPr b="0" lang="en-US" sz="4400" spc="-1" strike="noStrike">
              <a:solidFill>
                <a:srgbClr val="6b3d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Example 2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nd, to the nearest thousandth, the coordinates of the image of (1,0) under a rotation of -10</a:t>
            </a:r>
            <a:r>
              <a:rPr b="0" lang="el-GR" sz="2700" spc="-1" strike="noStrike">
                <a:solidFill>
                  <a:srgbClr val="6b3d8c"/>
                </a:solidFill>
                <a:latin typeface="Georgia"/>
              </a:rPr>
              <a:t>π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 /9.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R</a:t>
            </a:r>
            <a:r>
              <a:rPr b="0" lang="en-US" sz="2700" spc="-1" strike="noStrike" baseline="-25000">
                <a:solidFill>
                  <a:srgbClr val="6b3d8c"/>
                </a:solidFill>
                <a:latin typeface="Georgia"/>
              </a:rPr>
              <a:t>10</a:t>
            </a:r>
            <a:r>
              <a:rPr b="0" lang="el-GR" sz="2700" spc="-1" strike="noStrike" baseline="-25000">
                <a:solidFill>
                  <a:srgbClr val="6b3d8c"/>
                </a:solidFill>
                <a:latin typeface="Georgia"/>
              </a:rPr>
              <a:t>π</a:t>
            </a:r>
            <a:r>
              <a:rPr b="0" lang="en-US" sz="2700" spc="-1" strike="noStrike" baseline="-25000">
                <a:solidFill>
                  <a:srgbClr val="6b3d8c"/>
                </a:solidFill>
                <a:latin typeface="Georgia"/>
              </a:rPr>
              <a:t>/9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(1,0) = (cos -10π/9, sin -10π/9)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alculator!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(-.94, .342)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©Carolyn C. Wheater, 2000</a:t>
            </a:r>
            <a:endParaRPr b="0" lang="en-US" sz="12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19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D8C1-2666-432A-8A2B-2E661A77A533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All Star Trig Class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Use the phrase “All Star Trig Class” to remember the signs of the trig functions in different quadrants.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grpSp>
        <p:nvGrpSpPr>
          <p:cNvPr id="622" name="Group 6"/>
          <p:cNvGrpSpPr/>
          <p:nvPr/>
        </p:nvGrpSpPr>
        <p:grpSpPr>
          <a:xfrm>
            <a:off x="2057400" y="3048120"/>
            <a:ext cx="4800600" cy="3429000"/>
            <a:chOff x="2057400" y="3048120"/>
            <a:chExt cx="4800600" cy="3429000"/>
          </a:xfrm>
        </p:grpSpPr>
        <p:sp>
          <p:nvSpPr>
            <p:cNvPr id="623" name="Line 4"/>
            <p:cNvSpPr/>
            <p:nvPr/>
          </p:nvSpPr>
          <p:spPr>
            <a:xfrm>
              <a:off x="4419720" y="3048120"/>
              <a:ext cx="0" cy="3429000"/>
            </a:xfrm>
            <a:prstGeom prst="line">
              <a:avLst/>
            </a:prstGeom>
            <a:ln w="38160">
              <a:solidFill>
                <a:srgbClr val="6b3d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b3d8c"/>
                </a:solidFill>
                <a:latin typeface="Arial"/>
              </a:endParaRPr>
            </a:p>
          </p:txBody>
        </p:sp>
        <p:sp>
          <p:nvSpPr>
            <p:cNvPr id="624" name="Line 5"/>
            <p:cNvSpPr/>
            <p:nvPr/>
          </p:nvSpPr>
          <p:spPr>
            <a:xfrm>
              <a:off x="2057400" y="4800600"/>
              <a:ext cx="4800600" cy="0"/>
            </a:xfrm>
            <a:prstGeom prst="line">
              <a:avLst/>
            </a:prstGeom>
            <a:ln w="38160">
              <a:solidFill>
                <a:srgbClr val="6b3d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6b3d8c"/>
                </a:solidFill>
                <a:latin typeface="Arial"/>
              </a:endParaRPr>
            </a:p>
          </p:txBody>
        </p:sp>
      </p:grpSp>
      <p:sp>
        <p:nvSpPr>
          <p:cNvPr id="625" name="Text Box 7"/>
          <p:cNvSpPr/>
          <p:nvPr/>
        </p:nvSpPr>
        <p:spPr>
          <a:xfrm>
            <a:off x="5217840" y="281952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All</a:t>
            </a:r>
            <a:endParaRPr b="0" lang="en-US" sz="36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26" name="Text Box 8"/>
          <p:cNvSpPr/>
          <p:nvPr/>
        </p:nvSpPr>
        <p:spPr>
          <a:xfrm>
            <a:off x="2832480" y="3352680"/>
            <a:ext cx="11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Star</a:t>
            </a:r>
            <a:endParaRPr b="0" lang="en-US" sz="36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27" name="Text Box 9"/>
          <p:cNvSpPr/>
          <p:nvPr/>
        </p:nvSpPr>
        <p:spPr>
          <a:xfrm>
            <a:off x="2622960" y="4876920"/>
            <a:ext cx="113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Trig</a:t>
            </a:r>
            <a:endParaRPr b="0" lang="en-US" sz="36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28" name="Text Box 10"/>
          <p:cNvSpPr/>
          <p:nvPr/>
        </p:nvSpPr>
        <p:spPr>
          <a:xfrm>
            <a:off x="4958640" y="510552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Class</a:t>
            </a:r>
            <a:endParaRPr b="0" lang="en-US" sz="36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29" name="Text Box 11"/>
          <p:cNvSpPr/>
          <p:nvPr/>
        </p:nvSpPr>
        <p:spPr>
          <a:xfrm>
            <a:off x="4495680" y="3429000"/>
            <a:ext cx="2073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00cc"/>
                </a:solidFill>
                <a:latin typeface="Georgia"/>
              </a:rPr>
              <a:t>        </a:t>
            </a:r>
            <a:r>
              <a:rPr b="0" lang="en-US" sz="2800" spc="-1" strike="noStrike">
                <a:solidFill>
                  <a:srgbClr val="cb00cc"/>
                </a:solidFill>
                <a:latin typeface="Georgia"/>
              </a:rPr>
              <a:t>A</a:t>
            </a:r>
            <a:r>
              <a:rPr b="0" lang="en-US" sz="2800" spc="-1" strike="noStrike">
                <a:solidFill>
                  <a:srgbClr val="6b3d8c"/>
                </a:solidFill>
                <a:latin typeface="Georgia"/>
              </a:rPr>
              <a:t>ll functions are positive</a:t>
            </a:r>
            <a:endParaRPr b="0" lang="en-US" sz="2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30" name="Text Box 12"/>
          <p:cNvSpPr/>
          <p:nvPr/>
        </p:nvSpPr>
        <p:spPr>
          <a:xfrm>
            <a:off x="1905120" y="388620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00cc"/>
                </a:solidFill>
                <a:latin typeface="Georgia"/>
              </a:rPr>
              <a:t>S</a:t>
            </a:r>
            <a:r>
              <a:rPr b="0" lang="en-US" sz="2800" spc="-1" strike="noStrike">
                <a:solidFill>
                  <a:srgbClr val="6b3d8c"/>
                </a:solidFill>
                <a:latin typeface="Georgia"/>
              </a:rPr>
              <a:t>ine is  </a:t>
            </a:r>
            <a:endParaRPr b="0" lang="en-US" sz="2800" spc="-1" strike="noStrike">
              <a:solidFill>
                <a:srgbClr val="6b3d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3d8c"/>
                </a:solidFill>
                <a:latin typeface="Georgia"/>
              </a:rPr>
              <a:t>positive</a:t>
            </a:r>
            <a:endParaRPr b="0" lang="en-US" sz="2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31" name="Text Box 13"/>
          <p:cNvSpPr/>
          <p:nvPr/>
        </p:nvSpPr>
        <p:spPr>
          <a:xfrm>
            <a:off x="2057400" y="563868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00cc"/>
                </a:solidFill>
                <a:latin typeface="Georgia"/>
              </a:rPr>
              <a:t>T</a:t>
            </a:r>
            <a:r>
              <a:rPr b="0" lang="en-US" sz="2800" spc="-1" strike="noStrike">
                <a:solidFill>
                  <a:srgbClr val="6b3d8c"/>
                </a:solidFill>
                <a:latin typeface="Georgia"/>
              </a:rPr>
              <a:t>an is positive</a:t>
            </a:r>
            <a:endParaRPr b="0" lang="en-US" sz="2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32" name="Text Box 14"/>
          <p:cNvSpPr/>
          <p:nvPr/>
        </p:nvSpPr>
        <p:spPr>
          <a:xfrm>
            <a:off x="4648320" y="563868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00cc"/>
                </a:solidFill>
                <a:latin typeface="Georgia"/>
              </a:rPr>
              <a:t>C</a:t>
            </a:r>
            <a:r>
              <a:rPr b="0" lang="en-US" sz="2800" spc="-1" strike="noStrike">
                <a:solidFill>
                  <a:srgbClr val="6b3d8c"/>
                </a:solidFill>
                <a:latin typeface="Georgia"/>
              </a:rPr>
              <a:t>os is  </a:t>
            </a:r>
            <a:endParaRPr b="0" lang="en-US" sz="2800" spc="-1" strike="noStrike">
              <a:solidFill>
                <a:srgbClr val="6b3d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3d8c"/>
                </a:solidFill>
                <a:latin typeface="Georgia"/>
              </a:rPr>
              <a:t>positive</a:t>
            </a:r>
            <a:endParaRPr b="0" lang="en-US" sz="2800" spc="-1" strike="noStrike">
              <a:solidFill>
                <a:srgbClr val="6b3d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7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9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2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Example 3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Give the sign of each of the following: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a. Cos (-1˚)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b. Sin (-1˚) = 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 . Tan (-1˚)  = 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35" name="TextBox 3"/>
          <p:cNvSpPr/>
          <p:nvPr/>
        </p:nvSpPr>
        <p:spPr>
          <a:xfrm>
            <a:off x="2377440" y="2362320"/>
            <a:ext cx="277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b3d8c"/>
                </a:solidFill>
                <a:latin typeface="Arial"/>
              </a:rPr>
              <a:t>= positive</a:t>
            </a:r>
            <a:endParaRPr b="0" lang="en-US" sz="44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36" name="TextBox 4"/>
          <p:cNvSpPr/>
          <p:nvPr/>
        </p:nvSpPr>
        <p:spPr>
          <a:xfrm>
            <a:off x="2530800" y="3429000"/>
            <a:ext cx="293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b3d8c"/>
                </a:solidFill>
                <a:latin typeface="Arial"/>
              </a:rPr>
              <a:t>= negative</a:t>
            </a:r>
            <a:endParaRPr b="0" lang="en-US" sz="44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37" name="TextBox 5"/>
          <p:cNvSpPr/>
          <p:nvPr/>
        </p:nvSpPr>
        <p:spPr>
          <a:xfrm>
            <a:off x="2908800" y="4419720"/>
            <a:ext cx="24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b3d8c"/>
                </a:solidFill>
                <a:latin typeface="Arial"/>
              </a:rPr>
              <a:t>negative</a:t>
            </a:r>
            <a:endParaRPr b="0" lang="en-US" sz="4400" spc="-1" strike="noStrike">
              <a:solidFill>
                <a:srgbClr val="6b3d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Example 4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A large clock with rotating hour and minute hands is on a building with its center 20 feet tall.  The length of the hour hand is 1.5 feet and the length of the minute hand is 2 feet.  At 8:20, give the height off the ground of the tip of each hand.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Minute hand: 20 + 2sin(-</a:t>
            </a:r>
            <a:r>
              <a:rPr b="0" lang="el-GR" sz="2700" spc="-1" strike="noStrike">
                <a:solidFill>
                  <a:srgbClr val="6b3d8c"/>
                </a:solidFill>
                <a:latin typeface="Georgia"/>
              </a:rPr>
              <a:t>π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/6)  = 19 fee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Hour hand: 20 + 1.5sin(-160˚) = 19.49 fee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6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Homework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b3d8c"/>
                </a:solidFill>
                <a:latin typeface="Georgia"/>
              </a:rPr>
              <a:t>Pages 248 – 249</a:t>
            </a:r>
            <a:endParaRPr b="0" lang="en-US" sz="80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b3d8c"/>
                </a:solidFill>
                <a:latin typeface="Georgia"/>
              </a:rPr>
              <a:t>2 - 17</a:t>
            </a:r>
            <a:endParaRPr b="0" lang="en-US" sz="8000" spc="-1" strike="noStrike">
              <a:solidFill>
                <a:srgbClr val="6b3d8c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0:30:12Z</dcterms:created>
  <dc:creator>teacher</dc:creator>
  <dc:description/>
  <dc:language>en-US</dc:language>
  <cp:lastModifiedBy>teacher</cp:lastModifiedBy>
  <dcterms:modified xsi:type="dcterms:W3CDTF">2010-11-09T16:23:54Z</dcterms:modified>
  <cp:revision>2</cp:revision>
  <dc:subject/>
  <dc:title>Sines, Cosines, and Tangents</dc:title>
</cp:coreProperties>
</file>