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031E-3C19-4584-A801-A97B9EDF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5CFF-A7D3-41B9-9716-C1AA7755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DE42-DA1C-441B-8183-3BF061CF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B3D0-ED92-42FD-9931-D95453D7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2DE4-7288-4968-832E-0E4E694E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D38D-92F9-466F-A666-FD8BF22C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6A00-1768-404E-975F-40C9C965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DB22-E334-4A7B-8D77-8383062B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4372-99B0-4E86-A8AE-3B19F5A7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B212-2205-4016-9BEF-B87395F7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5A07-CBE6-442B-AC7A-15A28EE8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60E5-7253-477A-9F96-C5DB9996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03CA-DA07-4CA0-BA28-7AAD680D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4DCF-CCBE-4669-8AA0-A0DC9B71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1281-70FD-4DFF-929A-FBA390CE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160D-B450-4A6D-8195-384FE062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1FB1-1DB6-4386-9735-B3DFCAF2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0966FB-E6C2-486F-94D8-8ACF95A7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18D44-2237-40F7-B66A-F4646FB8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27231F-8BCF-41C2-A01C-9300A988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06EDF2-B287-405E-8A57-926E8FA7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A9B219-D187-4FE8-AC15-29BF3A08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9892-1077-4B25-A25D-8C75AA9B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3AA8B9-B61E-42CD-B197-17D58FBC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DAB9B7-6842-4B72-9CAA-83CCA1FE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343262-3529-4E02-965A-2B427B18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02FB0-B726-44E9-AADB-1B1A2E6A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A1DEC-EDAF-47DC-A11F-D5FF3E50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3C4619-E007-490B-8EC1-F9044898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99FDF-6630-42AA-B8EE-36EB4958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D0BA1-79C6-4980-9BE5-E5416486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A0BE5-DF71-43A7-98D3-C6F41AB8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F0A74-686A-49B6-A916-A8D5B8A2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A271-9DE6-4B83-B959-3CAE9792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3A9EC-9E31-414A-B0F5-96025F0E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96697-38BD-4B57-98A9-4F68F55D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F370C-9192-4C8E-8AC7-2857A200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98E8F-1A71-4B16-B085-880372AE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14888-C50D-47A7-AD00-1BF5EFDF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DFBA3-468B-45BC-8913-F78C9121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34243-E4CF-4F8F-8463-138231E2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379C1-4140-47DA-9843-1CF16272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DEC8E-2F5F-4C8B-86BE-66587AAB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601C-C786-43CA-80B7-855DBCEF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96C-0C2F-4800-BAF5-19D591CC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B001-D947-42F9-8416-C3CD5ABA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57EC-F888-42A9-8CC3-07E8678D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F482-E74C-4E66-9CF6-80037C59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0570-338F-481D-89D0-0531C7CC3B7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9913-A909-455D-ABF9-0C722E1BE6F2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3496-435C-45B4-9E75-778134DEDBCF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71DD-5ABE-41A4-AB0C-6247ECAFB67E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Linear Models and Correlation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Lesson 2.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mewor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Georgia"/>
              </a:rPr>
              <a:t>Page 93 – 96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Georgia"/>
              </a:rPr>
              <a:t>4-11, 17-20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bjectives for the day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dentify properties of regression lines and of the correlation coeffici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d and interpret linear mode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aph linear func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scatterplots to draw conclusions about models for dat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efini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near Function: y = mx + b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rrelation Coefficient: The number used to measure the strength of the linear relation between two variables. (denoted r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sitive relation – positive 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gative relation – negative 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rfect correlation -      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4114800" y="5410080"/>
            <a:ext cx="38088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efinitions (page 100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trapolation: Estimating a value beyond known values of dat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polation: Estimating a value between known values of dat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Formula for Correlation Coefficient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6065640" cy="15238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5"/>
          <p:cNvSpPr/>
          <p:nvPr/>
        </p:nvSpPr>
        <p:spPr>
          <a:xfrm>
            <a:off x="0" y="1571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1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2193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d the correlation coefficient for the following ordered pair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4, 10) , (3, 7) , (7, 13) , (6, 2) and (5, 8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an of x : 5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an of y : 8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: 1.581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: 4.0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6066000" cy="1523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0" y="4267080"/>
                <a:ext cx="914400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5"/>
              <p:cNvSpPr txBox="1"/>
              <p:nvPr/>
            </p:nvSpPr>
            <p:spPr>
              <a:xfrm>
                <a:off x="0" y="5410080"/>
                <a:ext cx="4846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1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16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8</m:t>
                    </m:r>
                    <m:r>
                      <m:t xml:space="preserve">+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47</m:t>
                    </m:r>
                    <m:r>
                      <m:t xml:space="preserve">+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6"/>
              <p:cNvSpPr txBox="1"/>
              <p:nvPr/>
            </p:nvSpPr>
            <p:spPr>
              <a:xfrm>
                <a:off x="1981080" y="5975280"/>
                <a:ext cx="107316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31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7"/>
              <p:cNvSpPr txBox="1"/>
              <p:nvPr/>
            </p:nvSpPr>
            <p:spPr>
              <a:xfrm>
                <a:off x="6172200" y="5867280"/>
                <a:ext cx="15145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57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28240" y="2249640"/>
            <a:ext cx="84582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e October, 1994, Consumer Reports listed the following prices and overall ratings for drip coffee makers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$27,79), ($25, 77), ($60, 70) , ($50,66), ($22,61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$60,61), ($35, 61), ($20, 60) , ($35,58), ($40,54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$22,53), ($40, 51), ($30, 43) , ($30,35), ($20,34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$35,32), ($19, 28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alculator: y = .37x + 41.9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alculator: y = .37x + 41.9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15238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the model to predict the rating of a $45 coffee make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s the prediction an interpolation or an extrapolation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uch faith do you have in the estimate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1829880" y="2514600"/>
            <a:ext cx="57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.37 (45) + 41.9 = About 5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5"/>
          <p:cNvSpPr/>
          <p:nvPr/>
        </p:nvSpPr>
        <p:spPr>
          <a:xfrm>
            <a:off x="2472120" y="4419720"/>
            <a:ext cx="32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interpo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"/>
          <p:cNvSpPr/>
          <p:nvPr/>
        </p:nvSpPr>
        <p:spPr>
          <a:xfrm>
            <a:off x="2142000" y="5791320"/>
            <a:ext cx="44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Not a lot </a:t>
            </a:r>
            <a:r>
              <a:rPr b="1" lang="en-US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 r = .3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                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Example 2:                      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140-pound 5’2” tall woman diets, wishing to lost .5 pounds per week.  Let y be her weight after w weeks, where 0 ≤ w ≤ 20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. Find a linear model for y in terms of w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. What is the correlation between y and w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. At this rate, when will she reach her goal of 132 pounds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. Is this prediction extrapolation or interpolation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2777040" y="2819520"/>
            <a:ext cx="29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y = 140 - .5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3464640" y="3657600"/>
            <a:ext cx="14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r = 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2111760" y="4724280"/>
            <a:ext cx="33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132 = 140 - .5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6725160" y="480060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16 w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7"/>
          <p:cNvSpPr/>
          <p:nvPr/>
        </p:nvSpPr>
        <p:spPr>
          <a:xfrm>
            <a:off x="3919680" y="5943600"/>
            <a:ext cx="32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interpo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9:47:14Z</dcterms:created>
  <dc:creator>teacher</dc:creator>
  <dc:description/>
  <dc:language>en-US</dc:language>
  <cp:lastModifiedBy>Laura Helbing</cp:lastModifiedBy>
  <dcterms:modified xsi:type="dcterms:W3CDTF">2011-10-02T01:42:19Z</dcterms:modified>
  <cp:revision>7</cp:revision>
  <dc:subject/>
  <dc:title>Linear Models and Correlation</dc:title>
</cp:coreProperties>
</file>