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66D-459C-4053-8ED0-C5D0FA30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D49-C35C-46F1-AE28-A85CB5BB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4A5-9248-4DDE-940D-CC5D083B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B2C-4B67-4902-81C6-1E6F0AC2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BECB-1559-4127-BEF9-C45F1C0D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7194-10FA-4EF5-9FE8-2D3974E4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6EAD-5BC8-44AD-9DC4-B82EA7DB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0C4A-8CF3-4E2B-BAA5-42543417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0B03-8E9C-4476-8541-D9C8626C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D749-0558-4821-A37D-70F1DF9C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AEE1-3AD9-471E-A8A6-516ABCF4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F5E-8A97-4338-8496-2F20CD25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28A0-5228-432D-BA62-86AC626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6E52-31E9-4461-B63D-273519B1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F666-BDAF-4FD7-BAD8-FE8FF949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8A71-90D1-4C49-B563-D631A2FB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182F-7A56-4EC5-976D-6816D375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6CE4D-40CE-48EC-AFDE-418CC9FE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9BF03-C4E7-4A0F-863F-6EBF9867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8F390-E069-4CE4-9811-D17B8FEA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76540-B36D-4CC9-831C-0B572407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AD10B-48C9-4E51-B925-1C5DAE2D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87A-B42A-4BDD-B12F-1A99C0AB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EB951D-6283-4AAD-ADD5-79EFC8DF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0D732-0F14-4E4C-AAAA-40A2532B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B2CAE-BFD9-418F-B4E2-29BE07D1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CCC05-7CA1-4D86-8135-4687543B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D649D-2A70-4AA9-90F0-C261D177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9680A-4560-4B67-A5E5-AAACF1AC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71AF8-A1E8-4865-8EE7-65C61C1D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E0C4C-63F4-4952-B14A-9DAD1402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F8D89-6D12-4472-9324-D0B198E0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0018-0154-414D-8EC2-F34E608B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087-E35C-4C5B-B8D6-4A2EA679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49BB0-8465-4177-94E6-BAAA6AE0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F2B72-3E35-4BB0-880E-60D9B925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AA922-B0F8-4625-9C49-F7CC0360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22874-74CA-4F49-ACD8-AE10CD0F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EE1B7-D72A-4EEB-82BD-013EB49A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0426-EC4C-47F3-9219-3567C710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A6FE-C4CD-4E7A-8690-67A7DFE4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485B1-8EF2-462B-9A0B-44A41C83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20F13-55CE-4849-B00C-A4CBB86C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08F-95A7-4217-869B-E285BA9E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B28-39CE-4D44-8A0F-8FEFFAED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78F9-9BD9-4BFF-B942-14F7A2D5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6DC-FB84-448A-B34C-81E380B2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FE2-165D-442F-B957-5E91D72B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1CE5-A0E8-402A-8B33-7FAA72AE813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B973-04E1-4E7F-AAF5-6D4737B72BB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37B6-1F8A-4AB8-97B9-00F73ECBFFA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24F2-CED7-407F-A38E-75F5C1E8AA5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Linear Models and Correlation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2.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eorgia"/>
              </a:rPr>
              <a:t>Page 93 – 96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Georgia"/>
              </a:rPr>
              <a:t>4-11, 17-20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bjectives for the day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dentify properties of regression lines and of the correlation coeffici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d interpret linear mod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linear fun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scatterplots to draw conclusions about models for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near Function: y = mx + 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rrelation Coefficient: The number used to measure the strength of the linear relation between two variables. (denoted 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sitive relation – positive 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gative relation – negative 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fect correlation -      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4114800" y="5410080"/>
            <a:ext cx="3808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 (page 100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rapolation: Estimating a value beyond known values of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polation: Estimating a value between known values of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ormula for Correlation Coefficient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065640" cy="1523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0" y="1571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193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the correlation coefficient for the following ordered pair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4, 10) , (3, 7) , (7, 13) , (6, 2) and (5, 8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an of x : 5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an of y : 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: 1.58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: 4.0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6066000" cy="1523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0" y="4267080"/>
                <a:ext cx="91440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5"/>
              <p:cNvSpPr txBox="1"/>
              <p:nvPr/>
            </p:nvSpPr>
            <p:spPr>
              <a:xfrm>
                <a:off x="0" y="5410080"/>
                <a:ext cx="4846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16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8</m:t>
                    </m:r>
                    <m:r>
                      <m:t xml:space="preserve">+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47</m:t>
                    </m:r>
                    <m:r>
                      <m:t xml:space="preserve">+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6"/>
              <p:cNvSpPr txBox="1"/>
              <p:nvPr/>
            </p:nvSpPr>
            <p:spPr>
              <a:xfrm>
                <a:off x="1981080" y="5975280"/>
                <a:ext cx="10731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1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"/>
              <p:cNvSpPr txBox="1"/>
              <p:nvPr/>
            </p:nvSpPr>
            <p:spPr>
              <a:xfrm>
                <a:off x="6172200" y="5867280"/>
                <a:ext cx="1514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57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28240" y="2249640"/>
            <a:ext cx="84582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October, 1994, Consumer Reports listed the following prices and overall ratings for drip coffee makers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27,79), ($25, 77), ($60, 70) , ($50,66), ($22,61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60,61), ($35, 61), ($20, 60) , ($35,58), ($40,54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22,53), ($40, 51), ($30, 43) , ($30,35), ($20,34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($35,32), ($19, 28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alculator: y = .37x + 41.9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lculator: y = .37x + 41.9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523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the model to predict the rating of a $45 coffee mak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s the prediction an interpolation or an extrapola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faith do you have in the estimat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1829880" y="2514600"/>
            <a:ext cx="57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.37 (45) + 41.9 = About 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2472120" y="441972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terpo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2142000" y="579132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Not a lot </a:t>
            </a:r>
            <a:r>
              <a:rPr b="1" lang="en-US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r = .3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                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Example 2:                      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140-pound 5’2” tall woman diets, wishing to lost .5 pounds per week.  Let y be her weight after w weeks, where 0 ≤ w ≤ 20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. Find a linear model for y in terms of w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. What is the correlation between y and w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. At this rate, when will she reach her goal of 132 pounds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. Is this prediction extrapolation or interpolation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2777040" y="2819520"/>
            <a:ext cx="29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y = 140 - .5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464640" y="365760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r = 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2111760" y="4724280"/>
            <a:ext cx="33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132 = 140 - .5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6725160" y="480060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16 w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7"/>
          <p:cNvSpPr/>
          <p:nvPr/>
        </p:nvSpPr>
        <p:spPr>
          <a:xfrm>
            <a:off x="3919680" y="594360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eorgia"/>
              </a:rPr>
              <a:t>interpo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9:47:14Z</dcterms:created>
  <dc:creator>teacher</dc:creator>
  <dc:description/>
  <dc:language>en-US</dc:language>
  <cp:lastModifiedBy>Laura Helbing</cp:lastModifiedBy>
  <dcterms:modified xsi:type="dcterms:W3CDTF">2011-10-02T01:42:19Z</dcterms:modified>
  <cp:revision>7</cp:revision>
  <dc:subject/>
  <dc:title>Linear Models and Correlation</dc:title>
</cp:coreProperties>
</file>