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1E7C-0103-4BDE-B2F0-9962E87C5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76C2-B364-411C-85BB-64BC37C0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D99D-E1CB-49CD-B630-298CAE88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BDF6-8152-48AC-89FB-5AF0C3D54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771F-FC4D-43E9-8510-59E34940C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C535-716B-4D38-9BEF-D93B14D4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170E-C1BD-4BBD-AB45-D06A8331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98BA-F05A-47A1-8D82-F196923F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8571-3A8E-422C-8213-86D19A06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E7EE-A837-4728-9B4F-6245A3C5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2AC9-E1CA-432A-B323-ED093767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E8F7-139F-4961-BA35-A0B1FBD5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81F6-27F6-46C9-84F3-84EBAD20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4970-2899-4A49-ABDA-79DCC42A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B028-BA74-4CB6-B8AF-74AD3DB3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D4C0-71F8-41B0-9710-61D9396E8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3B90-B3FD-4D87-8696-A87C38E2C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6A8AF0-1B64-4370-9A5B-01F76ACB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FB150B-F72B-4627-9CA7-68E4AC50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D8083D-0A17-4014-9140-726DE867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B617B7-E00E-4126-A255-F2F2E3F1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16C7A9-FD56-4263-A872-F09FB436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6148-FB0E-4B14-BAB6-4A7BD861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0F2D1D-274B-4E2F-8573-D026CE97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9EDA68-EEF4-4C9C-978B-CA42B5AA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8998AC-EE4B-46C8-B908-BD8DF184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A8C5ED-CA43-4FAA-83C3-E5089AD4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EA0868-A3B2-436E-A678-D451F19D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3805E0-29E1-4666-95D6-5A1B0A83A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9FBD3D-2DF9-4B2B-A83A-0D1A0BE56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3FD47-B255-43DD-B158-A50A58BF2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A864F-3841-4710-B453-936B1B7A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B087C-C4B3-42F2-A6E1-D600963F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2DB3-58FA-44E3-AB6F-CFAEDA4F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1CF64-BB4A-434C-9D74-0CCE2F49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F39CD-217B-4D58-9D70-428C8392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A235A-3DDD-4BC4-9EAC-FDC58D98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62D1B-51F4-4973-ABE8-4E8C7791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9D811-3968-4B8C-9FB6-0125CDD9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B65E4-27A7-4F8D-8361-F6032253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857F4-F71C-4FAA-832B-972059AF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D3631-DDA0-49A7-A80B-65CF98CA8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9E403-FDAB-414A-856D-E7EAC87F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E90D-630F-4AD6-B558-053BE858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7543-3AA0-467A-8709-A3379524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F3F8-4F5E-4220-8551-43F45879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E9E5-F81C-46C2-889A-C48ABC1B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DB68-A2A5-4B4C-BF92-65E9A8FB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CF82-062D-464D-9300-4A528523B8E7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FC54-1630-49A7-82A5-F5CB87467EBB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C148-8B31-4BB4-87B2-6C7117249358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C75B-8D3A-45D7-8D8C-3042DB7ACE05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Linear Models and Correlation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Lesson 2.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mewor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Georgia"/>
              </a:rPr>
              <a:t>Page 93 – 96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Georgia"/>
              </a:rPr>
              <a:t>4-11, 17-20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bjectives for the day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dentify properties of regression lines and of the correlation coeffici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nd and interpret linear mode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raph linear func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 scatterplots to draw conclusions about models for dat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efinit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inear Function: y = mx + b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rrelation Coefficient: The number used to measure the strength of the linear relation between two variables. (denoted r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sitive relation – positive 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egative relation – negative 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erfect correlation -      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4114800" y="5410080"/>
            <a:ext cx="38088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efinitions (page 100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trapolation: Estimating a value beyond known values of dat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erpolation: Estimating a value between known values of dat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Formula for Correlation Coefficient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6065640" cy="15238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5"/>
          <p:cNvSpPr/>
          <p:nvPr/>
        </p:nvSpPr>
        <p:spPr>
          <a:xfrm>
            <a:off x="0" y="1571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0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1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2193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nd the correlation coefficient for the following ordered pair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4, 10) , (3, 7) , (7, 13) , (6, 2) and (5, 8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an of x : 5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an of y : 8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: 1.581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: 4.06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2666880" y="457200"/>
            <a:ext cx="6066000" cy="1523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0" y="4267080"/>
                <a:ext cx="914400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5"/>
              <p:cNvSpPr txBox="1"/>
              <p:nvPr/>
            </p:nvSpPr>
            <p:spPr>
              <a:xfrm>
                <a:off x="0" y="5410080"/>
                <a:ext cx="48466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1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16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8</m:t>
                    </m:r>
                    <m:r>
                      <m:t xml:space="preserve">+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47</m:t>
                    </m:r>
                    <m:r>
                      <m:t xml:space="preserve">+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6"/>
              <p:cNvSpPr txBox="1"/>
              <p:nvPr/>
            </p:nvSpPr>
            <p:spPr>
              <a:xfrm>
                <a:off x="1981080" y="5975280"/>
                <a:ext cx="107316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316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7"/>
              <p:cNvSpPr txBox="1"/>
              <p:nvPr/>
            </p:nvSpPr>
            <p:spPr>
              <a:xfrm>
                <a:off x="6172200" y="5867280"/>
                <a:ext cx="15145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57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28240" y="2249640"/>
            <a:ext cx="84582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e October, 1994, Consumer Reports listed the following prices and overall ratings for drip coffee makers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($27,79), ($25, 77), ($60, 70) , ($50,66), ($22,61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($60,61), ($35, 61), ($20, 60) , ($35,58), ($40,54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($22,53), ($40, 51), ($30, 43) , ($30,35), ($20,34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($35,32), ($19, 28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alculator: y = .37x + 41.9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alculator: y = .37x + 41.9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520" y="15238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 the model to predict the rating of a $45 coffee make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s the prediction an interpolation or an extrapolation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much faith do you have in the estimate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TextBox 3"/>
          <p:cNvSpPr/>
          <p:nvPr/>
        </p:nvSpPr>
        <p:spPr>
          <a:xfrm>
            <a:off x="1829880" y="2514600"/>
            <a:ext cx="57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.37 (45) + 41.9 = About 5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5"/>
          <p:cNvSpPr/>
          <p:nvPr/>
        </p:nvSpPr>
        <p:spPr>
          <a:xfrm>
            <a:off x="2472120" y="4419720"/>
            <a:ext cx="32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interpo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6"/>
          <p:cNvSpPr/>
          <p:nvPr/>
        </p:nvSpPr>
        <p:spPr>
          <a:xfrm>
            <a:off x="2142000" y="5791320"/>
            <a:ext cx="44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Not a lot </a:t>
            </a:r>
            <a:r>
              <a:rPr b="1" lang="en-US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 r = .3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                  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Example 2:                      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140-pound 5’2” tall woman diets, wishing to lost .5 pounds per week.  Let y be her weight after w weeks, where 0 ≤ w ≤ 20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. Find a linear model for y in terms of w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. What is the correlation between y and w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. At this rate, when will she reach her goal of 132 pounds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. Is this prediction extrapolation or interpolation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47" name="TextBox 3"/>
          <p:cNvSpPr/>
          <p:nvPr/>
        </p:nvSpPr>
        <p:spPr>
          <a:xfrm>
            <a:off x="2777040" y="2819520"/>
            <a:ext cx="29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y = 140 - .5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3464640" y="3657600"/>
            <a:ext cx="14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r = 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5"/>
          <p:cNvSpPr/>
          <p:nvPr/>
        </p:nvSpPr>
        <p:spPr>
          <a:xfrm>
            <a:off x="2111760" y="4724280"/>
            <a:ext cx="33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132 = 140 - .5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6725160" y="4800600"/>
            <a:ext cx="17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16 w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7"/>
          <p:cNvSpPr/>
          <p:nvPr/>
        </p:nvSpPr>
        <p:spPr>
          <a:xfrm>
            <a:off x="3919680" y="5943600"/>
            <a:ext cx="32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interpo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19:47:14Z</dcterms:created>
  <dc:creator>teacher</dc:creator>
  <dc:description/>
  <dc:language>en-US</dc:language>
  <cp:lastModifiedBy>Laura Helbing</cp:lastModifiedBy>
  <dcterms:modified xsi:type="dcterms:W3CDTF">2011-10-02T01:42:19Z</dcterms:modified>
  <cp:revision>7</cp:revision>
  <dc:subject/>
  <dc:title>Linear Models and Correlation</dc:title>
</cp:coreProperties>
</file>