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B0F-A5ED-4446-9856-32D1E55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1BE-B761-48A5-B4FE-63D4F62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C41-52F1-4853-B1AC-F8F6FDDC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73C-00F2-4665-A147-ABBE9304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A83-12ED-4866-A1AC-BA90A501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317-1AB4-49E1-A0CC-D739A675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6C91-E2C7-480B-AC82-CD47C90F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0478-2509-46F0-8C34-3083AFFC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11F9-13A1-47F0-9801-E8D2750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F78-BCA3-4EFE-9F06-1261D8F2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614B-227B-489A-983F-EB8E26F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DC7-5157-4431-9BFB-797EB6F3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07A8-E874-4DC8-AC5A-E90BB385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F173-4687-4901-971A-C1D09B71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EE53-9827-422D-8EF7-07491C2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4D79-1078-4542-BE1C-C75DD755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AA2-E9E9-488E-8C6E-D2390CEA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32892-3453-4541-B7E0-0D7AAA15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82130-6185-4456-8BDD-CE06213A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5263-9DAF-4BC9-B6E7-56DD3F7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7CAA6-63C1-47A5-BB13-EED3FD5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73BE3-3392-4FCE-90D7-B05989E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D01-A1CE-4513-B4FE-B1315CB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6FF8A-E177-4B11-ADCA-526F83B8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0B301-B754-43A3-8A5E-6CF5F25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7107E-B3BF-432C-A2FF-D6F5E59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90858-5A96-4209-9AEF-25B143C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43240-2665-45B8-9BDC-4EB2AF1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365C2-5344-4B22-9817-91C7EB77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10CDD-1EAA-4530-A196-D810C1BE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81F6-245E-4ECA-BE77-5843BB0F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CFC6-8751-4779-9D58-C2E33B55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F63D-6633-495F-8955-B5FE1DD4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914-6E1D-49E2-AEEB-1E9CA55C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91F43-A274-4F3E-AAA3-7C5731FD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3127-D9B3-4A6D-A848-FE886C2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ADEA-AC4C-4862-8973-EAF78AC8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FBE1-8342-4BBA-9D62-8CD870B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6B03-2C31-4FC9-9D26-76F17C3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AC43-8D08-42A2-A7D5-CF7D20E8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994C-A420-4A1A-9438-7C4942FD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D465-E253-4F49-813F-9977AEB9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E097-EC11-4D97-A142-3DEA58FC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76C-793B-4F2F-AED3-91487FF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A59-F5FB-4069-980E-F36ECC4E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EF9-25E9-49F9-835A-4807D4C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FF8-784A-4345-BD68-5BA5AA6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5AE-4664-454E-A12B-C5FAE8E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1D9D-9D9F-4902-B695-A6052D5DB9E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3F1E-FECC-400A-8458-DBAA0BE67EB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83F8-B787-401E-8DCE-88D172E3B23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8465-5AA6-4536-A50D-E8623B8737F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inear Models and Correl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Page 93 – 96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4-11, 17-20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 for the day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properties of regression lines and of the correlation coeffici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linear mod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linear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ear Function: y = mx + 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rrelation Coefficient: The number used to measure the strength of the linear relation between two variables. (denoted 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relation – posi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gative relation – nega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ect correlation -     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4114800" y="5410080"/>
            <a:ext cx="380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 (page 100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apolation: Estimating a value beyond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olation: Estimating a value between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ormula for Correlation Coefficien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065640" cy="1523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1571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correlation coefficient for the following ordered pair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4, 10) , (3, 7) , (7, 13) , (6, 2) and (5, 8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x : 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y : 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1.58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4.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60660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0" y="4267080"/>
                <a:ext cx="9144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0" y="5410080"/>
                <a:ext cx="484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47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1981080" y="5975280"/>
                <a:ext cx="1073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6172200" y="5867280"/>
                <a:ext cx="1514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57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240" y="224964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October, 1994, Consumer Reports listed the following prices and overall ratings for drip coffee maker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7,79), ($25, 77), ($60, 70) , ($50,66), ($22,6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60,61), ($35, 61), ($20, 60) , ($35,58), ($40,5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2,53), ($40, 51), ($30, 43) , ($30,35), ($20,3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35,32), ($19, 28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alculator: y = .37x + 41.9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lculator: y = .37x + 41.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the model to predict the rating of a $45 coffee mak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prediction an interpolation or an extrapol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faith do you have in the estima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9880" y="251460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.37 (45) + 41.9 = About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2472120" y="4419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2142000" y="579132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Not a lot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r = .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               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2:                     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140-pound 5’2” tall woman diets, wishing to lost .5 pounds per week.  Let y be her weight after w weeks, where 0 ≤ w ≤ 20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Find a linear model for y in terms of w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What is the correlation between y and w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. At this rate, when will she reach her goal of 132 pounds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Is this prediction extrapolation or interpolation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777040" y="281952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y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464640" y="365760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r = 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11760" y="472428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32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6725160" y="48006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6 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919680" y="59436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9:47:14Z</dcterms:created>
  <dc:creator>teacher</dc:creator>
  <dc:description/>
  <dc:language>en-US</dc:language>
  <cp:lastModifiedBy>Laura Helbing</cp:lastModifiedBy>
  <dcterms:modified xsi:type="dcterms:W3CDTF">2011-10-02T01:42:19Z</dcterms:modified>
  <cp:revision>7</cp:revision>
  <dc:subject/>
  <dc:title>Linear Models and Correlation</dc:title>
</cp:coreProperties>
</file>