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BC4-8FCB-44E3-97C5-4A4EBF0F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240-DBDE-4B7E-BE49-FE7B9AAE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B20-E3B5-4B3C-BFA0-B83E8DAA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BA6-5E02-4660-A573-6F7FFE48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E3FD-286C-49AE-9E80-3569BF5E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89FA-721A-4DA8-A45E-9EE183F0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B3E9-4347-452B-B17B-BDD84BCB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29B5-E726-4FEB-97E6-B48E693F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98AB-B0EF-401E-93B1-470C5A22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5C28-5777-44FB-9903-B25EC074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CD7E-2E12-4236-BC00-03D46E32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DF9-6782-4AC2-8884-CBBD4172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D457-9364-4465-8F4A-872B257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EACD-27DD-487D-9C73-4C27E2F5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9BF7-735F-4E4C-92B5-F57B08B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90D7-F86E-4B85-8BF5-A752912A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1BF2-C6D4-4C0B-A122-044C3599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11B9-697D-40D7-AF5E-08196C1B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B01A-55BF-4805-A7A7-2BC0435A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3243-401B-4F12-9329-4D692C80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71F5-02C6-47E4-AEE2-25975461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FD27-8ABB-4296-AFAE-C83E7987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82B-D3AB-4265-B2E9-0B3E2005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D9D3-61D2-4D1F-939D-1433EC3D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0CD0-631F-4EAE-AEB8-2FA6123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71E0-79C1-4065-A02A-BC232CEB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0645-65CD-40F1-95AE-D85B714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DA63-0147-4AA1-8CC7-FCF8779F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DB2C-CFD9-4355-B5D9-41BE1B04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DEC5-F7B2-41F9-9737-595E207E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01A0-308C-4DA9-A584-A56E06CA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2485-FAF1-41B9-A2C4-FF46C078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E715-A89B-47B1-86AC-D7BEE151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A53-D95F-4FA1-8D97-593EF2D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43320-0643-4856-8E3D-7DBBCBB5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8C09-819E-4CB4-B346-EC5D9073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79C3-295B-4731-9305-D43A54B4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39CC-10D0-4DED-AA7D-D88CE5D6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0CE5-C1DA-4F05-8435-D3EC65F1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067E-1FE4-455F-97A8-113BD120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260D7-8DED-4B64-85BF-8C4BCE65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8FE9-2DBC-4BD6-9C1B-C5B18976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2EB0-6D09-41C0-B3E5-A138A661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BE95-EB2F-480E-BD4B-AE4D40E3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215-5FBB-48B2-BB5C-250C08B3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B1AE-EC46-4196-B8FD-BE9EA8D6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9FF62-585D-4ABB-8919-A81B3E2A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CDF7F-B063-4E95-B362-ED29C1A5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83A61-59E3-496C-A709-D601176D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411B-1D34-4776-A1B9-BCED25FD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1880-EAF9-44F4-B411-27F119C4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A633E-6E42-455D-9A4F-CAD181B0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9FEF9-0D2B-48F4-988E-E7E9984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2AF58-491A-440E-8E51-A095C4D1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457F-2C45-4FD8-B53A-DB769203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EB2-F555-41FF-9A57-047C2962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FB874-159A-4267-B423-1DBDBD46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21901-F075-48B8-8C5D-EA22573B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FE25E-0D3E-4CFC-9721-FB675E52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BE1D-4F8E-42F9-BF18-59085727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02D9-C36F-4797-8A9F-13584776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5FA63-35AE-4D9F-8549-DA7A2F5A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96D2E-CD8B-43DE-B6C7-70855FA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0109-C040-4E30-BA40-65784E8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72C9-06FA-4C96-916F-3315AF07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EBE6B-9E4B-4E7E-93B0-A1CDDAE5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D94-B2BF-4478-A29A-49FFCAA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8EBB-1AA1-4DCF-8691-50521EDE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FC37-FD5C-4EEA-B2EC-9AE479BF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958B9-FD7F-4663-B377-F75B5446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563EA-0EF9-4E00-A12E-8C5BFAEA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D7D75-2061-43AC-8091-9C67843B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C3A01-BF29-4671-8BC3-94BFE6A4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692F7-BE6A-41B3-B1BC-0A732038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C4E92-E995-43E0-A794-CBEE24C7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832C2-555D-430C-A329-470A66A0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FBCD1-3590-4CD4-A94A-45AD69A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E86-EE7A-4199-B7CD-3FBB9A05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80141-5720-4A0F-9460-2930F0E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C038-645F-4300-90C5-6E9A0533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1A3BA-BBD7-4058-91F1-272CE4AC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F5269-B133-495E-A292-098482D8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D3E70-637E-45BD-A65F-18FB0CFC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493-0B5C-4833-87B0-6E037325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C2E3-E077-4548-AE70-DB5ABB835B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D27F-56E2-409A-BBD5-30F109C6E3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1FA2-64A2-4706-8239-7C24688D64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A418-D20D-4AA6-9197-E3928C1205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C3F0-2927-47C9-A2EE-1253BE24B6D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E5C-8F15-4495-879E-DF24D4FE66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B703-1498-48AF-B98E-98156A37276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Normal Distribu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ection 10.6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 to z-scor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3733560"/>
            <a:ext cx="7499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taining z-scores: apply the transformation to “standardize” the variab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289320" y="1676520"/>
                <a:ext cx="24001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n should a binomial distribution be approximated by a normal distribution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2666520"/>
            <a:ext cx="7328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p and nq are both greater than or equal to 5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dult American male is selected randomly.  Estimate the probability that the man is shorter than 5 feet 6 inches ta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American men – mean 70, sd 3 – p. 66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0" y="480060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124080" y="4724280"/>
                <a:ext cx="2178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3505320" y="5638680"/>
                <a:ext cx="137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6019920" y="5029200"/>
                <a:ext cx="2044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6505560" y="5943600"/>
                <a:ext cx="1378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497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47560" y="1142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batch of light bulbs is tested and found to have lifetimes that are normally distributed with a mean of 1067 hours and a st. dev. Of 92 hours.  If the manufacturer guarantees that the light bulbs will last for 800 hours, about what percent of light bulbs would be expected not to perform as guaranteed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380880" y="5435640"/>
                <a:ext cx="33782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6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4038480" y="5105520"/>
                <a:ext cx="21780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4213080" y="6019920"/>
                <a:ext cx="2133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6629400" y="5105520"/>
                <a:ext cx="2044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7137360" y="6019920"/>
                <a:ext cx="1333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ample 3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the operator of a hotel with 100 rooms.  From past experience, you know that 80% of people who make reservations with you show up.  If you take reservations for 105 rooms, estimate the probability that more than 100 people will show u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1523880" y="4038480"/>
                <a:ext cx="1600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066680" y="4800600"/>
                <a:ext cx="360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828800" y="5943600"/>
                <a:ext cx="1733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5"/>
              <p:cNvSpPr txBox="1"/>
              <p:nvPr/>
            </p:nvSpPr>
            <p:spPr>
              <a:xfrm>
                <a:off x="5562720" y="3809880"/>
                <a:ext cx="28000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6"/>
              <p:cNvSpPr txBox="1"/>
              <p:nvPr/>
            </p:nvSpPr>
            <p:spPr>
              <a:xfrm>
                <a:off x="6095880" y="5638680"/>
                <a:ext cx="16448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 normal approximation to a binomial distribution to estimate the probability of getting fewer than 20 or more than 30 heads in 50 tosses of a fair coi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33920" y="365760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0" y="4114800"/>
                <a:ext cx="3333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33200" y="4800600"/>
                <a:ext cx="3333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453960" y="5715000"/>
                <a:ext cx="2044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4092480" y="5257800"/>
                <a:ext cx="1866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6566040" y="350532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6765840" y="5200560"/>
                <a:ext cx="2178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2895480" y="6235560"/>
                <a:ext cx="37782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4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0"/>
              <p:cNvSpPr txBox="1"/>
              <p:nvPr/>
            </p:nvSpPr>
            <p:spPr>
              <a:xfrm>
                <a:off x="6858000" y="6235560"/>
                <a:ext cx="2089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Pages 667 – 668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1 – 4, 8 – 9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11 – 14 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27:57Z</dcterms:created>
  <dc:creator>Laura Helbing</dc:creator>
  <dc:description/>
  <dc:language>en-US</dc:language>
  <cp:lastModifiedBy>Laura Helbing</cp:lastModifiedBy>
  <dcterms:modified xsi:type="dcterms:W3CDTF">2011-05-12T15:42:12Z</dcterms:modified>
  <cp:revision>4</cp:revision>
  <dc:subject/>
  <dc:title>Other Normal Distributions</dc:title>
</cp:coreProperties>
</file>