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780-7FAD-4762-93BA-29EFE679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8DC-263A-4220-9BFF-0E7FF35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CF3-063B-4AA5-B1EE-43095895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6B3-6F64-405E-8C1B-E08C683F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3269-61FA-4D96-9A25-E0FE60F6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32DE-D4DF-4C59-AB1F-4C39D813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85ED-9EE3-4EB9-A4BC-96C976AA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869A-7AE4-47E9-BBB2-120B4B80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0F4C-D791-426C-8034-E5EA0499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9A3A-C130-4678-90FA-88EE49D1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21F0-A47F-4338-AB10-3FD41C1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14E-B05E-493D-BC7E-2A7D390F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DC8A-BFED-4147-862C-5F023925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C397-FCB9-4037-9D8A-A8D9B4F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03D-DD2A-47E0-85A4-3BA027B2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2CEE-2A35-4278-AC39-F11B4581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14D0-B784-45DE-BCF0-0F65731F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FC6D-7269-4A81-9464-6119337F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D036-4388-405F-B2BE-65AFA02C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D6F0-026D-4054-B1D1-F7113CF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5B85-D608-465E-B159-0E06513A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6033-AE62-4177-937E-7663AD4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9D9-DFD3-4000-B0A1-E3045BA1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6B8A-15BA-4AEE-B8ED-DFA49ED8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6C2BD-F135-44AD-B578-864D717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23D53-F795-4A0D-8E74-4B0F5529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BBBA-6EE1-4552-B4AF-8C20584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0DA1-CC39-4EC9-ABCD-18FC739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B3646-A55B-4E5C-B1EE-508A3C12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7C75-0063-4EC6-A948-C86EE552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65D49-9877-4165-BB20-DA794AB8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4CB4-5E0C-4012-8785-96199843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1F45F-6120-45BA-A65A-C5D12A3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C73B-ECBE-41B8-98A3-5A6EB62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FC04-33CD-4CB3-A9BD-E10AAF09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47252-B5D6-486B-A8B0-B2A24FB0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90CB-6705-4D54-A107-FE263D9C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4D8D-656E-4E4F-A7DC-613982EB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596A-4ACE-41AA-832D-4A76298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83B2-A01B-4094-AC02-AC90A71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3087-831F-4D27-AF26-0696060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2101F-AA99-44F4-A626-FEA8F341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4A04-8FE0-46DC-902B-E741382A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3512B-47FE-4273-955C-C168B13A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182-C14F-403D-BE64-0A2AE93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83CDA-BBD2-401B-B758-C10AA0F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3B27A-05F1-44C7-89BF-9EBF1A97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52AFA-61ED-4372-98D2-3E2597F5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8CA0-D1F2-4548-8B7E-E9852DD0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CE45B-F9EC-4167-B27E-0066E453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C18E5-AB0B-48C1-BEC8-CA82B1A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AB14D-640C-4DCF-8AB0-CAEB1D2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DA4A-FA50-4D76-B9A2-1184F0EC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91BC-3B74-4F3C-A303-635E0622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97DFF-9B25-4F31-AC73-FF0671B8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CD7-C0E1-4C52-A121-02541F3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5C061-EE35-4376-8A9E-B60101F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E22C7-1DF7-4E94-AF63-4CAC1A68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65F3-0E90-490F-80FE-137CDD0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78E1-59D7-45EF-8CB6-E2BCD851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CE356-B117-433C-BE04-2BB2AE86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AA13F-3D5D-41F9-9730-2BB26556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8CE5-A258-4A2E-ACB7-CA4F63EB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4ACEE-4ECF-4991-AC7E-632FE12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9F24F-8B45-415E-8368-8CD27C2D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7B74-E328-4FCE-8EFD-FEB171EC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772E-FA4D-4DED-8137-ADD163F0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1A359-3730-4BE7-B8E2-8E9C642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5EDC4-91C1-4B99-A2D7-9A0B99B5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7977A-AF09-4B72-B36D-4C3AF02B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09149-8885-4C89-9C66-BECE8C9F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0518A-48E9-48DA-ACE2-67987D9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DE241-0738-409E-94C4-C2321BD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1C04-BF2B-4F80-90BE-65786D98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AE04-DD01-44D4-8A21-44E50E57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E3962-D925-4643-A917-4B49319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8E909-D286-40C3-B004-DC1AD023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E12-358C-48BF-AEC2-E0AD932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D6A66-8F21-4886-9FA0-914AF73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0CEE3-27EE-4F76-95C3-C116E649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9DF64-2EFE-45DC-9CFA-D5FD0D7F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494C-C81B-489A-9A20-44D84011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2368A-3139-4EC5-AE8D-D83278AF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D57-C1F7-494D-BBE9-93AAC197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4D4F-1D8B-49F3-8CE9-A193FB76F6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C4BF-62D3-4BB3-BAFA-B15A3F35F18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BC4F-6BBB-42CC-B2D9-7D1A32A0CF4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D4EC-1139-4AB0-97EC-28711CF18D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0D88-DBF6-449C-9A4A-E58BAF68AC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4D61-045A-4ED5-B15A-5B1A80800C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B822-BDBE-47DD-92D2-2E7EDF6D30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ther Normal Distrib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Section 10.6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 to z-scores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3733560"/>
            <a:ext cx="7499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taining z-scores: apply the transformation to “standardize” the variab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289320" y="1676520"/>
                <a:ext cx="24001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should a binomial distribution be approximated by a normal distribution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2666520"/>
            <a:ext cx="73281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ule of thumb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p and nq are both greater than or equal to 5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adult American male is selected randomly.  Estimate the probability that the man is shorter than 5 feet 6 inches ta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American men – mean 70, sd 3 – p. 663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0" y="4800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124080" y="472428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4"/>
              <p:cNvSpPr txBox="1"/>
              <p:nvPr/>
            </p:nvSpPr>
            <p:spPr>
              <a:xfrm>
                <a:off x="3505320" y="5638680"/>
                <a:ext cx="13777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5"/>
              <p:cNvSpPr txBox="1"/>
              <p:nvPr/>
            </p:nvSpPr>
            <p:spPr>
              <a:xfrm>
                <a:off x="6019920" y="5029200"/>
                <a:ext cx="2044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6"/>
              <p:cNvSpPr txBox="1"/>
              <p:nvPr/>
            </p:nvSpPr>
            <p:spPr>
              <a:xfrm>
                <a:off x="6505560" y="5943600"/>
                <a:ext cx="1378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4977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47560" y="114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batch of light bulbs is tested and found to have lifetimes that are normally distributed with a mean of 1067 hours and a st. dev. Of 92 hours.  If the manufacturer guarantees that the light bulbs will last for 800 hours, about what percent of light bulbs would be expected not to perform as guaranteed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2"/>
              <p:cNvSpPr txBox="1"/>
              <p:nvPr/>
            </p:nvSpPr>
            <p:spPr>
              <a:xfrm>
                <a:off x="380880" y="5435640"/>
                <a:ext cx="33782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4038480" y="5105520"/>
                <a:ext cx="21780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4"/>
              <p:cNvSpPr txBox="1"/>
              <p:nvPr/>
            </p:nvSpPr>
            <p:spPr>
              <a:xfrm>
                <a:off x="4213080" y="6019920"/>
                <a:ext cx="21337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5"/>
              <p:cNvSpPr txBox="1"/>
              <p:nvPr/>
            </p:nvSpPr>
            <p:spPr>
              <a:xfrm>
                <a:off x="6629400" y="5105520"/>
                <a:ext cx="2044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6"/>
              <p:cNvSpPr txBox="1"/>
              <p:nvPr/>
            </p:nvSpPr>
            <p:spPr>
              <a:xfrm>
                <a:off x="7137360" y="6019920"/>
                <a:ext cx="1333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Example 3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 are the operator of a hotel with 100 rooms.  From past experience, you know that 80% of people who make reservations with you show up.  If you take reservations for 105 rooms, estimate the probability that more than 100 people will show u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2"/>
              <p:cNvSpPr txBox="1"/>
              <p:nvPr/>
            </p:nvSpPr>
            <p:spPr>
              <a:xfrm>
                <a:off x="1523880" y="4038480"/>
                <a:ext cx="1600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066680" y="4800600"/>
                <a:ext cx="360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828800" y="5943600"/>
                <a:ext cx="17334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5"/>
              <p:cNvSpPr txBox="1"/>
              <p:nvPr/>
            </p:nvSpPr>
            <p:spPr>
              <a:xfrm>
                <a:off x="5562720" y="3809880"/>
                <a:ext cx="2800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6"/>
              <p:cNvSpPr txBox="1"/>
              <p:nvPr/>
            </p:nvSpPr>
            <p:spPr>
              <a:xfrm>
                <a:off x="6095880" y="5638680"/>
                <a:ext cx="16448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ample 4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 a normal approximation to a binomial distribution to estimate the probability of getting fewer than 20 or more than 30 heads in 50 tosses of a fair coi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2"/>
              <p:cNvSpPr txBox="1"/>
              <p:nvPr/>
            </p:nvSpPr>
            <p:spPr>
              <a:xfrm>
                <a:off x="3733920" y="365760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0" y="4114800"/>
                <a:ext cx="3333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4"/>
              <p:cNvSpPr txBox="1"/>
              <p:nvPr/>
            </p:nvSpPr>
            <p:spPr>
              <a:xfrm>
                <a:off x="133200" y="4800600"/>
                <a:ext cx="3333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453960" y="5715000"/>
                <a:ext cx="204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6"/>
              <p:cNvSpPr txBox="1"/>
              <p:nvPr/>
            </p:nvSpPr>
            <p:spPr>
              <a:xfrm>
                <a:off x="4092480" y="5257800"/>
                <a:ext cx="18669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7"/>
              <p:cNvSpPr txBox="1"/>
              <p:nvPr/>
            </p:nvSpPr>
            <p:spPr>
              <a:xfrm>
                <a:off x="6566040" y="3505320"/>
                <a:ext cx="25779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6765840" y="5200560"/>
                <a:ext cx="2178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2895480" y="6235560"/>
                <a:ext cx="3778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4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5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10"/>
              <p:cNvSpPr txBox="1"/>
              <p:nvPr/>
            </p:nvSpPr>
            <p:spPr>
              <a:xfrm>
                <a:off x="6858000" y="6235560"/>
                <a:ext cx="20890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Pages 667 – 668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 – 4, 8 – 9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ill Sans MT"/>
              </a:rPr>
              <a:t>11 – 14 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2T01:27:57Z</dcterms:created>
  <dc:creator>Laura Helbing</dc:creator>
  <dc:description/>
  <dc:language>en-US</dc:language>
  <cp:lastModifiedBy>Laura Helbing</cp:lastModifiedBy>
  <dcterms:modified xsi:type="dcterms:W3CDTF">2011-05-12T15:42:12Z</dcterms:modified>
  <cp:revision>4</cp:revision>
  <dc:subject/>
  <dc:title>Other Normal Distributions</dc:title>
</cp:coreProperties>
</file>