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314-A004-4A28-A483-50051EB0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B23-8ECD-4358-B00B-F06A47A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083-964C-449F-BAA4-DEBE2AA7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D8F-B7C4-44FB-BA92-215B57F8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F71E-883F-4FEC-BC2E-0BF6B37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A41-92C3-45D7-987D-BB0BDD8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D83-7E2E-4418-B689-765575D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D35E-355B-4230-95CE-DDB52365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1B28-485C-41DE-B61D-1BAB850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512-2A43-4794-92C9-786DDB8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4374-EB41-40AE-9FF7-5F6FE27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6D7-3051-4A0C-B6AE-45330D69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704-4BC9-4062-9364-2A797149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7362-5136-4144-917A-5D26B11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4E87-D7AC-4BA7-A348-C994D47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B0BF-5861-426F-AD96-0694ADDA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BF2F-E617-4E4A-8F96-D0151A8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8B64-C726-4AD2-B60B-DF7A2699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D732-6BEF-458E-941F-D482D52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6F7D-8A0F-4E9F-8F30-E800025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7690-80F8-40E3-A512-036A0CB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4A63-BD91-4C61-9DA0-715721C3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3A2-27D4-4B25-8FAC-C59379D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2371-1A78-4285-8CE2-04976197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65E8-626D-4699-839A-8AF31E9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5C83-A674-42C7-B160-4AD79D5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0772-B851-4F35-BEB1-5666500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C809-CE20-47C2-BCB5-82C348DD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2642-F700-4023-9BB4-BD0824A5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F2CA-B949-4F95-8B06-0F616830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346C-AE07-44E3-80FC-B1AF2581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509B-CAE6-494C-9DB7-38621FC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9FF5-BCC7-4703-8DCA-F86F5849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F6F-F123-4F62-B082-9962A6E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CC6A-A1C4-49D3-A820-BDD46B21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B2CB-43D3-490D-887C-24B3B278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9568-F964-4492-AD68-4A3C94F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7056-87F1-425F-AA53-F1F4DE1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DF37-F61F-4D5D-B919-8BCFBCC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40E9-D85B-4312-9089-CAFC382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FAB7-52BC-4EDD-BCE8-E23F70A3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4B1E-52D5-4CF3-8CCF-E4BA503B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6EA9-889D-43C5-AE8A-D3D8CA87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0114-2F30-414F-8EB0-A003C90F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510-0AC7-4C24-A259-BC22D82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3509-25AB-4D7C-9580-A45B311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2C2F4-B2A9-430D-BDA9-101C671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49CE-AD94-491C-AC3E-DEB3940A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D877-A5C4-4DA3-8D0A-6161665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757A-4AE3-479B-927D-CE804EB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FFED-70EB-48E4-8D83-75F773DE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93D0-D65B-429E-AE9B-6A27A2B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7418-45BB-4121-B33E-342A130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39A9-4B9D-40BF-B700-003D8B88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BB5E-2F38-4CFF-9975-96DA99B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B58-4C91-41C2-882D-854FAF5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B4C7-114F-41B3-B6D1-E944F8C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388E0-4BF6-4B57-A387-1BA3D954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8BFD-AD23-48D3-B351-377B253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8F99-A9B1-4659-8D73-127868EF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7B51-FB60-40A3-921A-427447B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BD98-B9D6-4463-9659-696B6D4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BD0E-B355-418C-AD0B-0FE28869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691B-518D-444D-B4B0-E121F47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0415-7AD6-4073-ABED-DA603CC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6B96-8FDB-4486-9E3E-37B9F9B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673-75E1-470E-81AD-E82FA6B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94F22-6F47-4948-ACD6-89F30702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B687E-1C06-423D-9E13-C928571E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A98E-1BCC-4146-AB55-E8D32A18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24BE5-180D-4C73-8F9E-FCEC3139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FEBE-A6CF-444D-AEBA-672C7435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F02B-E1FD-4AD7-8B3F-22DF4F65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6E321-1DCB-4CF7-8D68-A6817B5D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2F2E-0730-4C37-AA3C-F5627080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E725-ED8E-4E62-99D4-D68383D1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B8E80-F1F5-4F44-A1D7-0DE726B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444-7585-443D-8887-8A8588D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899E-41C9-45F4-B726-5241D74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D035-53E6-4D89-B057-FD81CE9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75B8-EA7D-4D51-986E-3FCC662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9F13-1E0B-40C9-9CEC-E367BC94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B3B8-CFF0-49AA-94A7-92E81BC2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B29-1A1F-4F6C-B652-AA3433E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07E5-E3CB-4E64-948F-B846E9B311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6672-6BB7-4CE4-8362-3D22E04290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1027-F0CF-485D-BB2D-5A12798C75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37B0-8D0B-4FBB-B5FB-2FEEFE83CC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0F2-AA88-4087-9395-2A8142C082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B04A-19DD-46B1-AF0D-77CD1E8093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B111-85BA-4F7D-AD46-B6A2FAF8D2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Normal Distrib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ection 10.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 to z-scor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3733560"/>
            <a:ext cx="7499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taining z-scores: apply the transformation to “standardize” the vari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289320" y="1676520"/>
                <a:ext cx="24001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should a binomial distribution be approximated by a normal distribu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2666520"/>
            <a:ext cx="7328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 and nq are both greater than or equal to 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dult American male is selected randomly.  Estimate the probability that the man is shorter than 5 feet 6 inches t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merican men – mean 70, sd 3 – p. 66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0" y="4800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124080" y="472428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3505320" y="5638680"/>
                <a:ext cx="137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6019920" y="5029200"/>
                <a:ext cx="2044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6505560" y="5943600"/>
                <a:ext cx="1378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497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114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batch of light bulbs is tested and found to have lifetimes that are normally distributed with a mean of 1067 hours and a st. dev. Of 92 hours.  If the manufacturer guarantees that the light bulbs will last for 800 hours, about what percent of light bulbs would be expected not to perform as guaranteed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80880" y="5435640"/>
                <a:ext cx="33782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4038480" y="5105520"/>
                <a:ext cx="21780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4213080" y="6019920"/>
                <a:ext cx="2133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6629400" y="5105520"/>
                <a:ext cx="2044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7137360" y="6019920"/>
                <a:ext cx="1333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 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the operator of a hotel with 100 rooms.  From past experience, you know that 80% of people who make reservations with you show up.  If you take reservations for 105 rooms, estimate the probability that more than 100 people will show u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523880" y="4038480"/>
                <a:ext cx="1600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066680" y="4800600"/>
                <a:ext cx="360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828800" y="5943600"/>
                <a:ext cx="1733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"/>
              <p:cNvSpPr txBox="1"/>
              <p:nvPr/>
            </p:nvSpPr>
            <p:spPr>
              <a:xfrm>
                <a:off x="5562720" y="3809880"/>
                <a:ext cx="2800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6095880" y="5638680"/>
                <a:ext cx="1644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 normal approximation to a binomial distribution to estimate the probability of getting fewer than 20 or more than 30 heads in 50 tosses of a fair co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33920" y="3657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0" y="4114800"/>
                <a:ext cx="333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33200" y="4800600"/>
                <a:ext cx="3333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453960" y="5715000"/>
                <a:ext cx="204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4092480" y="5257800"/>
                <a:ext cx="1866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6566040" y="350532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6765840" y="520056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895480" y="6235560"/>
                <a:ext cx="3778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4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58000" y="6235560"/>
                <a:ext cx="2089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Pages 667 – 668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 – 4, 8 – 9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1 – 14 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27:57Z</dcterms:created>
  <dc:creator>Laura Helbing</dc:creator>
  <dc:description/>
  <dc:language>en-US</dc:language>
  <cp:lastModifiedBy>Laura Helbing</cp:lastModifiedBy>
  <dcterms:modified xsi:type="dcterms:W3CDTF">2011-05-12T15:42:12Z</dcterms:modified>
  <cp:revision>4</cp:revision>
  <dc:subject/>
  <dc:title>Other Normal Distributions</dc:title>
</cp:coreProperties>
</file>