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DA0-2528-4818-A6CD-C1FF9EB9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EC1-A575-4412-9989-5B61959A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5A1-1283-476A-9FFC-F2500648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95D-414F-4F83-B029-D5741042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7568-7ED0-4235-B7C8-8AEB05B9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55B0-6C11-46A5-BED9-1386353F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28DC-2E03-4713-87FC-1B417A37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4AE-3999-4A38-A441-DAD10026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5BA2-15C3-4593-88F7-F9CB5C99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B69B-4BF3-4578-8605-FD59AA51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FFD-9C90-4466-9D28-C26B9438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125-1307-4324-92C0-2C2D6493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8088-2C3D-4B33-A1DC-2C21958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77EF-8387-42CB-8063-6A224C2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57AA-7432-4E3A-B499-37BF65E4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B6A6-14E8-456C-8A40-C7F6E9AE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299F-0858-4DF3-B4A9-509700F8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67BC-D946-46A6-A264-76BBCA4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194D-D246-498E-A5A4-E707D6AA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7927-4E35-43B3-82A7-5D9519F7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E82FD-0CBF-4925-ACCF-0D46A478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0C21-CCDB-4280-98AC-45AA786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7D2-FC20-4C7F-B9AF-D8AFC3C2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3B62-F6C3-4196-9229-086A000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4ECB-0686-4F81-8BA0-5DA609F2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A153-6178-4AF9-B9B0-6B20967C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4C525-7A7B-4222-8B6C-F438A9B4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2688-92BE-48A2-8564-A8902009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36AC7-FAC7-4447-AE5B-03C5180C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2D953-40EB-477F-9D61-B365FC7C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3614-829B-4ADE-99E3-839F5AB4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837A-5603-4004-8A8F-28BF93FD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F8F9C-B7EE-4077-AD2B-A1A65370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D1E-F600-47DB-8D1D-0228706E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9B04D-AB17-43DA-8F68-BC801BA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538C-A16B-47AF-8B8F-AFC4CD34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B5421-2C54-459F-A363-DF6E859E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367FA-5849-40EE-9E87-88AE8541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0393-F855-4EB3-8DB0-E9FD0210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EBBEF-F447-44E0-8938-04FF8D35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E4481-FA21-4882-88DA-B28B681A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B018-1075-4EB6-94A8-0042B6A9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7AB1-002A-4C36-A9B1-64101664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C551-66D3-4582-B478-84068184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267-7545-4858-B8F7-B3C6C94F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37C9D-2E02-4AE1-8D96-6CF9BFD0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4FC9B-16F2-45D0-815C-9C10ADFD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C897-0682-4EC7-8989-8D822540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9F58C-2435-4D3D-9FB7-BBB44BF6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3CEBD-E018-48EC-877B-60AC67C5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21850-2530-41E4-81D2-064FBFE6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2302-D9B3-40B7-8BF5-FE2204F0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DC20F-3A3B-4786-94D5-5C21052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39F2A-C438-423B-8303-D460A003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FCCFC-D69D-4640-AEDF-E8B1ED3F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915-3BB6-4B37-8E48-2D739DA5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E1B9-FB71-45C9-9E8D-03AC7B51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13F2-6DC0-4E12-8FB2-D931AC06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E1CD5-C59F-4DEE-BECD-3871F1D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46069-E37D-45EC-A50A-D1C9655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3585E-8191-4609-9016-33EC9E7A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0546-2AC1-45C6-866A-E7AA388C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30D90-C702-443E-93A2-AC3217F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8B344-6DB1-4A23-8606-F4B337C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FAD9-7EEC-4800-8A8C-B801D81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9751-8BAA-4D88-8EF4-0146072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1E5-EE40-48C5-9DE3-59231FF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79536-4D04-49BA-B87F-14B8C02D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7FE7C-1E67-4943-BC2E-860A9D15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8B07-F5E3-4169-8F07-EC8BEA90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51EA1-C654-443C-8AC2-9BA0B5D09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9A1C-54A4-4224-AE70-FC828795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77262-F62A-40F6-92F7-78BF6D0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C368-4BAC-4011-92B9-C5FDA158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F198-FCC0-405B-8D93-DCCA8F33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94894-87F8-4983-86DA-845C2991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46358-A647-4D30-BB45-DEFFC53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1CF-CFC8-4BCF-9031-A4600568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2A239-CF58-4F8C-9F1F-C63D790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12CC7-BA47-4728-82E1-4DD40B69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41879-6DB7-47D5-B57C-642B8EB5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29B48-FEE6-468E-9D02-9F623104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5668D-AF45-48A1-956C-62C5EDA7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EC9-B3F6-4E85-B3F8-78FE41B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4762-652A-42DD-9EAB-665811EDAF3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D14F-90F5-44B9-8B83-B3D810F22FF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70BF-3967-4C6C-B2D9-BB8CD417BD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05E-B98C-457F-818C-3389663A66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DAB-8AB9-4420-95B1-85E6E6E46D2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E8F-220F-4C7A-9F3E-A63EE2E5FCB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BE99-4E93-41F9-ACC5-8EE2BECA3BD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Normal Distrib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ection 10.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 to z-scor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3733560"/>
            <a:ext cx="7499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taining z-scores: apply the transformation to “standardize” the vari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289320" y="1676520"/>
                <a:ext cx="24001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should a binomial distribution be approximated by a normal distribu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2666520"/>
            <a:ext cx="7328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 and nq are both greater than or equal to 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dult American male is selected randomly.  Estimate the probability that the man is shorter than 5 feet 6 inches t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merican men – mean 70, sd 3 – p. 66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0" y="4800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124080" y="472428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3505320" y="5638680"/>
                <a:ext cx="137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6019920" y="5029200"/>
                <a:ext cx="2044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6505560" y="5943600"/>
                <a:ext cx="1378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497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114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batch of light bulbs is tested and found to have lifetimes that are normally distributed with a mean of 1067 hours and a st. dev. Of 92 hours.  If the manufacturer guarantees that the light bulbs will last for 800 hours, about what percent of light bulbs would be expected not to perform as guaranteed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80880" y="5435640"/>
                <a:ext cx="33782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4038480" y="5105520"/>
                <a:ext cx="21780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4213080" y="6019920"/>
                <a:ext cx="2133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6629400" y="5105520"/>
                <a:ext cx="2044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7137360" y="6019920"/>
                <a:ext cx="1333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 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the operator of a hotel with 100 rooms.  From past experience, you know that 80% of people who make reservations with you show up.  If you take reservations for 105 rooms, estimate the probability that more than 100 people will show u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523880" y="4038480"/>
                <a:ext cx="1600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066680" y="4800600"/>
                <a:ext cx="360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828800" y="5943600"/>
                <a:ext cx="1733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"/>
              <p:cNvSpPr txBox="1"/>
              <p:nvPr/>
            </p:nvSpPr>
            <p:spPr>
              <a:xfrm>
                <a:off x="5562720" y="3809880"/>
                <a:ext cx="2800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6095880" y="5638680"/>
                <a:ext cx="1644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 normal approximation to a binomial distribution to estimate the probability of getting fewer than 20 or more than 30 heads in 50 tosses of a fair co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33920" y="3657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0" y="4114800"/>
                <a:ext cx="333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33200" y="4800600"/>
                <a:ext cx="3333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453960" y="5715000"/>
                <a:ext cx="204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4092480" y="5257800"/>
                <a:ext cx="1866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6566040" y="350532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6765840" y="520056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895480" y="6235560"/>
                <a:ext cx="3778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4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58000" y="6235560"/>
                <a:ext cx="2089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Pages 667 – 668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 – 4, 8 – 9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1 – 14 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27:57Z</dcterms:created>
  <dc:creator>Laura Helbing</dc:creator>
  <dc:description/>
  <dc:language>en-US</dc:language>
  <cp:lastModifiedBy>Laura Helbing</cp:lastModifiedBy>
  <dcterms:modified xsi:type="dcterms:W3CDTF">2011-05-12T15:42:12Z</dcterms:modified>
  <cp:revision>4</cp:revision>
  <dc:subject/>
  <dc:title>Other Normal Distributions</dc:title>
</cp:coreProperties>
</file>