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1AC-71F3-468B-937D-0D41109A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D08-6B50-4E1C-8502-A0DD417C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E340-CBD5-4F17-881B-1D5E32F3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A27-DA30-4477-9E8C-4E96D11D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C17C-168B-4BA5-8EAA-B81C9EAC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A4C0-10B2-4B0E-B3B1-398EC6C7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95A-E137-46BD-AD58-F08B89A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C502-AD4C-4813-B295-C9F704D0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2017-571B-418D-950A-573062EB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FED8-2E5B-4D4E-8D50-0B59F30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141E-1431-4C52-9E4B-1E9156F4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898-F128-406E-AB9A-327ACC18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5353-70E5-48DA-A792-8FD2A30E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5551-A1A1-4BF9-8EBE-7F59234E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43E1-AA9E-4D56-A702-C828672C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FC75-79B0-4DCE-B2D9-5CC1FA8A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8D59-34E5-496F-A5CA-A9EA4204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71B91-CFA5-4332-81A3-A808960F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1C1F-1595-4456-8D7F-0762C9CC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B62D-7DB0-41C2-8018-F6FF411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7166-6D65-41C6-B10B-D50A0B0B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0445-A0A9-4902-BCEE-64F09E0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684-8B6E-40AA-BD90-397AC775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1F2D-E551-4F2E-A6BC-76FB2D84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94AA-B032-4FC3-8D8A-ECF281A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B89D-77E8-45D1-9598-BEBB45D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734E5-BEED-4130-BE74-46AE9BF2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C58C-331C-47D3-B82E-24CFB9AE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CFFB-9F71-48E0-B9D7-D408E44C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7E43-6308-4B1B-93A3-8C264584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BDDF-14C3-4185-B0E5-AF15C149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ECED4-FCF8-42BE-93A1-90FE3B33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DE3F7-2DAF-4A6E-B09D-0E7F697E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20A-0AD5-4BF9-8E44-3336C487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32A2C-B9EB-4DA6-B38A-15D2337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8873-69ED-445B-A6DC-5019C9E1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081E6-CB0C-4532-A3A3-04EB353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2988-85A3-476D-9850-391EF33E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7F289-DE5E-4698-9252-8EF05578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AE6F-D3E1-48F9-B185-25B00E98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9151-303A-4304-9012-11C8C51A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E7D73-EC12-414F-BC86-3FFE2B27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51416-8E89-4586-93AB-7B26B24E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CAF-28C4-4169-933E-B915DD1A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526-5E3C-4179-862F-0BCE9548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BE3-C56F-468F-A17C-BA59B799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6DC8-B822-4C1D-920C-83C28FF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99C-465A-440B-B84D-5AABA56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F05C-8566-4AB1-A871-8E6A239A537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3344-4077-4AE8-8706-59DCA60956A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A09D-4C52-4C44-831F-95A85ED7313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898D-7C58-47E4-8AF1-9A2B9A4390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551800" cy="2773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6840" y="48006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tion 10.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set of data is normally distributed, what percent of the data is within 1.5 standard deviations of the mean (use your char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-score: 1.5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9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9332 - .5 = .433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4332 *2 = .866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000400" cy="3200400"/>
          </a:xfrm>
          <a:prstGeom prst="rect">
            <a:avLst/>
          </a:prstGeom>
          <a:ln w="0">
            <a:noFill/>
          </a:ln>
        </p:spPr>
      </p:pic>
      <p:sp>
        <p:nvSpPr>
          <p:cNvPr id="231" name="Freeform 4"/>
          <p:cNvSpPr/>
          <p:nvPr/>
        </p:nvSpPr>
        <p:spPr>
          <a:xfrm>
            <a:off x="4876920" y="3581280"/>
            <a:ext cx="2173320" cy="2978280"/>
          </a:xfrm>
          <a:prstGeom prst="pie">
            <a:avLst/>
          </a:prstGeom>
          <a:solidFill>
            <a:srgbClr val="ffff00">
              <a:alpha val="43000"/>
            </a:srgbClr>
          </a:solidFill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Pages 659 – 660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nstantia"/>
              </a:rPr>
              <a:t>1 - 16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distribution is the most commonly used distribution. It is a distribution of z- scor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m?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7D23-425B-4AFE-8E57-FBEBD4A127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Z Sco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z-score is a way to compare how an individual value relates to the rest of the data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 minus the mean then divided by the standard dev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2743200" y="3200400"/>
                <a:ext cx="288144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2B5-7777-4DE5-8CED-D6F58326D5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orem (page 217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ndard Normal Curve (z distribution) is the distribution of normally distributed standard scores with </a:t>
            </a: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mean equal to zero and a standard deviation of on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w data – original 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ndardized data – th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tead of finding probabilities by hand for each z-score, mathematicians have created a table that easily finds the probability.  Let’s explore how it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rn to page 87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chart tells you the probability of every outcome occurring UP TO the given z- sco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probability of an event greater than the z-score, you will need to do 1 – the number in the char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 careful – z-charts are different depending on the book!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381880" cy="6305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Z – score : 1.65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181480" y="3886200"/>
            <a:ext cx="457200" cy="152280"/>
          </a:xfrm>
          <a:prstGeom prst="rect">
            <a:avLst/>
          </a:prstGeom>
          <a:solidFill>
            <a:srgbClr val="0f6fc6">
              <a:alpha val="16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if your z-score is negative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table only gives you positive z-sc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find the area with a negative z-scor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– area of positive z-sc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: z score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z = -1.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up 1.35 ;  .91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 - .9115= .088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t a randomly chosen observation from a standard normal distribution is less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 – score: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t: .831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 83.15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26668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ample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the probability than an observation from a normally distributed random variable falls within the given rang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. between 0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. greater than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. less than -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. Between -.96 and .9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-104760" y="3276720"/>
            <a:ext cx="29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area at .96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328920" y="327672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8315 - .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923080" y="327672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3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147600" y="41148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851920" y="426708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5501160" y="426708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2"/>
          <p:cNvSpPr/>
          <p:nvPr/>
        </p:nvSpPr>
        <p:spPr>
          <a:xfrm>
            <a:off x="-143640" y="6273720"/>
            <a:ext cx="32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2(.3315) = .6630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147600" y="510552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area at .9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4"/>
          <p:cNvSpPr/>
          <p:nvPr/>
        </p:nvSpPr>
        <p:spPr>
          <a:xfrm>
            <a:off x="3004200" y="5029200"/>
            <a:ext cx="17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1 - .831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5"/>
          <p:cNvSpPr/>
          <p:nvPr/>
        </p:nvSpPr>
        <p:spPr>
          <a:xfrm>
            <a:off x="5653440" y="5029200"/>
            <a:ext cx="12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.1685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1:07:47Z</dcterms:created>
  <dc:creator>Laura Helbing</dc:creator>
  <dc:description/>
  <dc:language>en-US</dc:language>
  <cp:lastModifiedBy>Laura Helbing</cp:lastModifiedBy>
  <dcterms:modified xsi:type="dcterms:W3CDTF">2011-05-05T01:38:39Z</dcterms:modified>
  <cp:revision>4</cp:revision>
  <dc:subject/>
  <dc:title>Finding Probabilities using the Standard Normal Distribution</dc:title>
</cp:coreProperties>
</file>