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C03-A971-48D1-9088-1E04022D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DD75-2338-42B9-8F51-827C5237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76E-5F9E-4402-A089-662FF58F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16FA-015E-4CA6-AE7E-537C649F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F569-C527-4F52-91D1-0DCC774B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15EB-1C31-4A6F-A393-FE28F9FF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1F78-659C-43F0-BF30-28A22C0C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087D-4360-4068-A3C5-34298120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E260-51B9-4582-AB1B-10A38664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42EF-4DC3-46FA-B437-6D041BA4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AE8C-BFB6-4021-A374-9B2C7757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1B4-FEB0-4F43-861B-945DB9C8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54B4-63E5-495F-B278-084C5440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D874-E558-4755-AA51-C2A824B5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CF2D-9F76-427E-B00B-05A57197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ABD9-4995-4B94-BEBD-F809BAB2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E30B-6E9E-49C6-8DB6-13B5E31A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7591D-5417-4E0D-B7F3-3158B99B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67A3B-4C81-464E-9178-BEEC3159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3070B-4A64-4B7E-BAC9-F4B98A8B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A7121-50B6-40CD-9894-EA1301EE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C7F0F-4F9B-43DB-ADDE-05CAAAB8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26D-3980-4629-92F2-D16AF475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DB372-3E32-469A-B39E-755A646F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7CCD4-7A9C-4113-9A17-BF70EE33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FF210-93BC-424E-9F0A-DFC1F65C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0083D-4DA8-4EE7-BBDE-34ABD63D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14CE7-9AC0-4DF8-AAAA-08F3FA81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E468D-714D-47CC-B033-BEDAE83B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50F27-D0B6-4518-A915-C65B3792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259CD-C840-467C-96D4-12F42B30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8266F-E9E1-452B-9B68-B5D1CBFD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FCAB1-9296-4BB4-A49E-E007FD37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380C-8776-40C2-9387-4D2F50F9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11CF8-610F-4CFF-BC12-3C305D92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7DB51-BCFF-493A-9B9D-CB933D36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7DAF7-E825-458B-8699-C44D1127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48B27-8BF4-4F06-A745-43D5B95C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D7F37-F740-49EA-A85F-360B5245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0588A-CE9C-4B50-B272-8F1D156D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F1AD2-67B2-4A25-A611-80A86635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DE8AD-C6BE-4847-91EE-FD871336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82DB5-9EDE-4B49-8DC4-BE477C69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A1F6-A3BD-42F6-B7AA-DC630642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4C7-0E34-4B95-B4C9-BB4FAF23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82E-00E0-4A88-895B-EC7E7A39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CA68-6E79-4525-B0F2-7EB95B6B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A9B-0B61-48EE-8E64-A9D31885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CBED-55BE-4449-92AE-10CB3E5BC04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0A27-11D1-484C-81C2-4F8135002B1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F463-236C-4FDB-BC2F-12B64DA0F11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6069-FC7B-4B31-BD03-8392CD18F2B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551800" cy="2773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6840" y="48006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tion 10.5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a set of data is normally distributed, what percent of the data is within 1.5 standard deviations of the mean (use your chart!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Z-score: 1.5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rt: .933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9332 - .5 = .433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4332 *2 = .866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5000400" cy="3200400"/>
          </a:xfrm>
          <a:prstGeom prst="rect">
            <a:avLst/>
          </a:prstGeom>
          <a:ln w="0">
            <a:noFill/>
          </a:ln>
        </p:spPr>
      </p:pic>
      <p:sp>
        <p:nvSpPr>
          <p:cNvPr id="231" name="Freeform 4"/>
          <p:cNvSpPr/>
          <p:nvPr/>
        </p:nvSpPr>
        <p:spPr>
          <a:xfrm>
            <a:off x="4876920" y="3581280"/>
            <a:ext cx="2173320" cy="2978280"/>
          </a:xfrm>
          <a:prstGeom prst="pie">
            <a:avLst/>
          </a:prstGeom>
          <a:solidFill>
            <a:srgbClr val="ffff00">
              <a:alpha val="43000"/>
            </a:srgbClr>
          </a:solidFill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nstantia"/>
              </a:rPr>
              <a:t>Pages 659 – 660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nstantia"/>
              </a:rPr>
              <a:t>1 - 16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andard normal distribution is the most commonly used distribution. It is a distribution of z- sc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member them?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6597-F6DD-4AF9-BEBA-BA7262728A1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Z Sco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z-score is a way to compare how an individual value relates to the rest of the data s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lue minus the mean then divided by the standard devi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6"/>
              <p:cNvSpPr txBox="1"/>
              <p:nvPr/>
            </p:nvSpPr>
            <p:spPr>
              <a:xfrm>
                <a:off x="2743200" y="3200400"/>
                <a:ext cx="288144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C03E-3C98-4C8F-BD2D-A9F8521C6C6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orem (page 217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andard Normal Curve (z distribution) is the distribution of normally distributed standard scores with </a:t>
            </a: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mean equal to zero and a standard deviation of on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w data – original sc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ndardized data – the z-sc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ead of finding probabilities by hand for each z-score, mathematicians have created a table that easily finds the probability.  Let’s explore how it wor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rn to page 87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chart tells you the probability of every outcome occurring UP TO the given z- sco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find the probability of an event greater than the z-score, you will need to do 1 – the number in the cha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 careful – z-charts are different depending on the book!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381880" cy="63057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Z – score : 1.65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181480" y="3886200"/>
            <a:ext cx="457200" cy="152280"/>
          </a:xfrm>
          <a:prstGeom prst="rect">
            <a:avLst/>
          </a:prstGeom>
          <a:solidFill>
            <a:srgbClr val="0f6fc6">
              <a:alpha val="16000"/>
            </a:srgbClr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hat if your z-score is negative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r table only gives you positive z-sco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find the area with a negative z-scor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 – area of positive z-sc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: z score 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z = -1.3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ok up 1.35 ;  .911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 - .9115= .088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d the probability that a randomly chosen observation from a standard normal distribution is less than 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Z – score: 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rt: .831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 83.15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266688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d the probability than an observation from a normally distributed random variable falls within the given rang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. between 0 and 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. greater than 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. less than -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. Between -.96 and 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-104760" y="3276720"/>
            <a:ext cx="29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rea at .96 - .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3328920" y="3276720"/>
            <a:ext cx="18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.8315 - .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5923080" y="327672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.331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147600" y="411480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 - area at .96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2851920" y="426708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 - .831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5501160" y="426708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.168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-143640" y="6273720"/>
            <a:ext cx="32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2(.3315) = .663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147600" y="510552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 - area at .96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Box 14"/>
          <p:cNvSpPr/>
          <p:nvPr/>
        </p:nvSpPr>
        <p:spPr>
          <a:xfrm>
            <a:off x="3004200" y="502920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 - .831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15"/>
          <p:cNvSpPr/>
          <p:nvPr/>
        </p:nvSpPr>
        <p:spPr>
          <a:xfrm>
            <a:off x="5653440" y="502920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.168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1:07:47Z</dcterms:created>
  <dc:creator>Laura Helbing</dc:creator>
  <dc:description/>
  <dc:language>en-US</dc:language>
  <cp:lastModifiedBy>Laura Helbing</cp:lastModifiedBy>
  <dcterms:modified xsi:type="dcterms:W3CDTF">2011-05-05T01:38:39Z</dcterms:modified>
  <cp:revision>4</cp:revision>
  <dc:subject/>
  <dc:title>Finding Probabilities using the Standard Normal Distribution</dc:title>
</cp:coreProperties>
</file>