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3D9-ACBE-4EB6-A988-EDED654C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666-AA01-4167-9DD4-38DEAE3B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13E-E2F6-4631-B969-04910A9A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33A-678B-4BB7-A406-6154312E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E790-E8F3-4C96-9C72-57423582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91CC-5FB2-49DB-AA7C-3D9A7171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1F05-4FDF-4089-9F3C-AF8F0C6B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E09C-D9F1-4DC9-8697-5DC562F5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8453-54B3-4D86-95EB-73F061C6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9908-4AA4-42E6-9CB1-7A20935E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5F5D-2D97-4ED0-A170-C3C202EC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780-D1D6-42FE-921C-D9454E80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7F30-DF51-4FEA-AA1B-0787F6DF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196F-6E44-4BCD-B074-9AC43D4E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B0E2-B703-4B4A-861E-215507B7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6D27-DDDD-496B-9EE8-CA86CA01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5E43-C30D-4175-9936-ED45500E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2E5D-4170-4A8C-8C3A-60977C62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B78C2-5615-48A1-83B5-90FB48F2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60EA1-F9D2-4CAC-AC29-BA8B70C8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A331F-73E2-4210-AB51-7F06FB80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F732A-A05B-4CBE-8988-599F812D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0F6-CEF9-4C54-8F1A-E81A849D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A55E8-DBA5-4BB7-B7B7-FC0A41B7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99889-47E8-429F-A22E-B6313F56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26B51-9FCA-46C7-835E-7C56374C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EF980-D914-4270-B012-42BEE474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56A3C-C143-4A90-9270-8CC77A0D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6EAB7-E564-455A-A106-6AB90D75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5729-8C14-4A95-81E3-7124C3E0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A8EC3-C0BD-422F-95C4-7B9D8D3E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365D1-F691-43B8-A5FA-BE319D61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1B92D-1C06-4655-A6BD-FCBFF92E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1C4-A1D4-4A2D-AE64-7DCE020E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5F772-8A70-45E6-8E91-DA38DF0A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E57C-8FFD-4406-AC93-043DEA89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E2868-9058-4FE1-A081-2FFACFE1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3FFBD-C44A-4A72-9113-5040F672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ED961-424F-480E-8D68-02505E61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1A84D-6C9F-40D5-BF61-C62142D5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4EC3-134B-4CBE-83B7-443D299A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40B21-CCE3-45CA-B643-D30A8DD1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D79F5-C944-4098-920A-281A060F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D0F-7FB2-42AA-A3E5-854F6977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136-25A6-487B-8AD2-655D55B6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C6E-05E6-42F0-8EE2-74F2F5D2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590-38FB-4C85-8622-8F8F1B54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96F-6045-4D99-8CD0-4BCE15C4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C888-B02B-4114-BF61-02458C5E8B7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89C1-8E3D-4F3C-8C46-68FD97AB382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1A96-1EA2-496C-A8E4-BBEFCC2E0F6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EB43-ACD8-459E-9FD3-CD8C5C47DF8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551800" cy="2773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6840" y="48006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tion 10.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a set of data is normally distributed, what percent of the data is within 1.5 standard deviations of the mean (use your chart!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Z-score: 1.5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rt: .933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9332 - .5 = .433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4332 *2 = .866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5000400" cy="3200400"/>
          </a:xfrm>
          <a:prstGeom prst="rect">
            <a:avLst/>
          </a:prstGeom>
          <a:ln w="0">
            <a:noFill/>
          </a:ln>
        </p:spPr>
      </p:pic>
      <p:sp>
        <p:nvSpPr>
          <p:cNvPr id="231" name="Freeform 4"/>
          <p:cNvSpPr/>
          <p:nvPr/>
        </p:nvSpPr>
        <p:spPr>
          <a:xfrm>
            <a:off x="4876920" y="3581280"/>
            <a:ext cx="2173320" cy="2978280"/>
          </a:xfrm>
          <a:prstGeom prst="pie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nstantia"/>
              </a:rPr>
              <a:t>Pages 659 – 660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nstantia"/>
              </a:rPr>
              <a:t>1 - 16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ndard normal distribution is the most commonly used distribution. It is a distribution of z- sc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member them?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6853-9EFA-4594-953C-C6F7498DBED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Z Sco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z-score is a way to compare how an individual value relates to the rest of the data s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lue minus the mean then divided by the standard devi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2743200" y="3200400"/>
                <a:ext cx="288144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3FF1-FED4-4D43-B956-43031FEF70C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orem (page 217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ndard Normal Curve (z distribution) is the distribution of normally distributed standard scores with 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mean equal to zero and a standard deviation of on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w data – original sc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ndardized data – the z-sc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ead of finding probabilities by hand for each z-score, mathematicians have created a table that easily finds the probability.  Let’s explore how it wor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rn to page 87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chart tells you the probability of every outcome occurring UP TO the given z- sco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find the probability of an event greater than the z-score, you will need to do 1 – the number in the cha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 careful – z-charts are different depending on the book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381880" cy="63057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Z – score : 1.65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181480" y="3886200"/>
            <a:ext cx="457200" cy="152280"/>
          </a:xfrm>
          <a:prstGeom prst="rect">
            <a:avLst/>
          </a:prstGeom>
          <a:solidFill>
            <a:srgbClr val="0f6fc6">
              <a:alpha val="16000"/>
            </a:srgbClr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if your z-score is negative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r table only gives you positive z-sco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find the area with a negative z-sco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 – area of positive z-sc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: z score 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z = -1.3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ok up 1.35 ;  .911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 - .9115= .088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the probability that a randomly chosen observation from a standard normal distribution is less than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Z – score: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rt: .831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 83.1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26668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the probability than an observation from a normally distributed random variable falls within the given ran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between 0 and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greater than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. less than -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. Between -.96 and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-104760" y="3276720"/>
            <a:ext cx="29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rea at .96 - .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3328920" y="3276720"/>
            <a:ext cx="18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8315 - .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5923080" y="327672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331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147600" y="411480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 - area at .96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2851920" y="426708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 - .831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5501160" y="426708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168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-143640" y="627372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(.3315) = .663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147600" y="510552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 - area at .96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3004200" y="502920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 - .831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5653440" y="502920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168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1:07:47Z</dcterms:created>
  <dc:creator>Laura Helbing</dc:creator>
  <dc:description/>
  <dc:language>en-US</dc:language>
  <cp:lastModifiedBy>Laura Helbing</cp:lastModifiedBy>
  <dcterms:modified xsi:type="dcterms:W3CDTF">2011-05-05T01:38:39Z</dcterms:modified>
  <cp:revision>4</cp:revision>
  <dc:subject/>
  <dc:title>Finding Probabilities using the Standard Normal Distribution</dc:title>
</cp:coreProperties>
</file>