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EB66-7896-4823-BE85-7BA7F3EE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C708-240A-4E97-A7CB-DE8953C1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E4E2-1A3E-4D59-8CF2-831ECD65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134C-59F2-433D-9004-6EB52BE22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24A0-07B6-48B1-A253-C20B1C2F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5896-CCF8-49E9-8F78-83DCF9D7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0D29-1AC4-4F8A-8B6D-482606A0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F24F-0592-44A6-8EC2-35BAFB85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F5EE-454C-4970-8B85-4112ED85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787E-EDBF-4409-A7F6-6A74BAC8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5872-E6DB-491B-A6CC-07F84DF9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FEEB-E6B9-45AB-819A-B41D7DE7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F083-AE7D-4CC4-981E-6220BA6F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BA61-6A47-49E9-8669-074CFA9A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CD11-2D3D-4A11-B1E1-F71C2ECB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5A1F-716E-4D28-A987-214A0B43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F1DB-D0A6-4A16-B9D2-4C05E836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12C04-C13A-43E3-A591-03CE28BF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DEAC6-A872-4B19-99EE-279D1EEF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EBF11-2325-4C94-90D8-3FB8AA41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75C4B-D73C-4160-9D79-E13F15C3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60340-C62D-4125-A3E3-505160AE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F23D-E5AA-4485-8492-FCEF528D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7CCE2-C863-4B6B-A6C6-4CD62A3F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6A526-7B27-4495-BB2B-80836C0D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0591A-1720-4E24-8184-AB185EDE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97AE2-0A13-4704-A1DF-783B2E0A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1F2C2-0C36-42FB-853D-D73766B9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4E7FC-117E-45D1-9772-BADD2D36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5B869-46FB-4C2F-BD5E-11CFA6B0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C324F-C027-4F3A-992D-385EAF52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9A475-D6CF-487D-8DF8-342880F6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1830C-5BDA-425D-9269-B1D613B1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AEE0-9456-4AC7-9833-E523F6A8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74774-7AD6-4B68-9CFD-B42A0ABA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419BE-E162-461D-877B-94801E45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2195D-E336-4E96-9BB2-6145689C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E8E1C-D033-4539-A12E-C5808611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FACFE-9B7F-4371-8687-F0CCF3CE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6D62D-88F8-47E4-BABE-C86CB0B4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244B5-F804-4BFF-9446-4125FEF1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9DFB5-DF89-41C2-B266-873FAF726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349D4-5225-4FCD-AF27-8FC39493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DED4-6FBE-4DA8-B33B-18289EE7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107A-0C1C-4F31-8366-7EFB718F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85C0-4847-4DF3-B28F-1B90CE3E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C0AE-48C6-432F-9C2E-3FB6552D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CD9A-1F32-44DE-A89F-F0FC9F25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95CD-B77B-4EF3-B21B-8BF2AB0D4B0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067F-A79F-45A3-A7FD-F0D40E12D85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F830-CDD0-4B16-ADF8-3950B8D794F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4CC9-EF8A-4593-BF7E-C329997ADE3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420840" y="493560"/>
            <a:ext cx="8551800" cy="2773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6840" y="480060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tion 10.5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3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a set of data is normally distributed, what percent of the data is within 1.5 standard deviations of the mean (use your chart!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Z-score: 1.5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art: .933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9332 - .5 = .433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4332 *2 = .866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5000400" cy="3200400"/>
          </a:xfrm>
          <a:prstGeom prst="rect">
            <a:avLst/>
          </a:prstGeom>
          <a:ln w="0">
            <a:noFill/>
          </a:ln>
        </p:spPr>
      </p:pic>
      <p:sp>
        <p:nvSpPr>
          <p:cNvPr id="231" name="Freeform 4"/>
          <p:cNvSpPr/>
          <p:nvPr/>
        </p:nvSpPr>
        <p:spPr>
          <a:xfrm>
            <a:off x="4876920" y="3581280"/>
            <a:ext cx="2173320" cy="2978280"/>
          </a:xfrm>
          <a:prstGeom prst="pie">
            <a:avLst/>
          </a:prstGeom>
          <a:solidFill>
            <a:srgbClr val="ffff00">
              <a:alpha val="43000"/>
            </a:srgbClr>
          </a:solidFill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ome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nstantia"/>
              </a:rPr>
              <a:t>Pages 659 – 660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nstantia"/>
              </a:rPr>
              <a:t>1 - 16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tandard normal distribution is the most commonly used distribution. It is a distribution of z- sco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member them?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FD65-5519-4B9B-8313-9F7AFFA7E4A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Z Sco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z-score is a way to compare how an individual value relates to the rest of the data s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alue minus the mean then divided by the standard devi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6"/>
              <p:cNvSpPr txBox="1"/>
              <p:nvPr/>
            </p:nvSpPr>
            <p:spPr>
              <a:xfrm>
                <a:off x="2743200" y="3200400"/>
                <a:ext cx="2881440" cy="16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44DF-EE69-4C17-940C-1B6865BB2BD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orem (page 217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tandard Normal Curve (z distribution) is the distribution of normally distributed standard scores with </a:t>
            </a:r>
            <a:r>
              <a:rPr b="1" lang="en-US" sz="2600" spc="-1" strike="noStrike">
                <a:solidFill>
                  <a:srgbClr val="04617b"/>
                </a:solidFill>
                <a:latin typeface="Constantia"/>
              </a:rPr>
              <a:t>mean equal to zero and a standard deviation of on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w data – original sco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ndardized data – the z-sco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686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tead of finding probabilities by hand for each z-score, mathematicians have created a table that easily finds the probability.  Let’s explore how it work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urn to page 87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chart tells you the probability of every outcome occurring UP TO the given z- sco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find the probability of an event greater than the z-score, you will need to do 1 – the number in the char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 careful – z-charts are different depending on the book!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8381880" cy="63057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Z – score : 1.65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181480" y="3886200"/>
            <a:ext cx="457200" cy="152280"/>
          </a:xfrm>
          <a:prstGeom prst="rect">
            <a:avLst/>
          </a:prstGeom>
          <a:solidFill>
            <a:srgbClr val="0f6fc6">
              <a:alpha val="16000"/>
            </a:srgbClr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What if your z-score is negative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r table only gives you positive z-sco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find the area with a negative z-scor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 – area of positive z-sco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: z score 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z = -1.3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ok up 1.35 ;  .911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 - .9115= .088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1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nd the probability that a randomly chosen observation from a standard normal distribution is less than .9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Z – score: .9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art: .831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 83.15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266688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nd the probability than an observation from a normally distributed random variable falls within the given rang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. between 0 and .9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. greater than .9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. less than -.9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. Between -.96 and .9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-104760" y="3276720"/>
            <a:ext cx="29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area at .96 - .5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3328920" y="3276720"/>
            <a:ext cx="18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.8315 - .5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5923080" y="3276720"/>
            <a:ext cx="12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.3315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TextBox 6"/>
          <p:cNvSpPr/>
          <p:nvPr/>
        </p:nvSpPr>
        <p:spPr>
          <a:xfrm>
            <a:off x="147600" y="4114800"/>
            <a:ext cx="286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1 - area at .96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TextBox 7"/>
          <p:cNvSpPr/>
          <p:nvPr/>
        </p:nvSpPr>
        <p:spPr>
          <a:xfrm>
            <a:off x="2851920" y="4267080"/>
            <a:ext cx="17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1 - .8315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TextBox 8"/>
          <p:cNvSpPr/>
          <p:nvPr/>
        </p:nvSpPr>
        <p:spPr>
          <a:xfrm>
            <a:off x="5501160" y="4267080"/>
            <a:ext cx="12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.1685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TextBox 12"/>
          <p:cNvSpPr/>
          <p:nvPr/>
        </p:nvSpPr>
        <p:spPr>
          <a:xfrm>
            <a:off x="-143640" y="6273720"/>
            <a:ext cx="322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2(.3315) = .6630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147600" y="5105520"/>
            <a:ext cx="286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1 - area at .96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TextBox 14"/>
          <p:cNvSpPr/>
          <p:nvPr/>
        </p:nvSpPr>
        <p:spPr>
          <a:xfrm>
            <a:off x="3004200" y="5029200"/>
            <a:ext cx="17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1 - .8315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TextBox 15"/>
          <p:cNvSpPr/>
          <p:nvPr/>
        </p:nvSpPr>
        <p:spPr>
          <a:xfrm>
            <a:off x="5653440" y="5029200"/>
            <a:ext cx="12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.1685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1:07:47Z</dcterms:created>
  <dc:creator>Laura Helbing</dc:creator>
  <dc:description/>
  <dc:language>en-US</dc:language>
  <cp:lastModifiedBy>Laura Helbing</cp:lastModifiedBy>
  <dcterms:modified xsi:type="dcterms:W3CDTF">2011-05-05T01:38:39Z</dcterms:modified>
  <cp:revision>4</cp:revision>
  <dc:subject/>
  <dc:title>Finding Probabilities using the Standard Normal Distribution</dc:title>
</cp:coreProperties>
</file>