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A3E-8593-45F1-B38F-45EF632E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33C-0415-4AD6-BC14-59357D76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A35-2349-4138-B979-990219B6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B0F-D4B0-4575-81AD-A9F39E07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D01-873E-4C27-85FE-C06CD027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4E80-F242-419D-94B6-6EAB7CA6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310A-BD86-4F95-AAE3-DA6045E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2C57-AF99-4E2A-8EF0-A0896D0A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A64-5567-48F7-ADE2-AD621BA4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8883-7C75-4139-82BE-6137C3B8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8D1B-D427-4E7D-B236-E84F39F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CC4-9E7C-47AE-8EA9-5A5B39A6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5FB3-CF40-44C2-8DF1-651E220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08DE-20CA-47B6-AA4E-FF60AA1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2087-874E-401A-A44F-BC35D894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0BC6-4FE9-490A-BDC5-420AF208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D621-F4BF-49D5-91E2-62FB93E4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BC54-F6E1-43BC-A3D6-1CB93F4A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69DE-AC06-4FD6-A0C4-644F8EF4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FB14-DB03-4A3F-AA53-8AFE42C9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335C-670F-4824-84D0-55C0ED0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76E7-B177-4AFE-84A0-26D91729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A6B-37E9-46BE-A96E-20B2ED9D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F4C8-B713-46E9-BB30-9D1BA7DD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DBAF-FB62-4D11-8147-69B4AC09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3410-6505-4B5D-ADFA-CEB557D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94FA-CB0C-4B93-97FD-02B36DDD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03BA-AEFD-4970-819E-A2AC10C6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1A2E-20A9-48BF-821E-44C96CB5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F098-A0E2-42AD-9621-A7DDD55B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5842-C073-4FF0-97B7-20AFEEF7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DF29-E26E-4B8B-A0FC-CB45D90D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00E07-BEF6-44BD-A34A-F3EE6260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A30-B323-4E25-A6FD-C806EDE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F9EEF-6C18-4D5B-8773-BD8F993C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E5BB-BBDF-4521-BF30-00E48D3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F552-DB38-43BF-8049-E24C7AB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3493-54B1-4467-A38D-740CF66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239C-FFE1-466E-98BF-7E622F7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7152-3EF8-4BD5-A968-76C08F0D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C41D-8B59-4A10-B54F-4A1D5AE4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8744-EB14-4B6B-9887-0F23B64A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B394-3050-4AE0-BE88-024C870E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47E8-6B47-4710-8ACA-AAEAE382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52C-503D-4754-9A23-6E105C2D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AA28-40B0-4C38-A575-F9E303D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2E1D-915B-4D88-9250-81CD767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283ED-F652-4F03-B3C1-325FD5F8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DE9B0-7E0A-49BB-ADA0-ED23CC9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B3BC-2C3B-4A20-AAF6-970232BE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335F-939D-4B0A-A03E-FAAAFAB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A2A94-978E-4A11-BB2D-317C6100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46DD1-288B-403A-871D-34957EA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C2C6-48E1-4220-B31D-35CA020E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CE70-F7A7-40BB-90BB-69C4C302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B17-8B3B-451B-B32E-9D7162B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0D00-CBC8-4115-91AC-425C8C6D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A45-598B-4CF4-9312-72EA1D0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57A-0D51-476F-8836-8C631977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59D-A827-4555-AE12-854F045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0080-FC99-48C7-9F41-9E9C6511D9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4D0-3801-48F5-85E6-A48E84CBE41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B6C7-74F1-4A32-B114-087773B3932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9FAD-201D-4DF9-8D5D-A9C2FA89763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566-6191-43DC-9B66-35DE1090BC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Perpetua"/>
              </a:rPr>
              <a:t>Section 10.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Curve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Definition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n increases, the values of the binomial distribution approach those of a continuous function called a normal distribu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rent normal curv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4114800" y="2514600"/>
                <a:ext cx="2027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Properties of 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Domain : set of real numbers, range: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The max value of the function is 1; this occurs when x = 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. f is an even function, so y-axis is the axis of symmet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. x- axis is an asymptote of the fun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. the graph changes concavity w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038480" y="533520"/>
                <a:ext cx="2027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324480" y="3200400"/>
                <a:ext cx="16621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066680" y="4029120"/>
            <a:ext cx="4419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Standard normal curve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765760" y="0"/>
                <a:ext cx="3378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9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why, if t is a positive real number, the valu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-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an never be greater than 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nce t is a positive number,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ust be greater than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us, this fraction will always be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"/>
              <p:cNvSpPr txBox="1"/>
              <p:nvPr/>
            </p:nvSpPr>
            <p:spPr>
              <a:xfrm>
                <a:off x="1447920" y="2590920"/>
                <a:ext cx="217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dy!  Quiz tomorrow on sections 10.1 – 10.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ges 652 – 65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 – 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7 - 2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0:45:40Z</dcterms:created>
  <dc:creator>Laura Helbing</dc:creator>
  <dc:description/>
  <dc:language>en-US</dc:language>
  <cp:lastModifiedBy>Laura Helbing</cp:lastModifiedBy>
  <dcterms:modified xsi:type="dcterms:W3CDTF">2011-05-08T02:02:16Z</dcterms:modified>
  <cp:revision>10</cp:revision>
  <dc:subject/>
  <dc:title>Normal Curves</dc:title>
</cp:coreProperties>
</file>