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7077075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6FC9-CA11-40A1-9E79-D4A4A6588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7A5D-333A-47AE-836F-452323C9C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254F-109D-45D1-A253-528DE5266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3B87-93E1-49A0-A6D6-43477DF5B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D8F56-AC26-4A62-9E2F-C7A11A7A8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85BA1-EF9B-4BFA-81F6-95D8277D1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E8128-D217-43B4-8F48-451D52D56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42C33-A569-4523-A322-F31987A74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84427-E18B-417F-9E43-5E9342BA9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FA127-887A-41DA-BEEE-CD8EC6534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0D554-CD9B-4E1A-BF3D-AAD3CC572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40D7-A628-4624-85FD-5C2F10A2B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1A7D1-776B-498E-9916-761671AA5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7E523-BC43-4A59-8628-F967F1E0B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7994E-9667-4C1D-B9A9-B1CA95B14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3194E-8469-4763-A81A-9B3E81413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64CF5-9865-44D6-AED8-BB07903B1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6FDFC8-B9CE-4FD1-8074-901EEA880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164E87-22EE-4F24-A0C7-CD5DE3920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A7324F-54E4-4CC0-92BF-40383106C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F91D0A-FEE4-47FF-8D41-569BAC788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CAE20A-CD48-4DF1-8843-209903FC2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516E-47B5-431E-880B-7D54BF3A3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18399C-76B9-47C4-AB28-0D7A58D06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33ECC9-7C5A-432D-ACB3-BF8040D74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D8DD6D-8D1E-4B7D-A46C-AA8B35F7F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50B51B-4861-4F17-BCDE-DC6F26F56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A79B5A-5E77-49CC-BE5D-C81B52E56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A3B86D-5E5F-41D2-B130-5512094EC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18DF88-A97D-4B16-AB4E-34D7FB0C8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6F4BE2-4066-404E-BCB0-446BCE3FF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3B8EF8-0B93-46FD-AB01-B997ADB9F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C742E4-4C9C-42A3-AAF6-B0EAA4F85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D3D3-90BD-4F29-B884-4FD3CE07B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DDFCE7-E909-4BB1-B3FC-BBBCFB41A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A4FE75-8914-45F9-9758-C48CD869E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9438D8-E799-4277-9C17-89FCB13D6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B87D58-5078-40D9-B0CF-8A70C97CE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8889C2-3A04-4650-8900-1F30EB312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FF5443-567B-40F8-994A-4624A5055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1107C1-3581-4F16-89D1-AF2A09C65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7B9961-5760-4040-83DF-C5A604441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8E2B84-D539-44DC-8EA4-426F65C30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9CEB04-FE01-4D77-93A5-EFE8742A5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B4B0-599E-422A-A6BE-925D608B6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F7D7F4-560D-43AC-BC65-BE4B2C0CB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A108EF-EED8-4AF2-8988-A3376A005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F95762-6FF4-4D4E-A8FC-8C4F20286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D0FC15-A693-4034-960C-EEC812960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08CFBB-D235-4A13-B9E8-FDB7207F9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CB10F9-00F8-4BC0-8663-11A9E36B6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7937AA-1CA8-4488-87AA-1A3BE1AEC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E6592D-B4F4-4707-AD49-D36FA5EB6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412072-65F4-4B73-A719-7D364813C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E7DAD6-1108-44CB-9C68-A0221C0CB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2649-395A-449B-AD28-FE4A45E41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06B8BA-63CB-497E-AEC8-F5D96C8E7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ADE9-8C3B-48FF-AB9B-BE2F8E4DF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5CE6-0E47-4EEC-935E-899899876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9199-CDB4-4F9C-98C9-24D140EAD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66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e4005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ffaec5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9c007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9c007f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6666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66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ff388c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0D689-00C9-46E6-B97A-31AA28F25403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ffae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005b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66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e4005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ffaec5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9c007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9c007f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6666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66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ff388c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AFC2B-4B1E-4348-A94C-A17D4BED48D3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ffae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005b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66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e4005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ffaec5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9c007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9c007f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6666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66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ff388c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B2BFB-0EE3-4EBA-A876-24DA17187327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66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e4005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ffaec5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9c007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9c007f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6666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66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ff388c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E4FC4-71E2-42E1-8D30-2AC5647F7136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ffae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005b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66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e4005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ffaec5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9c007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9c007f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6666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66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ff388c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3EC08-A04C-412B-9BD3-58142E18A646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6666"/>
                </a:solidFill>
                <a:latin typeface="Perpetua"/>
              </a:rPr>
              <a:t>Section 10.4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anklin Gothic Book"/>
              </a:rPr>
              <a:t>Normal Curves</a:t>
            </a: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66"/>
                </a:solidFill>
                <a:latin typeface="Franklin Gothic Book"/>
              </a:rPr>
              <a:t>Definitions</a:t>
            </a: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s n increases, the values of the binomial distribution approach those of a continuous function called a normal distribution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Parent normal curve: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Object 2"/>
              <p:cNvSpPr txBox="1"/>
              <p:nvPr/>
            </p:nvSpPr>
            <p:spPr>
              <a:xfrm>
                <a:off x="4114800" y="2514600"/>
                <a:ext cx="202716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233" name="Picture 3" descr=""/>
          <p:cNvPicPr/>
          <p:nvPr/>
        </p:nvPicPr>
        <p:blipFill>
          <a:blip r:embed="rId1"/>
          <a:stretch/>
        </p:blipFill>
        <p:spPr>
          <a:xfrm>
            <a:off x="2057400" y="3657600"/>
            <a:ext cx="500076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66"/>
                </a:solidFill>
                <a:latin typeface="Franklin Gothic Book"/>
              </a:rPr>
              <a:t>Properties of </a:t>
            </a: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1. Domain : set of real numbers, range: between 0 and 1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2. The max value of the function is 1; this occurs when x = 0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3. f is an even function, so y-axis is the axis of symmetry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4. x- axis is an asymptote of the func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5. the graph changes concavity whe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Object 2"/>
              <p:cNvSpPr txBox="1"/>
              <p:nvPr/>
            </p:nvSpPr>
            <p:spPr>
              <a:xfrm>
                <a:off x="4038480" y="533520"/>
                <a:ext cx="202752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Object 3"/>
              <p:cNvSpPr txBox="1"/>
              <p:nvPr/>
            </p:nvSpPr>
            <p:spPr>
              <a:xfrm>
                <a:off x="6324480" y="3200400"/>
                <a:ext cx="1662120" cy="113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±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238" name="Picture 3" descr=""/>
          <p:cNvPicPr/>
          <p:nvPr/>
        </p:nvPicPr>
        <p:blipFill>
          <a:blip r:embed="rId1"/>
          <a:stretch/>
        </p:blipFill>
        <p:spPr>
          <a:xfrm>
            <a:off x="1066680" y="4029120"/>
            <a:ext cx="441972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66"/>
                </a:solidFill>
                <a:latin typeface="Franklin Gothic Book"/>
              </a:rPr>
              <a:t>Standard normal curve</a:t>
            </a: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Object 2"/>
              <p:cNvSpPr txBox="1"/>
              <p:nvPr/>
            </p:nvSpPr>
            <p:spPr>
              <a:xfrm>
                <a:off x="5765760" y="0"/>
                <a:ext cx="3378240" cy="17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e>
                        </m:rad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num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242" name="Picture 3" descr=""/>
          <p:cNvPicPr/>
          <p:nvPr/>
        </p:nvPicPr>
        <p:blipFill>
          <a:blip r:embed="rId1"/>
          <a:stretch/>
        </p:blipFill>
        <p:spPr>
          <a:xfrm>
            <a:off x="990720" y="1752480"/>
            <a:ext cx="6994440" cy="43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66"/>
                </a:solidFill>
                <a:latin typeface="Franklin Gothic Book"/>
              </a:rPr>
              <a:t>Example 1</a:t>
            </a: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Explain why, if t is a positive real number, the value of e</a:t>
            </a:r>
            <a:r>
              <a:rPr b="0" lang="en-US" sz="2600" spc="-1" strike="noStrike" baseline="30000">
                <a:solidFill>
                  <a:srgbClr val="000000"/>
                </a:solidFill>
                <a:latin typeface="Perpetua"/>
              </a:rPr>
              <a:t>-t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can never be greater than 1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nce t is a positive number, e</a:t>
            </a:r>
            <a:r>
              <a:rPr b="0" lang="en-US" sz="2600" spc="-1" strike="noStrike" baseline="30000">
                <a:solidFill>
                  <a:srgbClr val="000000"/>
                </a:solidFill>
                <a:latin typeface="Perpetua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must be greater than 1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us, this fraction will always be between 0 and 1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5" name="Object 2"/>
              <p:cNvSpPr txBox="1"/>
              <p:nvPr/>
            </p:nvSpPr>
            <p:spPr>
              <a:xfrm>
                <a:off x="1447920" y="2590920"/>
                <a:ext cx="2178000" cy="16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66"/>
                </a:solidFill>
                <a:latin typeface="Franklin Gothic Book"/>
              </a:rPr>
              <a:t>Homework</a:t>
            </a: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tudy!  Quiz tomorrow on sections 10.1 – 10.3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Pages 652 – 653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1 – 14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17 - 22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5T00:45:40Z</dcterms:created>
  <dc:creator>Laura Helbing</dc:creator>
  <dc:description/>
  <dc:language>en-US</dc:language>
  <cp:lastModifiedBy>Laura Helbing</cp:lastModifiedBy>
  <dcterms:modified xsi:type="dcterms:W3CDTF">2011-05-08T02:02:16Z</dcterms:modified>
  <cp:revision>10</cp:revision>
  <dc:subject/>
  <dc:title>Normal Curves</dc:title>
</cp:coreProperties>
</file>