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8EC-A530-4A20-A7F3-4AB29B6D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314-CF3F-4CB9-A15E-A7B679AA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3AF-D1CA-4939-AAB2-E1116FDB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A398-A991-4422-88D1-3DE21A08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878C-D98C-410E-872A-83C58E50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49F7-FD37-413E-93F2-5F435CC7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D748-5783-454F-BFE4-764F8C66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5BC5-6A89-4A68-B000-AF02F92C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464B-76BC-4FDE-8CA4-F995797B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CF11-EB39-44C4-A170-789654B1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742E-C64C-4A20-B51A-21E217F9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BD7-77FB-4E36-8B79-06238015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C2F5-443F-454E-9D05-0A9F205F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9A8B-0700-49F6-9325-A2C920D4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B169-2A3D-4E6B-AD52-689126AF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7D4F-DBDD-4150-B66B-3341850B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5A25-86CA-432C-A382-6B20C406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632DE-10A4-410F-848E-56C13377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ECFB4-D403-4CBD-9731-BB5CEE50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13918-03BB-40E1-855B-7D77D080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1114-360E-49BD-BF94-EA747AAF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4A9FF-4692-474D-8FAA-5B4F3218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7AB3-33D5-4E75-A9A1-EB056F19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1F922-75A0-4A22-8820-65077BCA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FF3A8-AFF5-4684-90C2-82DDF4EB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94F31-369B-4C99-89BC-5D785C66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2FBC6-0706-424D-86CD-53B51584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EE68A-9F6A-4DD1-B751-F37837A9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BD6BF-1449-4B54-B357-D3F7C66D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9EAE-345B-4E9C-BB43-33A102A3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B873B-921A-4962-BEB1-C1599DCF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1E566-3D9C-4E7B-966A-02C98BB6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B1A93-5821-449C-A0E9-1D771C73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2C0-BADF-44F0-9EF8-E79FA59C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BA114-BBD1-46D5-A982-5CFD38DB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A0005-A731-4803-BFB6-D0BE2CC7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34F67-0A84-4437-9050-D7540695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35846-9A1C-4602-B4EB-57A8CB20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62798-CA65-46ED-8CB3-08F4E944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4AC23-A64C-4C14-B845-8ECB3896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E9D90-13AD-4BBB-98CE-7392A7BA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AEE4E-2E56-4735-ABDE-31EDE879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676B9-6613-423C-82DE-F88D1C9A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63471-7D90-41C1-88D8-9D5B8E07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355-B957-41A3-8678-2B858202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A0B2A-43AE-4EB0-8009-61A53E01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0CC8A-13FB-4A9E-B6E4-AD120B1C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6D629-88E9-477D-B894-EDC96A74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C438B-64B7-40EB-95F7-0EF0A138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E8BF4-D99A-494F-A4C5-7E12E589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B7E92-D2A3-47E5-ABC4-03F4DEBA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E4742-33C7-4202-85B9-94470D00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31054-65AF-49CE-BA2D-8A86E184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CD007-C2B5-4F6C-8C69-1D38BCD3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4C3E1-00A4-4198-A5C8-FE6381D9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476-2E3B-4009-9CD9-D1AE350D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69A1B-711C-4FEE-BB90-FEBC2004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0F2-1575-42E1-90C8-78A9B100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4E1-92B7-4EB6-AA61-04F93032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105-53D6-4E76-BFC0-2E4273D1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29D5-B83B-4A0B-B9D0-3DDE7BD9352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7687-251F-4706-8F6A-D473C0832BE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49D2-0703-4B83-BA78-33B993DA9E9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85A5-927F-4F01-9B71-29FA5D3B9F0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4108-C396-491C-98A9-36C5D253031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Perpetua"/>
              </a:rPr>
              <a:t>Section 10.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ormal Curves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Definitions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n increases, the values of the binomial distribution approach those of a continuous function called a normal distribu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rent normal curve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4114800" y="2514600"/>
                <a:ext cx="2027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500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Properties of 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. Domain : set of real numbers, range: between 0 and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. The max value of the function is 1; this occurs when x = 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3. f is an even function, so y-axis is the axis of symmet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4. x- axis is an asymptote of the fun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. the graph changes concavity w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4038480" y="533520"/>
                <a:ext cx="20275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6324480" y="3200400"/>
                <a:ext cx="166212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1066680" y="4029120"/>
            <a:ext cx="4419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Standard normal curve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5765760" y="0"/>
                <a:ext cx="337824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99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Example 1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lain why, if t is a positive real number, the value of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-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can never be greater than 1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nce t is a positive number,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must be greater than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us, this fraction will always be between 0 and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2"/>
              <p:cNvSpPr txBox="1"/>
              <p:nvPr/>
            </p:nvSpPr>
            <p:spPr>
              <a:xfrm>
                <a:off x="1447920" y="2590920"/>
                <a:ext cx="217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Homework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dy!  Quiz tomorrow on sections 10.1 – 10.3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ges 652 – 653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 – 1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7 - 22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0:45:40Z</dcterms:created>
  <dc:creator>Laura Helbing</dc:creator>
  <dc:description/>
  <dc:language>en-US</dc:language>
  <cp:lastModifiedBy>Laura Helbing</cp:lastModifiedBy>
  <dcterms:modified xsi:type="dcterms:W3CDTF">2011-05-08T02:02:16Z</dcterms:modified>
  <cp:revision>10</cp:revision>
  <dc:subject/>
  <dc:title>Normal Curves</dc:title>
</cp:coreProperties>
</file>