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C9CD-2795-47CD-8092-B96528D51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E61F-9F31-4256-9346-20A886B1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9C28-0D57-4E26-8AD1-94008FAA2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AF0D-EF8B-4A06-A74E-1DF16A711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BAC7-89FA-4E1F-997C-BEE157708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8241-F5FF-42CB-AB4D-E12FCB0F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B2CA-E012-49BA-B329-55AF9600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B7D2-7E05-4272-9330-9F632DF8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7D5D-3342-42FB-8B29-419CD9A4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59C6-110E-41DE-9CEB-092DD2AC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B665-7DE1-4B0E-A698-014AF36C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5EA6-32CE-4916-9706-B0A48C57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B516-4AB4-425A-B833-3AEED1C5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68E1-82EC-41FA-AFB9-CD6D7F14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122E-144B-465D-AB5D-B98A1928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EC04-84E5-43C9-BA6A-2B4273813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38F0-E31E-40FB-B9CE-45F15CE76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0302B-8FC8-4FA4-9601-1CE6DB709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5800A-4964-43B1-8816-E8C74F63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24FB3-6E4A-4234-9D21-63296114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8E335-232B-4A21-A353-B98089C1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F76E4-D946-4FA4-9867-7C6C5468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950E-2B8D-4384-B42A-E59BA68F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5CB46-0678-4F58-8AA2-D1F148DA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83E5A-5317-4F94-B885-25BA5B7F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F6065-22EE-414C-BEC5-3EC354C5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FC5AA-2BE9-4ED1-A1B8-0A375F50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45603-3509-4064-B641-BEDECFD8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EFFB6-CB38-434F-852A-084933950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6D5FB-A1DC-4D56-83CF-A99EBA406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104B8-6C50-4C1F-8889-6857579DA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85321-5A03-4DB9-AA0C-FD704C64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9DB97-64B0-4601-A75D-75975D7C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1D57-F1D5-45D4-B005-380D33DE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68554-D7F0-4909-B8C4-6332F7A7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E32F0-FC9E-43E3-B0D5-2A37221C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CF12A-3F55-44EC-A418-4BA67822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22F38-FCCC-4D98-AE9D-0FB7E63E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08916-61B9-4199-908C-AE5120B3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2A9E6-B930-4FA5-B423-F14385B6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1E005-DBCB-41B1-93B9-C0BF6CC3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1E396-4A89-4224-B7E7-963D1E996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9D3EF-F644-4F3E-A3F7-73B1BB303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9F7B2-3C3B-4587-BC3B-35BD6C329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BDFE-84AA-4611-BF1D-27B0A180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4B63A-C53D-403F-81EA-3CFBEE6B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EBD07-61B1-4FC1-A2BD-A2F51269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FE3C5-69AC-4CFD-B9AE-8E4D10CD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9D969-A298-4E93-802C-4D1B369A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5436E-E84B-4204-9145-114BBD92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1AC04-EEE5-4467-BD85-A2222775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B4E5F-45CE-4363-BBAC-B57DEFF1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6E6A1-2091-40F7-A395-5DDEFBC7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6A1EE-2D95-49D6-8BCC-B2963A07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FD783-FACB-4329-A8D2-06F85E0E0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0281-58A3-4AF0-866C-4FCF3713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55239-5F13-4C86-AF07-27565F7E6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8E5E-9198-4AA9-B88C-91A8A5C7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8A0C-8063-4DE2-BEB6-9643A410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F997-809E-4825-A640-7AF87334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faec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c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c007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B9CC-60C4-4CC6-9A61-B1F9D68F661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faec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c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c007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FDEF-F2B2-4597-9200-E30D598EDB6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faec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c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c007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801F-5592-47D8-85DF-356C87F305F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faec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c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c007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1521-332B-4B0A-8E80-06D3FBA5938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faec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c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c007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303D-6BAB-4ACB-8D61-617EA41E24A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Perpetua"/>
              </a:rPr>
              <a:t>Section 10.4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Normal Curves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Definitions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 n increases, the values of the binomial distribution approach those of a continuous function called a normal distributio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arent normal curve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4114800" y="2514600"/>
                <a:ext cx="20271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2057400" y="3657600"/>
            <a:ext cx="50007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Properties of 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1. Domain : set of real numbers, range: between 0 and 1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2. The max value of the function is 1; this occurs when x = 0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3. f is an even function, so y-axis is the axis of symmet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4. x- axis is an asymptote of the fun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5. the graph changes concavity whe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2"/>
              <p:cNvSpPr txBox="1"/>
              <p:nvPr/>
            </p:nvSpPr>
            <p:spPr>
              <a:xfrm>
                <a:off x="4038480" y="533520"/>
                <a:ext cx="20275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3"/>
              <p:cNvSpPr txBox="1"/>
              <p:nvPr/>
            </p:nvSpPr>
            <p:spPr>
              <a:xfrm>
                <a:off x="6324480" y="3200400"/>
                <a:ext cx="166212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1066680" y="4029120"/>
            <a:ext cx="441972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Standard normal curve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2"/>
              <p:cNvSpPr txBox="1"/>
              <p:nvPr/>
            </p:nvSpPr>
            <p:spPr>
              <a:xfrm>
                <a:off x="5765760" y="0"/>
                <a:ext cx="3378240" cy="17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699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Example 1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plain why, if t is a positive real number, the value of e</a:t>
            </a:r>
            <a:r>
              <a:rPr b="0" lang="en-US" sz="2600" spc="-1" strike="noStrike" baseline="30000">
                <a:solidFill>
                  <a:srgbClr val="000000"/>
                </a:solidFill>
                <a:latin typeface="Perpetua"/>
              </a:rPr>
              <a:t>-t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can never be greater than 1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nce t is a positive number, e</a:t>
            </a:r>
            <a:r>
              <a:rPr b="0" lang="en-US" sz="2600" spc="-1" strike="noStrike" baseline="30000">
                <a:solidFill>
                  <a:srgbClr val="000000"/>
                </a:solidFill>
                <a:latin typeface="Perpetua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must be greater than 1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us, this fraction will always be between 0 and 1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2"/>
              <p:cNvSpPr txBox="1"/>
              <p:nvPr/>
            </p:nvSpPr>
            <p:spPr>
              <a:xfrm>
                <a:off x="1447920" y="2590920"/>
                <a:ext cx="2178000" cy="16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Homework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udy!  Quiz tomorrow on sections 10.1 – 10.3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ages 652 – 653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1 – 14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17 - 22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00:45:40Z</dcterms:created>
  <dc:creator>Laura Helbing</dc:creator>
  <dc:description/>
  <dc:language>en-US</dc:language>
  <cp:lastModifiedBy>Laura Helbing</cp:lastModifiedBy>
  <dcterms:modified xsi:type="dcterms:W3CDTF">2011-05-08T02:02:16Z</dcterms:modified>
  <cp:revision>10</cp:revision>
  <dc:subject/>
  <dc:title>Normal Curves</dc:title>
</cp:coreProperties>
</file>