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0C6A2-C9D5-474A-B051-0850607DA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5AD8-5F71-4D3D-83B5-AC14DB414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C4E50-B480-44C5-A1C0-F1717E9BC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B77F6-0E05-4E81-94D1-12F7F7D6E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3D9B9-7CC8-45A9-96E2-B5D1DA520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0716E-2DA6-4649-8F3C-29083A647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28121-2309-4BDD-B128-4FCC54434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6BDD8-8604-4D17-AB54-9B354EA83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86C48-102B-4263-8FCF-3C557D966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86810-1459-4828-9954-201DCF3AE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79E93-F2E7-4A15-86C6-01D57E7F0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DA150-44A4-45D8-BBFC-D9F98CC44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EBC30-241D-4A39-9AE5-72D6B9C47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51E56-BAD9-4311-A558-62550CE09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840A6-F70A-4323-953B-9906FA682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7EC14-5B9F-44E2-8D22-15D049F53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A94ED-E738-40C8-9B25-0BADE4097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6C394A6-556D-4228-B0FB-D78544A7C1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B879A8-B43E-4E16-BB0F-4040CC147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D1FF7A9-BB1F-41F3-86DC-EDA9BB45B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8097A5-1AFA-41D5-8FD9-A312C6E74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2B71A2-B9FF-4734-98C4-5D29F47DF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BE8C7-766A-4C90-BF9B-501791681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DA2D70-D4E3-4920-85B4-F2A6611A20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93784D-2614-4840-90EA-E7013054A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CD345C-29F8-43D4-B36F-21916E2CF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2B10F1-3D54-4D01-AD39-B9E86C79B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190FE7-7326-48A2-9F09-163AFF4B6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A3B628-FCE8-4804-8B34-7AF5FF562B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50F25AC-7792-4063-A489-2FF865C68F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CE4CF7-F04A-4655-B1AB-8291ABAB82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42A7A9-2148-49F4-A9CA-660A73526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C1FF9-C391-4D21-8673-708B7C55A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75D61-06A2-401B-84DD-9EF59E0CE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4007B-A636-4D5E-AB13-3CA5ADF75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46841-E84D-40C0-A2F0-EA1C0CCB7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D5F63-D930-4550-A224-2E79C5D98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2A913-07F6-4D0A-A845-4086478A0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1F074-FC2A-49F8-A676-974DF8C7F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A8222-6E6F-4F29-9B28-D3EA3CFD8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BF331-4453-41F0-BCAF-C7CA379F7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6F75B8-0FB5-4037-B65C-70D76CBC03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CF511A-E914-4A79-8761-322C4302C7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BC08EA8-70CF-4683-B030-48E4F6BD4F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BB0DF-997B-46A7-809C-D9BD2401F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DE32B80-6932-4CDD-B064-89D64E4B0D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F4B718-1536-4E20-AE96-DD0B434F2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7C19ED-91BC-4447-AB16-593D7C52A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EE34C0-B044-48BF-A532-3402751925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A63AFE-3CB3-4742-9EBE-2D65FB40A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8F8A3A-5C8A-42A5-8F2F-16204D541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DB12A4-B9EC-49A4-954C-AC4D2592A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C70C65-7D32-4858-93DA-57E395558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C9648B-A1B7-436E-A516-1FD9059DF8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12E9D43-F72E-41CA-9083-B9CEAFFD7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8177-2308-42EC-AC25-40CE11C5C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27C5D1-60D9-43AB-9B71-AF45B02B13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2FA72EF-06F5-47A3-8CFA-F42D08BD47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6FC3D4C-A897-45CE-AA4C-5DF2BAEF36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2F5AAE0-C30F-46A6-8BDC-322BD28494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5E8EC24-0163-4478-80BB-1FF9F27B6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C68B07C-DCFC-4CD9-838D-1E00BF7EB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F4235FB-E696-4672-BB71-7FD64846A1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A3364E-5C16-4F6B-B840-62D18B5A6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027373-4374-43C7-B5C4-E139DA02F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C0C887-B2EC-4476-ABFD-624592B4B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A31D-396F-41A8-83D2-E26F9472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A870A10-551A-4304-A923-C992071BB0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9E6AF86-5AE2-4BAE-9246-99D0EFC057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9A34749-EC06-45A6-9DE9-039A41AB28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81D17A4-5BAC-4A32-952D-CC4FCD87A0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314022-6758-444F-A621-7E89DF93AE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02DFF18-DCC9-4E87-901D-922FD12F8B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5AC779C-6FE6-4AEA-A7AF-9705E1131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6F637E-E287-4123-A35C-CC97B982DD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E8C0193-358A-491D-AB91-8A4FA54E0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B1CA17-6E04-46F3-B29D-8CA69C6AE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65A3-4361-44F2-B073-40D8FF840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C9D19F-5871-4DDB-9F7A-718E4275B7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E58327-2DB9-4AF8-B767-B3159C6408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F99AB0-89CE-4DD7-9E71-E4C43E2003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0C07391-10D8-4F03-9C9B-103C0C9913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D74A696-8106-4405-8316-298DB94E7D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F2B3-9062-4022-93DF-F2A8678C9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5BCA-25EB-476A-92C6-E464D7D5E04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4BDF-1109-4A99-875C-F9EBBEE919C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459C-0336-4755-9F04-8BACB8AEAEB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7374-F13F-4F50-BF1E-DBE330BA0D1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61C9-551C-4974-89B6-D85537F0913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24A8-27F7-4A33-A9FD-7DA153B3643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461D-0639-49E0-8B33-6759D2FF43F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IS THAT COIN FAIR?</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Section 10.3</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FINITION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ll Hypothesis (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claiming that nothing that is out of the ordinary.</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ternative Hypothesis (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the complement of the nul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idence Interval: the percentage that you use to determine if your hypothesis is true.</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st common CI’s :    .05, .01, .001</a:t>
            </a:r>
            <a:endParaRPr b="0" lang="en-US" sz="21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the probability we are trying to prove and even more extreme probabilities add up to be less than the set confidence interval, reject the nul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a coin is tossed 50 times and less than 20 heads or greater than 30 heads occur, is a person justified in thinking the coin is unfair?  Test with a .05 confidence level.</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 coin is fair</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coin is unfair</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nomcdf(50, ½, 19) = .0595</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 binomcdf(50, ½, 30) = .0595 </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1189 &gt; .05</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not reject null hypothesi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in is tossed 5 times and 5 heads occur.  At the .05 level, test the hypothesis that the coin is fa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 coin is fa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coin is biased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nd the probability that either 5 heads occur or 5 tails occ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 binompdf(5, ½, 5)</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0625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0625 &gt; .05, we cannot reject the nul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3</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ckets for two concerts went on sale at the same time.  Of the first 30 tickets sold, 12 were for the first concert and 18 for the second.  Is the concert hall manager justified in thinking that many more tickets will be sold for the second concer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re is an equal probability for each of the concert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second concert will sell more tickets</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nomcdf(30, ½, 12)</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808</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1808 &gt; .05; cannot reject </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MEWORK</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entury Schoolbook"/>
              </a:rPr>
              <a:t>Pages 645 – 646</a:t>
            </a:r>
            <a:endParaRPr b="0" lang="en-US" sz="8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entury Schoolbook"/>
              </a:rPr>
              <a:t>1 – 6, 11, 12</a:t>
            </a:r>
            <a:endParaRPr b="0" lang="en-US" sz="8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01:43:24Z</dcterms:created>
  <dc:creator>Laura Helbing</dc:creator>
  <dc:description/>
  <dc:language>en-US</dc:language>
  <cp:lastModifiedBy>Laura Helbing</cp:lastModifiedBy>
  <dcterms:modified xsi:type="dcterms:W3CDTF">2011-05-05T00:25:14Z</dcterms:modified>
  <cp:revision>41</cp:revision>
  <dc:subject/>
  <dc:title>Is that Coin Fair?</dc:title>
</cp:coreProperties>
</file>