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7AA1D-FB97-457B-972B-D0F82C810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DAD5-8B1A-4CA5-B161-6B56F7C1D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6FF4A-6726-4319-BB05-102380F23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A4329-7453-4321-883D-1C3F90208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BBFAF-739B-47C7-89E7-BF3FF83DB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5667C-3CA5-4628-A271-9977BBB4B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A5653-FF2D-4FAA-9E9C-70AA7E7F1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312E0-2C17-41AB-A1E3-BDEA81905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DFF29-D718-4573-AB1C-DC774A17A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A910A-DC65-41DC-9073-C1D6D6B60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F1968-F9E5-4338-B221-8916E8CA6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8350B-5D9A-4F6D-B1D3-DAF07C235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B08CF-1C91-4C95-81E9-825B2590A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C0836-1CFB-4C93-81A8-516EC0843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9E248-D437-4ECC-A93C-401083B5C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0BE0B0-C0A9-45F1-9E60-0DA1CE020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5DA49-9FD0-46D7-BA75-EA6EDE95A0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0AEBE23-B338-46CC-ACC8-23A29FE78F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D85636-584F-452E-837B-FE51DA587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0E5406-52A8-4233-BBB2-7B687D50E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E9F330B-F49C-4BBA-8B50-B0276D3B1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2BD472-A9C9-4BB2-898A-775E8CCEA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CEAC1-B0C7-4504-BBE8-4680AD2D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C240DB7-8BA7-40FA-BF61-F833E2CAF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D8C6D8-7CF6-4918-AA90-76F74424C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B69411-5BB2-4B92-BCD5-DE26617873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E1BF9E-E8CE-4E08-A560-A37988925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19E0F2-00F7-4A79-9581-CAA5738FD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AE9DF2F-C57D-492A-8B87-746C7E34F4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1876687-A466-4C39-B1FD-8ED576E9F2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004582-E505-4544-A8B2-1BA91A5726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F070BD-160A-4C87-B836-B04D354131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CBE8C0-2224-4C80-883D-353E37ECD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00720-D644-4FD9-B908-EAF0F43E5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40913-152C-4A96-867F-88705F294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05E4C3-2A21-403E-AC4F-15A02AE6C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6B8C1-0446-42C5-96E7-3AD4084F5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8018F-7A1E-448A-B7A7-5ACBA64017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1DCB90-8D5A-4407-A1DE-0C0F25267C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9C014-14EB-4683-87E4-91B4CF0EA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F9601-A183-4543-A2B8-EC9B63608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7B4A4A-CF32-4337-9AE6-817A3D6F5E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CE6B00-36CC-42DB-B180-95EB09C6BB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0913DC5-45BA-4EAF-A852-1A5473A2FF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1C482-4227-49A8-81CA-B23C90FCE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C31F5C-E208-4633-8CB5-26369E36B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BCF3FBB-CD87-4A17-99BF-9EDC807FE2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8DE4549-99AD-434B-958B-9FD5E38348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DDE516-665E-44D1-856E-6C54E2934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1153ADF-5004-4D40-BFB8-0BDE4B897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3B3D34-83ED-4C57-ABC7-0F9968C283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64E398-D2EE-4EB8-B0AE-A7DD789728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8E47C1-4EC8-4532-9FE1-4EE52A85D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A88B0D-2429-41FA-B018-BFCCD65490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C4C097-BAFE-4A08-87E6-06B2894BA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79273-B0ED-4AEC-B1A4-FBDA50FD9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C093B3-47FD-434E-BC54-77D4522522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2846B5D-C26F-481C-88E8-414161B101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3C1261A-4C69-4626-A3E8-2B2D70436D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B965E7-D087-4C1F-8407-9F86C0B7D6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6E9DF06-1562-4A27-8D57-82711CC21A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87C2EB7-1DD7-4379-B9D1-82BF491BFE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05398FC-CDF7-4906-A96E-C66BA4B7E0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3BC21E-32ED-437E-BAB4-9D7EA6790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21AF78A-0855-4C18-9189-B810E07D8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20B781-C054-4355-BE06-54B345C96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2EBA4-6338-4121-A09F-47231464F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9CDE99F-F12F-4C69-91E1-2B6E41D402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4EE8F02-5CAC-4E77-A665-A4B57B0FD3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F3AB711-2765-4A9D-BEC3-626F9E04EB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751610B-FC94-41D1-ADB3-9DC3FC92A0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764928C-9744-40C5-AD17-1A7241885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B33DA5-7C1A-4BA3-830F-7CB6E1D05E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46618E8-31FF-44B4-B473-F473BABAB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15318F1-B76A-472D-8B5F-21B06844DF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3FFCCD-CF04-4567-B541-50DD446A82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959D1C-D578-450B-BF77-D4320AE9CA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BAB4B-3ACC-4164-9411-1D05A57F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ECEEAE3-A8D9-40EB-9897-B31C3322C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46E8C40-2E10-4761-96AF-EB8C73BB3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518B79A-2BD5-43D8-BB78-57EA0307E6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F85DA6C-2BD0-4F76-A1FB-299A33EE6C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93BEA8D-E0D7-4708-B1A3-C637946B26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B1E23-C9A4-4CA4-A16E-84264EA30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80BC-4692-48B9-BC88-E3135505A81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4BB2-62EA-4212-B748-F1CDF1CBAFC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B971-0BF6-4F46-A25F-C2F28DCB6D3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0D08-A662-493F-96F1-8CA33BF1DF2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167E-22CA-4FAB-99B3-8D465727445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7154-92C2-4CAD-A492-FB65999E0A5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971D-0D86-49FA-A85E-9C847E7D55E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IS THAT COIN FAIR?</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ection 10.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FINITION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ll Hypothesis (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claiming that nothing that is out of the ordinary.</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ernative Hypothesis (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the complement of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idence Interval: the percentage that you use to determine if your hypothesis is true.</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st common CI’s :    .05, .01, .001</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the probability we are trying to prove and even more extreme probabilities add up to be less than the set confidence interval, reject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 coin is tossed 50 times and less than 20 heads or greater than 30 heads occur, is a person justified in thinking the coin is unfair?  Test with a .05 confidence level.</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un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50, ½, 19) = .059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 binomcdf(50, ½, 30) = .0595 </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1189 &gt; .0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not reject null hypothesi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in is tossed 5 times and 5 heads occur.  At the .05 level, test the hypothesis that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biase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d the probability that either 5 heads occur or 5 tails occ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 binompdf(5, ½, 5)</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0625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0625 &gt; .05, we cannot reject the nul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3</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ckets for two concerts went on sale at the same time.  Of the first 30 tickets sold, 12 were for the first concert and 18 for the second.  Is the concert hall manager justified in thinking that many more tickets will be sold for the second concer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re is an equal probability for each of the concert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second concert will sell more tickets</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30, ½, 12)</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808</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1808 &gt; .05; cannot reject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MEWORK</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Pages 645 – 646</a:t>
            </a:r>
            <a:endParaRPr b="0" lang="en-US" sz="8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1 – 6, 11, 12</a:t>
            </a:r>
            <a:endParaRPr b="0" lang="en-US" sz="8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01:43:24Z</dcterms:created>
  <dc:creator>Laura Helbing</dc:creator>
  <dc:description/>
  <dc:language>en-US</dc:language>
  <cp:lastModifiedBy>Laura Helbing</cp:lastModifiedBy>
  <dcterms:modified xsi:type="dcterms:W3CDTF">2011-05-05T00:25:14Z</dcterms:modified>
  <cp:revision>41</cp:revision>
  <dc:subject/>
  <dc:title>Is that Coin Fair?</dc:title>
</cp:coreProperties>
</file>