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4C9F58-20E5-4EF5-B71C-1039CDDC65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488A4A-732B-41AF-81A7-D3595A03E2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7DE454-8DCD-434D-A682-C10F251778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BA7F6A-12A8-461B-B98C-55C8F15E9D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9CFE71-D96D-44DC-9D5F-7A4AA76F4E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ACA8C7-1700-47B5-BBCB-DDDEA461DA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FFD896-EA3C-424B-A03A-E3BE30F046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DB8E45-8DC0-4DB4-877D-EE36DC5823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A5081C-E28D-47F4-A09A-584CEB086E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47F9FE-2BEA-4A30-994A-5EC1E6F657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0DD0B1-D1E7-4895-9CB0-81650A92F5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11052A-9EA7-4A4F-B589-2BC45DE45D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4363DE-B619-4597-B422-3F46C6B22F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3DA534-6159-4135-B111-659B187B3B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1A5EDD-B2D6-4C2B-AB59-3A86049251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F3C952-D9A3-4E73-AAEA-3C5DA6F490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909826-B930-4693-BE79-1024B06787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5595653-02F8-42FE-BD5A-B60F132FB99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EFE6A1D-2878-486D-B851-301503279C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8C37AA5-159B-4CA3-BA42-200A0AA71F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31C2BCE-1427-4AB5-AB1B-40757D5E87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327E13A-3DB0-4905-9F81-75E533966C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EC9ED1-55D9-47DF-8BC8-5828DFE65C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285C9E2-2135-45F5-8FFA-B941510D31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73EE5A2-2099-455B-B0A4-374655C8AA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D39657C-00A1-46F2-88C9-A8D6F23D00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4482380-ED6F-47C0-B9BC-61CE8F96A7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DC33EE9-90A0-429B-9D2A-1AC485B349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DAA51628-C34F-49EB-BBA9-F77485FD39B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99B9634-D920-4D2C-88FB-52CEA243C89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EBDFC02-4DE1-4B13-A842-B2D6626C98D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9888D4-64DB-4029-AB1B-0BA0F8AB7B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4D0830-D497-4D57-A157-3B5352C3F3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2DD681-9F71-4F26-9B99-AB0E76A450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C92D27-823E-4053-855A-772115C051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763C5B-4166-4B95-AB3F-26085AEF75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937462-B2B8-4CCC-8931-7F1595224C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C5D55E-512A-43A7-A754-5B592CB889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31128D-B63D-4059-BE4B-0F0A40FBFE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3B2F41-385A-496D-A983-236B80AB98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6A317B-AD4D-4E22-8F36-70F750E291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7322FB6-394C-4D91-AF3D-51B02F1291E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51DCFD2-C51D-493D-884E-FD37B4281A7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434B338-B697-4E28-B1B1-6CEA9C55E7B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3B4B29-3A86-4168-8971-0CA74F9CFE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7125474-76D1-45F0-91F7-2F91D1ED44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882B304-EB99-4DBF-AFAE-9D25BF4662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64F7AD2-B007-46A3-87CB-E4C39D0678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3BD206D-033A-40FB-BBE8-5E0BE2A06E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83A28B0-F0D7-43F9-ADE8-29D3C36D7D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2D6E6F6-D128-4877-BE6A-AE8A3808C2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091408D-6393-423C-B2A4-7A8B310F9C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D1554FA-8714-4111-82CD-C6CBF62027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BAAB058-6408-46F1-ADF7-FCFD12264C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89194A75-7B68-49C6-B26D-BE63A2E46E6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ACDA29-5EDD-4C25-86FD-37C62BE55D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4E293624-F3A4-4951-B59C-5AB9E7A28F5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F4E8F102-0123-4E27-AB12-12BE69919D4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50EC9AE2-161A-414D-B3D0-F8E123A8E8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73E4B79D-B539-4DCB-A9EA-5A46697CFA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85EC9CAA-9F4C-4BA3-9A98-2299AFB1316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B6BD02DF-B13B-4BA6-857A-22AE2F53F0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AFE113E2-9AAA-476B-AFB9-377EA16F8E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F185817-7D31-47C1-973F-EC56B821FE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514DF0E-C703-42F6-BC79-529CD50003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10A233D-E99A-43C8-A773-4B76AFC521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ABD4C-675E-4814-BEC5-E27C591C4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E5E1D65D-90BD-43C5-8BAB-1826C5F4465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6BF90F2C-CF6E-4F1D-A539-8CFAA1784C1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21D8DB6D-9392-4989-85B3-35D2CBB98B1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1EEA446F-70B2-46D1-8384-D619E463F96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A45AC1B-B515-4773-B154-2A4DA7F166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C92B26E-3DA4-4718-AEB6-7ABECE2A10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2BB1A64-718E-4A41-8B61-33A62BDB2C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65B05FA-15C2-44E5-BA5F-F8228D35E2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6AE94CD-CEC1-4F5B-A922-9235C52351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7359745-31AB-4E28-9C96-53DACAB4CA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673B2-06F7-4777-8963-B246F3729B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C00FDF0-AC43-45E5-84F2-0E6174B9D5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A37653A-7E17-4779-9AE9-93D18A56C5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61E6C56-59D8-4CCA-97D1-CE056E343E8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31BF91DC-7E0D-4798-A543-5E222F99267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38F38C38-AF60-4E90-A1FA-5F690B12085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0747D-F7A9-4C6D-AA9D-ECCB9E1014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A0C78-0550-4029-B759-E22DFD372318}"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DAFD9-F0A1-449D-B82F-A3CF527B7428}"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32909-46B4-4781-A41C-8D45B5E531ED}"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Century Schoolbook"/>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B9CD2-5F3A-4D6D-B8DC-B0EE6B173889}"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FECA7-8714-43A4-9BCD-D6B0C26BB0E5}"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4CE6F-41FB-4CE8-AF42-F7CF53C89060}"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B17E9-1811-44A2-9801-F9D00DEA9C69}"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IS THAT COIN FAIR?</a:t>
            </a:r>
            <a:endParaRPr b="0" lang="en-US" sz="3000" spc="-1" strike="noStrike">
              <a:solidFill>
                <a:srgbClr val="575f6d"/>
              </a:solidFill>
              <a:latin typeface="Century Schoolbook"/>
            </a:endParaRPr>
          </a:p>
        </p:txBody>
      </p:sp>
      <p:sp>
        <p:nvSpPr>
          <p:cNvPr id="352"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Century Schoolbook"/>
              </a:rPr>
              <a:t>Section 10.3</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DEFINITIONS</a:t>
            </a:r>
            <a:endParaRPr b="0" lang="en-US" sz="3000" spc="-1" strike="noStrike">
              <a:solidFill>
                <a:srgbClr val="575f6d"/>
              </a:solidFill>
              <a:latin typeface="Century Schoolbook"/>
            </a:endParaRPr>
          </a:p>
        </p:txBody>
      </p:sp>
      <p:sp>
        <p:nvSpPr>
          <p:cNvPr id="354" name=""/>
          <p:cNvSpPr txBox="1"/>
          <p:nvPr/>
        </p:nvSpPr>
        <p:spPr>
          <a:xfrm>
            <a:off x="456840" y="1600200"/>
            <a:ext cx="7467480" cy="4873680"/>
          </a:xfrm>
          <a:prstGeom prst="rect">
            <a:avLst/>
          </a:prstGeom>
          <a:noFill/>
          <a:ln w="0">
            <a:noFill/>
          </a:ln>
        </p:spPr>
        <p:txBody>
          <a:bodyPr anchor="t">
            <a:normAutofit fontScale="97000"/>
          </a:bodyPr>
          <a:p>
            <a:pPr marL="264600" indent="-2646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Null Hypothesis (H</a:t>
            </a:r>
            <a:r>
              <a:rPr b="0" lang="en-US" sz="2400" spc="-1" strike="noStrike" baseline="-25000">
                <a:solidFill>
                  <a:srgbClr val="000000"/>
                </a:solidFill>
                <a:latin typeface="Century Schoolbook"/>
              </a:rPr>
              <a:t>0</a:t>
            </a:r>
            <a:r>
              <a:rPr b="0" lang="en-US" sz="2400" spc="-1" strike="noStrike">
                <a:solidFill>
                  <a:srgbClr val="000000"/>
                </a:solidFill>
                <a:latin typeface="Century Schoolbook"/>
              </a:rPr>
              <a:t>) : claiming that nothing that is out of the ordinary.</a:t>
            </a:r>
            <a:endParaRPr b="0" lang="en-US" sz="2400" spc="-1" strike="noStrike">
              <a:solidFill>
                <a:srgbClr val="000000"/>
              </a:solidFill>
              <a:latin typeface="Century Schoolbook"/>
            </a:endParaRPr>
          </a:p>
          <a:p>
            <a:pPr marL="264600" indent="-2646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4600" indent="-2646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lternative Hypothesis (H</a:t>
            </a:r>
            <a:r>
              <a:rPr b="0" lang="en-US" sz="2400" spc="-1" strike="noStrike" baseline="-25000">
                <a:solidFill>
                  <a:srgbClr val="000000"/>
                </a:solidFill>
                <a:latin typeface="Century Schoolbook"/>
              </a:rPr>
              <a:t>1</a:t>
            </a:r>
            <a:r>
              <a:rPr b="0" lang="en-US" sz="2400" spc="-1" strike="noStrike">
                <a:solidFill>
                  <a:srgbClr val="000000"/>
                </a:solidFill>
                <a:latin typeface="Century Schoolbook"/>
              </a:rPr>
              <a:t>): the complement of the null</a:t>
            </a:r>
            <a:endParaRPr b="0" lang="en-US" sz="2400" spc="-1" strike="noStrike">
              <a:solidFill>
                <a:srgbClr val="000000"/>
              </a:solidFill>
              <a:latin typeface="Century Schoolbook"/>
            </a:endParaRPr>
          </a:p>
          <a:p>
            <a:pPr marL="264600" indent="-2646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4600" indent="-2646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onfidence Interval: the percentage that you use to determine if your hypothesis is true.</a:t>
            </a:r>
            <a:endParaRPr b="0" lang="en-US" sz="2400" spc="-1" strike="noStrike">
              <a:solidFill>
                <a:srgbClr val="000000"/>
              </a:solidFill>
              <a:latin typeface="Century Schoolbook"/>
            </a:endParaRPr>
          </a:p>
          <a:p>
            <a:pPr lvl="1" marL="620280" indent="-26460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Most common CI’s :    .05, .01, .001</a:t>
            </a:r>
            <a:endParaRPr b="0" lang="en-US" sz="2100" spc="-1" strike="noStrike">
              <a:solidFill>
                <a:srgbClr val="000000"/>
              </a:solidFill>
              <a:latin typeface="Century Schoolbook"/>
            </a:endParaRPr>
          </a:p>
          <a:p>
            <a:pPr marL="264600" indent="-2646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f the probability we are trying to prove and even more extreme probabilities add up to be less than the set confidence interval, reject the null</a:t>
            </a:r>
            <a:endParaRPr b="0" lang="en-US" sz="2400" spc="-1" strike="noStrike">
              <a:solidFill>
                <a:srgbClr val="000000"/>
              </a:solidFill>
              <a:latin typeface="Century Schoolbook"/>
            </a:endParaRPr>
          </a:p>
          <a:p>
            <a:pPr marL="264600" indent="-2646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EXAMPLE 1</a:t>
            </a:r>
            <a:endParaRPr b="0" lang="en-US" sz="3000" spc="-1" strike="noStrike">
              <a:solidFill>
                <a:srgbClr val="575f6d"/>
              </a:solidFill>
              <a:latin typeface="Century Schoolbook"/>
            </a:endParaRPr>
          </a:p>
        </p:txBody>
      </p:sp>
      <p:sp>
        <p:nvSpPr>
          <p:cNvPr id="356" name=""/>
          <p:cNvSpPr txBox="1"/>
          <p:nvPr/>
        </p:nvSpPr>
        <p:spPr>
          <a:xfrm>
            <a:off x="456840" y="1600200"/>
            <a:ext cx="7467480" cy="4873680"/>
          </a:xfrm>
          <a:prstGeom prst="rect">
            <a:avLst/>
          </a:prstGeom>
          <a:noFill/>
          <a:ln w="0">
            <a:noFill/>
          </a:ln>
        </p:spPr>
        <p:txBody>
          <a:bodyPr anchor="t">
            <a:normAutofit fontScale="93000"/>
          </a:bodyPr>
          <a:p>
            <a:pPr marL="253440" indent="-25344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f a coin is tossed 50 times and less than 20 heads or greater than 30 heads occur, is a person justified in thinking the coin is unfair?  Test with a .05 confidence level.</a:t>
            </a:r>
            <a:endParaRPr b="0" lang="en-US" sz="2400" spc="-1" strike="noStrike">
              <a:solidFill>
                <a:srgbClr val="000000"/>
              </a:solidFill>
              <a:latin typeface="Century Schoolbook"/>
            </a:endParaRPr>
          </a:p>
          <a:p>
            <a:pPr marL="253440" indent="-25344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a:t>
            </a:r>
            <a:r>
              <a:rPr b="0" lang="en-US" sz="2400" spc="-1" strike="noStrike" baseline="-25000">
                <a:solidFill>
                  <a:srgbClr val="000000"/>
                </a:solidFill>
                <a:latin typeface="Century Schoolbook"/>
              </a:rPr>
              <a:t>0</a:t>
            </a:r>
            <a:r>
              <a:rPr b="0" lang="en-US" sz="2400" spc="-1" strike="noStrike">
                <a:solidFill>
                  <a:srgbClr val="000000"/>
                </a:solidFill>
                <a:latin typeface="Century Schoolbook"/>
              </a:rPr>
              <a:t> = the coin is fair</a:t>
            </a:r>
            <a:endParaRPr b="0" lang="en-US" sz="2400" spc="-1" strike="noStrike">
              <a:solidFill>
                <a:srgbClr val="000000"/>
              </a:solidFill>
              <a:latin typeface="Century Schoolbook"/>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a:t>
            </a:r>
            <a:r>
              <a:rPr b="0" lang="en-US" sz="2400" spc="-1" strike="noStrike" baseline="-25000">
                <a:solidFill>
                  <a:srgbClr val="000000"/>
                </a:solidFill>
                <a:latin typeface="Century Schoolbook"/>
              </a:rPr>
              <a:t>1</a:t>
            </a:r>
            <a:r>
              <a:rPr b="0" lang="en-US" sz="2400" spc="-1" strike="noStrike">
                <a:solidFill>
                  <a:srgbClr val="000000"/>
                </a:solidFill>
                <a:latin typeface="Century Schoolbook"/>
              </a:rPr>
              <a:t> = the coin is unfair</a:t>
            </a:r>
            <a:endParaRPr b="0" lang="en-US" sz="2400" spc="-1" strike="noStrike">
              <a:solidFill>
                <a:srgbClr val="000000"/>
              </a:solidFill>
              <a:latin typeface="Century Schoolbook"/>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Binomcdf(50, ½, 19) = .0595</a:t>
            </a:r>
            <a:endParaRPr b="0" lang="en-US" sz="2400" spc="-1" strike="noStrike">
              <a:solidFill>
                <a:srgbClr val="000000"/>
              </a:solidFill>
              <a:latin typeface="Century Schoolbook"/>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1 – binomcdf(50, ½, 30) = .0595 </a:t>
            </a:r>
            <a:endParaRPr b="0" lang="en-US" sz="2400" spc="-1" strike="noStrike">
              <a:solidFill>
                <a:srgbClr val="000000"/>
              </a:solidFill>
              <a:latin typeface="Century Schoolbook"/>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	</a:t>
            </a:r>
            <a:r>
              <a:rPr b="0" lang="en-US" sz="2400" spc="-1" strike="noStrike">
                <a:solidFill>
                  <a:srgbClr val="000000"/>
                </a:solidFill>
                <a:latin typeface="Century Schoolbook"/>
              </a:rPr>
              <a:t>	</a:t>
            </a:r>
            <a:r>
              <a:rPr b="0" lang="en-US" sz="2400" spc="-1" strike="noStrike">
                <a:solidFill>
                  <a:srgbClr val="000000"/>
                </a:solidFill>
                <a:latin typeface="Century Schoolbook"/>
              </a:rPr>
              <a:t>.1189 &gt; .05</a:t>
            </a:r>
            <a:endParaRPr b="0" lang="en-US" sz="2400" spc="-1" strike="noStrike">
              <a:solidFill>
                <a:srgbClr val="000000"/>
              </a:solidFill>
              <a:latin typeface="Century Schoolbook"/>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annot reject null hypothesi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EXAMPLE 2</a:t>
            </a:r>
            <a:endParaRPr b="0" lang="en-US" sz="3000" spc="-1" strike="noStrike">
              <a:solidFill>
                <a:srgbClr val="575f6d"/>
              </a:solidFill>
              <a:latin typeface="Century Schoolbook"/>
            </a:endParaRPr>
          </a:p>
        </p:txBody>
      </p:sp>
      <p:sp>
        <p:nvSpPr>
          <p:cNvPr id="35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 coin is tossed 5 times and 5 heads occur.  At the .05 level, test the hypothesis that the coin is fai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a:t>
            </a:r>
            <a:r>
              <a:rPr b="0" lang="en-US" sz="2400" spc="-1" strike="noStrike" baseline="-25000">
                <a:solidFill>
                  <a:srgbClr val="000000"/>
                </a:solidFill>
                <a:latin typeface="Century Schoolbook"/>
              </a:rPr>
              <a:t>0</a:t>
            </a:r>
            <a:r>
              <a:rPr b="0" lang="en-US" sz="2400" spc="-1" strike="noStrike">
                <a:solidFill>
                  <a:srgbClr val="000000"/>
                </a:solidFill>
                <a:latin typeface="Century Schoolbook"/>
              </a:rPr>
              <a:t> = the coin is fai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a:t>
            </a:r>
            <a:r>
              <a:rPr b="0" lang="en-US" sz="2400" spc="-1" strike="noStrike" baseline="-25000">
                <a:solidFill>
                  <a:srgbClr val="000000"/>
                </a:solidFill>
                <a:latin typeface="Century Schoolbook"/>
              </a:rPr>
              <a:t>1</a:t>
            </a:r>
            <a:r>
              <a:rPr b="0" lang="en-US" sz="2400" spc="-1" strike="noStrike">
                <a:solidFill>
                  <a:srgbClr val="000000"/>
                </a:solidFill>
                <a:latin typeface="Century Schoolbook"/>
              </a:rPr>
              <a:t> = the coin is biased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nd the probability that either 5 heads occur or 5 tails occu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2 * binompdf(5, ½, 5)</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0625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nce .0625 &gt; .05, we cannot reject the null</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EXAMPLE 3</a:t>
            </a:r>
            <a:endParaRPr b="0" lang="en-US" sz="3000" spc="-1" strike="noStrike">
              <a:solidFill>
                <a:srgbClr val="575f6d"/>
              </a:solidFill>
              <a:latin typeface="Century Schoolbook"/>
            </a:endParaRPr>
          </a:p>
        </p:txBody>
      </p:sp>
      <p:sp>
        <p:nvSpPr>
          <p:cNvPr id="360" name=""/>
          <p:cNvSpPr txBox="1"/>
          <p:nvPr/>
        </p:nvSpPr>
        <p:spPr>
          <a:xfrm>
            <a:off x="456840" y="1600200"/>
            <a:ext cx="7467480" cy="4873680"/>
          </a:xfrm>
          <a:prstGeom prst="rect">
            <a:avLst/>
          </a:prstGeom>
          <a:noFill/>
          <a:ln w="0">
            <a:noFill/>
          </a:ln>
        </p:spPr>
        <p:txBody>
          <a:bodyPr anchor="t">
            <a:normAutofit fontScale="98000"/>
          </a:bodyPr>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ickets for two concerts went on sale at the same time.  Of the first 30 tickets sold, 12 were for the first concert and 18 for the second.  Is the concert hall manager justified in thinking that many more tickets will be sold for the second concert?</a:t>
            </a:r>
            <a:endParaRPr b="0" lang="en-US" sz="24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a:t>
            </a:r>
            <a:r>
              <a:rPr b="0" lang="en-US" sz="2400" spc="-1" strike="noStrike" baseline="-25000">
                <a:solidFill>
                  <a:srgbClr val="000000"/>
                </a:solidFill>
                <a:latin typeface="Century Schoolbook"/>
              </a:rPr>
              <a:t>0</a:t>
            </a:r>
            <a:r>
              <a:rPr b="0" lang="en-US" sz="2400" spc="-1" strike="noStrike">
                <a:solidFill>
                  <a:srgbClr val="000000"/>
                </a:solidFill>
                <a:latin typeface="Century Schoolbook"/>
              </a:rPr>
              <a:t> = there is an equal probability for each of the concerts</a:t>
            </a:r>
            <a:endParaRPr b="0" lang="en-US" sz="24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a:t>
            </a:r>
            <a:r>
              <a:rPr b="0" lang="en-US" sz="2400" spc="-1" strike="noStrike" baseline="-25000">
                <a:solidFill>
                  <a:srgbClr val="000000"/>
                </a:solidFill>
                <a:latin typeface="Century Schoolbook"/>
              </a:rPr>
              <a:t>1</a:t>
            </a:r>
            <a:r>
              <a:rPr b="0" lang="en-US" sz="2400" spc="-1" strike="noStrike">
                <a:solidFill>
                  <a:srgbClr val="000000"/>
                </a:solidFill>
                <a:latin typeface="Century Schoolbook"/>
              </a:rPr>
              <a:t> = the second concert will sell more tickets</a:t>
            </a:r>
            <a:endParaRPr b="0" lang="en-US" sz="24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binomcdf(30, ½, 12)</a:t>
            </a:r>
            <a:endParaRPr b="0" lang="en-US" sz="24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1808</a:t>
            </a:r>
            <a:endParaRPr b="0" lang="en-US" sz="24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nce .1808 &gt; .05; cannot reject </a:t>
            </a:r>
            <a:endParaRPr b="0" lang="en-US" sz="24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HOMEWORK</a:t>
            </a:r>
            <a:endParaRPr b="0" lang="en-US" sz="3000" spc="-1" strike="noStrike">
              <a:solidFill>
                <a:srgbClr val="575f6d"/>
              </a:solidFill>
              <a:latin typeface="Century Schoolbook"/>
            </a:endParaRPr>
          </a:p>
        </p:txBody>
      </p:sp>
      <p:sp>
        <p:nvSpPr>
          <p:cNvPr id="362" name=""/>
          <p:cNvSpPr txBox="1"/>
          <p:nvPr/>
        </p:nvSpPr>
        <p:spPr>
          <a:xfrm>
            <a:off x="456840" y="1600200"/>
            <a:ext cx="7467480" cy="487368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Century Schoolbook"/>
              </a:rPr>
              <a:t>Pages 645 – 646</a:t>
            </a:r>
            <a:endParaRPr b="0" lang="en-US" sz="80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Century Schoolbook"/>
              </a:rPr>
              <a:t>1 – 6, 11, 12</a:t>
            </a:r>
            <a:endParaRPr b="0" lang="en-US" sz="8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3T01:43:24Z</dcterms:created>
  <dc:creator>Laura Helbing</dc:creator>
  <dc:description/>
  <dc:language>en-US</dc:language>
  <cp:lastModifiedBy>Laura Helbing</cp:lastModifiedBy>
  <dcterms:modified xsi:type="dcterms:W3CDTF">2011-05-05T00:25:14Z</dcterms:modified>
  <cp:revision>41</cp:revision>
  <dc:subject/>
  <dc:title>Is that Coin Fair?</dc:title>
</cp:coreProperties>
</file>