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ACF2-E97F-4187-BE2E-A22F1466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70C-55E5-4D5A-A53F-1B951C74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94408-BBCC-4C25-874D-1EEF0F41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3F67AD-A345-47AB-BF03-B666BA32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73FA5E-F75E-40E4-9C8C-873B93D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C92A4B-7F92-4A27-B0B7-3C5BDBD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A55530-2E75-40B8-B81E-CA2D255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248A21-F51D-4867-A634-B0FFBECC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66B521-9E26-4531-A210-9CDE39DF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A69130-DF44-4F10-92BE-21941855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E9040-8CD9-4E1C-A292-8939562E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7FD-1B7C-4FEF-8429-333B53CB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B535-FF35-4965-AEFD-1CCA863B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B1B63-419A-4CB2-A6E0-A3329B56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4284-F7C5-4B94-96C1-2CB07E3D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8E1EB-D22E-447C-A360-A5947C91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64603-5796-435A-9D77-5DF5AED6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45CCA-E2D1-4D50-85D9-928B29FF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90018-7A4B-4729-8DA6-3DFCBDF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E3607-D578-46CD-870A-B28F369E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712-8BD7-4CB4-82AF-A4E28F11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146BF-5228-4AD3-B6AF-10599CC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C874-2A87-4233-AFBE-CEF4848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3F108-C1E0-4A63-8646-8B48478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B7C66-00C0-4A5D-8C64-424351FD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48CCD-79A9-4A3B-BE4C-55FD51B1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BAF7-C836-491B-9C93-3C7BE1BF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74B7-3104-4776-8896-E11549EB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57F4-A796-4194-8BE9-DF3B35E7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047D-81F6-45A4-9A89-9841AD42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F99F-85BB-4529-97A2-F82FA285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3C5C-CD29-4733-AFA9-127BCAA8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A20C-AD5F-48AC-AB6B-974B2723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D738-B638-48B1-B279-1F84594A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6DB3-04EB-4D81-AEC6-BC815D2D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56D9-8C17-47B6-8735-3FEBDEA1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A7D0-2267-43EE-A1BA-F2886A2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FD14-8353-4CE0-B9A0-2F05F29E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2F4C7-7A5E-4DAA-A194-32BF0A7A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4A59A-8304-45C9-803F-C5058DA2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0A3DC-4933-48BD-9699-AD19DBB9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1A99C-7F30-44C7-8EDE-033441F3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570-073F-4F31-980F-421212FB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9CCA3-86C5-4815-A08D-352B5A4A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7310F-4040-4C45-9E7D-3F67E18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C85DD-8C25-40AA-BF68-20CD400A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AF55A-3672-4D03-80C5-A1D51D21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E0126-9D93-4465-8DDF-D62002E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8FD87-4B97-4459-B249-6B8DAE66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13911B-8F84-4DFD-B475-BA42935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84A1B-2459-4F83-9B45-7B9E668C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C08E2-D256-4866-81FA-705B58DB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94B6A-F86C-4861-A7FA-53D43020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71D9-E7CA-41FF-8AA8-D577DD04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57FA-FA6D-42E8-AD05-97845C37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66474-84F6-4F59-A73A-D7337B70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14A86-79EE-43D5-9AD6-3ADE662D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DF75-6EEA-492C-AAD8-E7A4AFE0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D637-7D9B-44F9-B18B-2F224DDF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648E3-5856-410D-B684-B0A8DA36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32057-7D12-42CC-A202-E9BD8E4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C360-D963-4E2E-A01E-5F8A5C22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C3E9-91E8-4459-AD4F-281F0D36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F90ED-D9BF-4E77-A60F-423DD035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37A-1DB5-4EB6-8022-59E6DD91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B054-0EE0-45FE-AAAC-C061F44C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9AB2-4FB9-48D1-A954-6CB6B0D1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38825-63E9-451D-B5E1-FF2424DA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016A2-60BB-4E5D-A2FA-48B0625F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88888-05FB-4EFD-ADB7-803FC0F1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34ECB-29CB-453C-AF20-1DEAB4C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A3CF7-7FF9-45AB-B964-8BDF9DD0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7613-648E-4954-ADFE-B9643D5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E3A7-7D70-4BFD-B64B-1603BE2E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B53F3-5A15-4C3A-9217-F61A1AD0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133-1D77-4AD4-93E4-7FEDCEBF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CBDB-4294-45C2-8441-FAD9129E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81DAB-EEFC-4AAF-99CC-C274E43F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9E709-88A8-46F2-B798-1C207A5D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4C0C-A30D-4B6A-B730-F3A34B94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C592-F531-4BB2-9266-B51579BD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AF14-60BF-4A43-93A3-92642E13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49560-C3D0-417E-B7A7-AD4767E7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0A83D-55BE-48A5-9D6F-0D419CBB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B7162-3D75-4182-8595-7D5B74B8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7DAEA-2DF6-4F50-8293-8845E8D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03A-C6CF-4ACA-BEF2-51ECD7F0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34E3A-7FE0-4D43-BCF6-056D41AB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746A1-DFE1-4818-9BCB-88272AEE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1C24-6DCF-486F-ACE0-5782FCAA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3EB07-6B11-497A-A853-D663C653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9A4CC-FEFE-403E-81D6-4412B0E7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3513D-35E7-4CF1-BC7A-1A13F8AF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7A699A-3CA4-4154-9910-B2270B57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727A43-A834-4026-931B-2258BAB1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F8A0D-0DE8-4A32-840E-B81F012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E908F-1DB5-43D6-B3E8-82468BD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3D3-26CD-48DE-8B09-B85530D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86538-9F82-4627-AB33-A510413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D8E96F-4788-40A2-BE0D-DD80E03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F6E33-B2AD-4EFE-8ACC-D635D36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9EB41-CE55-49AB-83D1-0A175BD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AA1A1-AC0E-4E3E-A135-ACC03D3E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527D1-07C7-47AF-8AD3-DA918B33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8C3EE3-6237-4F79-99A2-8D2D1677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322BB4-723F-4D00-8453-8F3316D7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855F4C-9DF8-43C6-9291-48A3AF9C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F7BBD-8D89-4AAE-AF75-2EDC64A5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F13A-D9DD-44D1-BE76-10E3DC016C61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1BD2-95AA-4070-BCCD-63ADFD79E0A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D2A5-9C3A-489F-AF80-3F5DC235286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5772-C4CB-4617-8DF2-F574715B723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DA1-A75E-4794-A24A-D46638861FF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9CD-E291-40BD-9591-AC425A65EAD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3FB-0743-44F6-9BBA-79602EADFD0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FE87-3A34-42AD-A9A3-F8584414495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0849-2180-4530-9395-57F2B1A8943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978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10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mean)= np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n = number of trials, p = probability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of succes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(variance) = npq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q = probability of fail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σ  ( standard deviation) =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4800600" y="4648320"/>
                <a:ext cx="201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q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a dart player has probability p of hitting the bull’s-eye with a single dart, and all attempts are independent.  Prove that the expected number of bull’s eyes the player will hit in two attempts is 2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inomial distribution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50292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0q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+ 2pq + 2p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57200" y="5105520"/>
          <a:ext cx="3200400" cy="11127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1q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p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1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  <p:sp>
        <p:nvSpPr>
          <p:cNvPr id="403" name="Rectangle 8"/>
          <p:cNvSpPr/>
          <p:nvPr/>
        </p:nvSpPr>
        <p:spPr>
          <a:xfrm>
            <a:off x="5105520" y="48769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(q+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5638680" y="5638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2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the binomial distribution of tossing a far coin 250 times and counting the number of heads, what is the mean and standard deviation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: np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0 * .5 = 12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d: (npq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250 * .5 * .5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.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.9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some binomial probability distribution,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= 45 and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6, find n and p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638 – 639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00:20:05Z</dcterms:created>
  <dc:creator>Laura Helbing</dc:creator>
  <dc:description/>
  <dc:language>en-US</dc:language>
  <cp:lastModifiedBy>Laura Helbing</cp:lastModifiedBy>
  <dcterms:modified xsi:type="dcterms:W3CDTF">2012-04-11T15:29:46Z</dcterms:modified>
  <cp:revision>32</cp:revision>
  <dc:subject/>
  <dc:title>Mean and Standard Deviation of a binomial distribution</dc:title>
</cp:coreProperties>
</file>