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0AF-3791-4917-9EF2-3C5C5A9F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F40A-F1BF-43E9-9C4D-5A8D0CCF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5F4EC5-A85A-4951-AE4F-3C1D42CF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ED272D-63C9-42ED-8C82-24C7A395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87735B-4151-49A6-A503-901A89B8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40159F-AD3A-4C9D-975B-24C1FDC8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33325D-8440-4F64-B9DD-B32CFB09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97694A-49C4-4116-BD8E-EDA55AEC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246558-10A1-4422-9022-D02DE300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79C612-E78D-43E2-A43B-6ABB7EA7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8A8D4E-F7C0-4DCA-8626-3BB369EF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574B-1976-42BE-AA67-B1E58A17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B9A-CE5B-43EE-B6E8-28E85278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38D80-08FD-415F-817D-A2271779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5E08B-AEF0-49D6-A3E7-5A51AF6D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1639C-27A0-4579-8662-E2AB2992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03258-129C-4CAB-97ED-DD6540D9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B2DB8-CBA8-492C-AEB0-146AA4AA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296AE-7E44-4C86-979D-F292873A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437EA-4DA0-4B5E-B0A4-02D0DBDF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1B6-DD21-4877-8165-95BFCDCF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05879-D3F7-47DB-ADE9-567DEF75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B9BA7-2AF9-441F-BFB8-A137C603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C94AC-B24D-4176-840A-A2DFD739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297E7-75B7-46DC-AEBB-D740ED4F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CCDAD-9313-445A-B98B-EE8AF7E6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5153F-8F67-491F-A56C-5AF55C85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C799D-3735-4B2B-BB79-E3629032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E706E-B50B-4BA3-8F34-2449AD9C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ABCD4-0E1C-4ADE-9CCE-445EE652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3E359-DCAB-455B-AF9F-B86BF1D0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73A8-6FC2-4F05-B5EF-2EF22BD5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7B4E9-86E2-4342-9179-0BE0C1BA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913C0-6D07-47DD-8B0E-D15284E7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4E5DE-5D1A-4226-93FC-B26A3FB0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9037C-C838-41FC-8C23-55F4F98B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9840E-A9DB-48FC-A4A8-1F6E2098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6A42B-216D-42C4-BEA5-96F8FFA0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FD000-8141-462F-9EED-862A6D09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ACDA4F-B019-47D4-85DA-65CE730A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9BB144-2034-46E1-8135-9CA151F5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7DD918-0762-42D6-B7AD-1759467D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57C-E7F4-4878-8CB1-AB608CC3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13940B-ED5D-45C7-80EE-3B0027CC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62A730-1EDD-4FE3-9AAF-412B5362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5BAB23-F1F7-4378-87FF-B6C50CDA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1C9964-B7FF-4A79-B34A-B8239B31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6F0BCD-E63B-4682-B00D-1C2E4BB1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3E1C49-A3F0-46B3-9F0F-F473BBC6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9D0B5B-7AAB-4F66-9256-7A48CE3F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B50494-E877-4243-8B02-57FA4201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07DAF-ACF9-414B-AF47-41474701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BD2D2-8DAA-4814-AA16-C5B924D0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94E1-3D7A-46C2-AEAC-D4CAE526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6CD5B-1566-44A0-A62F-D882D78F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8AD42-BBDC-4E0D-88E4-F2517B43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E41A8-D410-4C23-9714-83C775EC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888B4-12A4-4543-9059-D4992156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9F663-2973-4F04-AEDF-E72B5959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7D70F-186C-46CE-B69A-9FEDD321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0ACD2-A9F4-43E3-A3C9-2AEBBCA8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145D5-9D30-44AB-BD0E-70E61764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9996E-EBC7-429C-B82E-4F892F51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B0432-ED60-4CC7-89E3-23391626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C1F-3625-4AB4-AC3A-10FE7064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BBFE4-126E-416C-AE2D-BD588FF7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323D3-6B2B-4ED3-BE7C-C48F8B8D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15B9A-D6E4-42FA-B60F-E1008DF1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871DD-79B2-4DEA-B594-3049A98B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023EE-01BF-4B9E-84D4-391553D3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90902-EFAE-4C32-867A-98F07AEE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E57EB-6998-48E1-8AF6-57A89C7D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D3472-1B1E-40DE-AD4D-A654906E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16E5A-4082-4DAD-984F-A7FC303F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F50B9-1F79-40D1-ACC1-23739E7C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F98-50B5-4ECC-9659-91E31BF6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EF79A-427B-44B1-BD69-4FC3F05F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61332-133D-4424-9550-28D0C6FC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C5E0F-BFD4-4D53-AA66-4FF28616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518B8-362E-4D2F-87BD-556A1F6D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F44F0-D555-4271-BB9B-C5550EF8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9A664-A4C9-4FC5-9A03-74C58F94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20B96-1AFF-45C7-88A3-7A77F77D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0E149-61F8-4C7B-93A6-7D399DC2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016CF-5AA3-46C7-8591-DECAB6C0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60237-096D-4315-BD1C-76CE9AF3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A90F-92E8-4812-96D1-03EBD09A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7EE19-2302-475F-941B-6FAB3964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1D06E-AE03-4112-A9DE-3903F315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ACF33-C1F4-407D-83A4-BD49AA07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DF5A0-238C-43E1-8322-1AA844E4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CC165-F29A-4569-B5C7-2DBB6C6B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0DF036-B8D5-4C92-BFC3-9FFFE4F6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E17BE1-9F31-4328-B6CC-CE4CE39B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B4585F-B33B-43E6-8FF7-6D5062C4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71FADE-B5FB-4135-97B0-AED8E61C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8621D2-FB8F-4EF5-BF0D-7B62C7DB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B797-D77D-418F-8BC0-3B34DEAE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2CE9E5-B5BA-4C45-B0D1-FC5FABDD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52D62A-27AF-471D-8904-62E671E8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F2A13B-04C5-4D09-987C-6767DAB7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D67572-EF90-4EF4-84D2-4BE9CC81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3996EA-DD75-4D1D-9625-223DCE54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649862-599C-4D56-8B19-52B99F22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F4F12C-29A4-4F03-9AED-752E7D56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C5B17A-378D-4BAF-9BE8-A0149B63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9905A8-C437-44C8-B13F-2CF4953C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9F3188-1BA5-4B1B-AD8E-89D33208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B183-6AB2-42EB-9B8F-97263E34D7BD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9BF8-8192-4427-BDF4-FD3B2CE55F34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050F-FF81-4804-802B-F316194D07F9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0134-4DF7-4BCF-ACA9-A2AF7FB91CA1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83F1-EBBA-4AA2-B993-259281CFD7A4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1618-B91A-4B73-95A6-8BA1C19B0C13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0307-209D-4099-98F6-AF079253629A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5731-2159-4708-9584-A050726A5F49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FAB5-0D54-4172-B29A-797FD8B7C446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978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esson 10.2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(mean)= np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n = number of trials, p = probability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of succes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σ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(variance) = npq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q = probability of failur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σ  ( standard deviation) =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4800600" y="4648320"/>
                <a:ext cx="20113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q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ppose a dart player has probability p of hitting the bull’s-eye with a single dart, and all attempts are independent.  Prove that the expected number of bull’s eyes the player will hit in two attempts is 2p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inomial distribution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50292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0q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+ 2pq + 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57200" y="5105520"/>
          <a:ext cx="3200400" cy="111276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1q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Rockwel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p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Rockwel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  <p:sp>
        <p:nvSpPr>
          <p:cNvPr id="403" name="Rectangle 8"/>
          <p:cNvSpPr/>
          <p:nvPr/>
        </p:nvSpPr>
        <p:spPr>
          <a:xfrm>
            <a:off x="5105520" y="48769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p(q+p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5638680" y="56386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the binomial distribution of tossing a far coin 250 times and counting the number of heads, what is the mean and standard deviation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ean: np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0 * .5 = 125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d: (np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Rockwell"/>
              </a:rPr>
              <a:t>.5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(250 * .5 * .5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Rockwell"/>
              </a:rPr>
              <a:t>.5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.91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r some binomial probability distribution, </a:t>
            </a: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= 45 and </a:t>
            </a: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6, find n and p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Rockwell"/>
              </a:rPr>
              <a:t>Pages 638 – 639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Rockwell"/>
              </a:rPr>
              <a:t>1 - 11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0:20:05Z</dcterms:created>
  <dc:creator>Laura Helbing</dc:creator>
  <dc:description/>
  <dc:language>en-US</dc:language>
  <cp:lastModifiedBy>Laura Helbing</cp:lastModifiedBy>
  <dcterms:modified xsi:type="dcterms:W3CDTF">2012-04-11T15:29:46Z</dcterms:modified>
  <cp:revision>32</cp:revision>
  <dc:subject/>
  <dc:title>Mean and Standard Deviation of a binomial distribution</dc:title>
</cp:coreProperties>
</file>