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EE9-298C-46DE-BEF3-D98A9515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795-8A2D-472F-BE83-053A465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148E5F-BC3A-4E5B-8444-78518DDD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F497F6-221E-4DB6-A88F-12DB15D5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4EDA85-E314-431A-A8AF-D45AB8CA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773A91-31DE-4647-B744-53F93305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299F6F-9BC7-41EF-BD2C-F7C6039A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0153CB-2F7E-4B84-A2A4-9BC8831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54D641-FDD0-48F3-A231-296D9555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20B3F-38BF-462C-A8B4-B787EB0B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448F7F-B3FE-485B-9D70-717BB302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2DB-63AE-4605-8244-337501F7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E1D-F71A-4799-BFA3-D913331F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39CA8-D90F-407E-9003-24DA167C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85B2-2F2D-4AF9-A401-5EE08E77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FD3D2-F453-4775-AE7D-374ADF77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48219-3C67-4C1D-8BF5-C2BDC7C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DB263-F0BA-4B9A-81AD-3180282E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BA9FD-4CFA-4987-9911-58C9BB07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B34B3-1E80-433E-A6D0-7A5ED5B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41B-DEEE-4A2A-9EB2-A209D16B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6CA81-9E36-4542-B2D0-D59B88D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01163-C491-4A28-9426-866F3A8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3FE6-3B76-466E-A7B0-0579F729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D9D02-5E81-4775-9170-5C803F76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7DFCC-AA83-4CA9-90AE-D7290A20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5990-BA56-4DCC-92A6-11AC29EC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2680-8A63-490B-8621-5E7D53F6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3259-73A5-4331-812A-4507E911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F43F-C514-4CBD-B50A-6F235276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EE83-74FA-4053-955D-EA460D8C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D83-777F-47A4-944E-770F50E6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5CE7-D81F-4816-A059-5B2931C4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1303-E04C-4D21-A8F3-0B32C66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36C84-DCAC-4385-8282-EEE0DF0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FB9D-D294-40AD-B181-D0347799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EF5A-C2B8-426F-865A-F0060919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ACA2-1583-444B-92AB-9BE01C79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3702-B000-463D-BDD6-ADB1FDCC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AE49D-570F-4234-AE54-B0393B9A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4B822-FD52-4B37-BEF6-734DF10A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CB8E5-1E22-4D7C-A6B1-F23FF82A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83D-D1FC-4B84-ABF2-4294C8F7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CE9F5-E0FF-4D39-BA29-B4B6BA08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C5E3B-C514-4CDE-B758-6FB6F959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07D47-7435-4B1C-9414-377B5FBE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314CF-E07E-4F1A-B0CC-76386AD0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1B148-8ABF-4CB5-B0BA-DD452ECD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C6DDF-A120-4832-94AE-5A7D6D98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C238B-3F84-4112-A5C5-32B0580B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9C734-5186-4029-8C21-859C95E5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56FDE-EC99-4B2F-9524-F57FEFC3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F2C73-8D29-411F-9E64-57E1B7A4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112-3E11-49FA-968E-091BEBBD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72D8-3A1F-4D42-9106-E9EB7763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19691-BCCA-4E82-9508-99356C86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5E155-AB6F-4BD4-9A68-20B64066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C9215-FFD9-4681-BE13-72957B60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CC5A5-9BD7-4918-A717-9FDA25A3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3172-323C-4A1C-AAB1-6BB9382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29F6B-BCA3-4E62-8337-42232C38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D00D5-BB70-4062-A6F2-5B05C34E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26DB6-92DD-4435-ABD8-285E1DD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1B70B-226A-49E9-842F-BB923F8F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F73-FD6E-4CB4-9B3B-F251B870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5766F-505E-4246-9A52-1275BE1B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05EA-977D-46EC-9EEE-6462500A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582D3-B45D-46D4-9594-FF7E410F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788FA-6CDD-4E16-8F72-EC29C0E2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FCB3-07FB-4989-8A90-00FCE9DB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BEC9D-A65F-43E8-BD31-DF1A3A74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50B29-1D0D-41E1-B284-1D32DC38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8C7F2-8C7F-4B41-95F5-3DE75F93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601F-F373-40D7-B56F-7B16CCF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79562-6CA5-447C-942F-8617658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358-63F9-4399-96AD-61BB58F2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A227B-7543-4B62-BAA8-6CDC5E37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C881-F82B-47E5-B734-3210B088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50584-0806-4EB2-9003-C4B9C854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F58AB-A7D3-4D84-9E8D-53FE0619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1EF2-BAA6-4353-BEA2-E0E69895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3A6B9-0F4A-49C0-9338-49E9A05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1F46-EC8A-4CB9-B476-B9BE794F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F1937-F417-4E51-8C12-5F2AE7C7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7E40E-D2CB-45B1-B172-C86D2404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850A-2A3E-4B94-8D52-E6B3A6F9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D40-79E5-4455-AD72-CA770F0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5801-E3EA-4A73-BF0C-24E77D54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19263-E679-41E4-817F-566AAF8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B98E8-F084-4422-A211-858B4237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7DF58-4582-496C-A534-983D0A66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940E-0BDC-4E93-A679-2077D955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0E59D0-4640-4253-8353-B3E4D5F6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B56E4-883A-49A2-BBF0-88324F75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F0CA2A-698B-4A8D-9C73-5F7AF31B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A9874-A46C-4C7D-8E50-AD98287D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32B117-117F-4D49-B4E9-06FDDC9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F2B-AE04-488B-B1B0-5614F85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7B992-4D11-49D3-B45E-7E997C73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6F991-41D2-4035-95A5-19F3F63E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CACBBE-4744-4A0F-A3D6-C517D49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B3FB8-72B7-4C8A-985C-8CDD270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67FAE-A4F4-40CB-8601-237F52AC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C12426-F22C-4719-83F2-6C123FC1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C491E-EBC9-4943-8F6F-6C73FDA0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EC060-DF71-4E70-990A-84CAF22F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B4B5D-FAC4-4CB2-838A-E86B33BD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3F83C0-1401-40B3-9DEB-AAA93E8E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52AD-AB77-4917-B1AC-C1D562DA7190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A65A-1E28-4FEC-8018-743F8E42809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B723-19CA-42C5-AE8B-0C3C25B1F478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4F3C-FD90-4D0F-992C-3049F4D6F36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D5C-B4A9-4180-A759-0FCC18A4B6A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E41F-9982-45D2-A109-2E3DD04DEA0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1D00-2C4E-4D85-84E4-CAA724F0785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EC38-4670-481E-A55F-FDF90ED037A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77A8-8E6C-4D53-9503-67E789B0DF4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978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sson 10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(mean)= n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n = number of trials, p = probability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f succ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(variance) = npq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q = probability of fail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σ  ( standard deviation) =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4800600" y="4648320"/>
                <a:ext cx="2011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a dart player has probability p of hitting the bull’s-eye with a single dart, and all attempts are independent.  Prove that the expected number of bull’s eyes the player will hit in two attempts is 2p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nomial distributio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50292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0q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+ 2pq + 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5105520"/>
          <a:ext cx="3200400" cy="11127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1q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p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sp>
        <p:nvSpPr>
          <p:cNvPr id="403" name="Rectangle 8"/>
          <p:cNvSpPr/>
          <p:nvPr/>
        </p:nvSpPr>
        <p:spPr>
          <a:xfrm>
            <a:off x="5105520" y="4876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p(q+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5638680" y="5638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the binomial distribution of tossing a far coin 250 times and counting the number of heads, what is the mean and standard devia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: np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0 * .5 = 12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d: (np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.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250 * .5 * .5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.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.9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some binomial probability distribution,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= 45 and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6, find n and p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Pages 638 – 639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 - 11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0:20:05Z</dcterms:created>
  <dc:creator>Laura Helbing</dc:creator>
  <dc:description/>
  <dc:language>en-US</dc:language>
  <cp:lastModifiedBy>Laura Helbing</cp:lastModifiedBy>
  <dcterms:modified xsi:type="dcterms:W3CDTF">2012-04-11T15:29:46Z</dcterms:modified>
  <cp:revision>32</cp:revision>
  <dc:subject/>
  <dc:title>Mean and Standard Deviation of a binomial distribution</dc:title>
</cp:coreProperties>
</file>