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1D0-41F9-4962-BE27-02238263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3BB-F89D-4448-B7F5-1D11FF8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86667-3EEB-48C1-ACDF-E1C8FBD3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4A0C0-2F59-4D23-9C37-54473803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D6F65-9239-42E6-A2B8-B4DDF140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601AA2-9D4B-4129-ACD8-AE48F61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CBC7A-2479-4147-870D-B382EA5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C2AEB-3EEE-46C2-8E7C-AF14DE5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2B194E-8E97-4273-B55E-F1371B0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6B57A-D211-49B5-B532-9069DAE4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1C8202-403E-4700-AAA8-5A39346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F53-8185-499D-9C00-F5BF6FA0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DB2-4E4E-4136-A3B6-8A4C9679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7B355-62FC-4D2A-91C8-DE1E32C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D3872-415B-4D9B-A582-80F2F0F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71A50-B60D-4F5C-968E-56DBAB3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E9851-4D26-42BC-BEC9-7BAA4F13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4975B-72EB-4F74-9127-79CF2CEE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443D3-6476-4F99-85B4-0EA19326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944E4-422F-42F1-A827-D11BA68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4F3-8082-42CF-BA75-5E98C487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D82CF-2A28-4FED-8A11-E5E3C9DD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0A49C-C832-4F98-BD3C-487FA8B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F0E58-9224-4CE6-A8B5-1C9B3651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F8828-65C9-48DC-BFAF-7E057709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F0FA4-F2E9-4095-BB81-4FFAD02A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6C440-1785-41F0-92D5-4A2F292B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E3FD-C71E-450F-83D9-1B9999AB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D3AE-FA86-43BB-AD15-23922E43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C9A1-2ED9-47C8-A322-3D85DE13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7EE6-6C72-4453-BBE1-B72C028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D48-755D-49A9-8E81-85A0F2A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2D0B-7F67-4BE1-A795-75EF3FCA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5D4D-6564-4FC2-A581-8BCEA1E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BED0-DED1-4052-BD6D-7A5707B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2D41-13DB-4925-A4E1-E9900B2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D4FA-D516-4FA1-A88A-4088BB6C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4DB8-71B4-4AAA-B6FA-31597FB0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EB85-7D29-4ABA-ADE3-84C2F3F5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DC98A-5DA7-4132-B046-833A71B0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8CDA8-0E7C-4805-8054-62478B75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3A4B1A-4CA3-406D-9344-0D446A38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565-EB55-41B2-A5D9-9767D53B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1D861-C0BB-45D2-9A30-54D8D573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3E8F0-3E67-4D68-8306-5241134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DF7DF-5C34-4C43-8B71-AEBA2311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1A35A-9E9C-47AA-B717-51E0F85E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927EC-C948-46E3-BC93-2B7B6F2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8AE90-936D-431C-BA19-FA28E3A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C21B7-3A47-4531-A8DA-0FD06D78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32060-30E2-4A0A-9625-BDEC30EC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9B24B-0577-44CF-950E-310D9021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55BDC-5617-4F91-9A76-307232E4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856-F276-457F-A7CA-EE26F1EF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46B10-95DF-4686-9C00-36468413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05598-11A6-4E66-9B83-65676A6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F20B-B534-42E1-9F08-007072B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F3B8-6967-406D-A9BE-4D124F5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84C9-923F-41BB-8545-CEF1B8F0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CC2F-244A-4464-879C-BEB492D9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D93A9-01D5-46B7-B478-AEBAA9E6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BF2C-321E-4B1D-952A-2ACBCED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3608-AB0E-4AD6-AFCA-DC390157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5A261-AFAB-4F71-AF19-9DDE9A57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A59-88DB-4DED-9F08-0D2D4909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E0F7-7458-4A97-B4AA-0D91164D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9AC60-93AB-46C9-92C0-EDF6C085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40EF-4BCF-4660-A028-3F4502E7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0B23-BAA0-4F0D-BABF-0CF14B8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1C43E-794E-4B91-8BE1-AF494BFF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72D8D-5729-4588-853A-DDB246C2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86210-7FD6-4797-8A24-CDD337C0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22D2-5E8D-446F-B192-B612F36F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7D8D3-A7F4-47CF-9AB8-BF9F1D02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24E34-8EB3-4F3F-B688-7AF1D499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3B9-1A3D-4E8E-84AE-1E2F87E3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7D8C-C9D6-4A2A-8AED-8DA148F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09BB-EFA9-490E-979A-31D9DD3A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6F73F-66E0-4CB4-9FE5-D9F0E045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6A43-1197-4C79-A906-941FAF2A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CB5A6-DBDB-423E-9914-9F3A4A8D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1DB66-A65B-4110-9455-D524534A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8DE52-2F6B-4BEB-8713-33A8E1EC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31BD0-1F99-4763-840D-ADA40518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94498-FCCA-4154-8A66-50B4E63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0535F-EC55-4203-B051-741557C1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4BA-9504-49C4-9D37-B20D28E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3A46C-E39E-46F3-AAEE-CDE8B5B3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38B0-14E1-4FAA-A2A3-9242F60E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9B4A9-D8E8-41C2-A865-365FFBFF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7F309-C128-40F9-AA8F-F80969B7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4265-BD33-4F06-AE17-BAD15A42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E8F40-445E-404E-9B09-4EE48A32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E6813-5771-4DE1-9B22-047B5C44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D655A-F714-48C3-A702-59F5756E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A6F852-6232-475C-A9C7-961D13E5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87187-C958-4582-8571-212EDB77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494-73AF-41FD-986B-0FEED9B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81B3C-C4A7-40C2-9D39-189C4FA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4E6B6-20ED-46B8-80F8-E7E17024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2B616A-9C33-4891-80D8-2C87310D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4C95BB-264A-41E1-B5F1-238ADBD4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1396C-9F5F-4C6B-8167-58B451E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D6686D-7767-43C2-B7BE-873444B5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1C9BE6-A005-47E1-9661-783F5C79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649E86-65CB-4111-B435-2AEE06E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99D83-CC85-4316-8E26-91BE54F1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983704-9AE0-4747-8267-18A2AC6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9330-C233-44CB-8220-73B49649F91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7A6-27E2-4882-A671-9D3BEB7B6CE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F1B-DA47-42AB-9DE0-9803A07DC86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9BB1-F9E2-4886-B44E-20778DCBB23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19A-3A8B-48B6-B3C1-C54535F8D35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05AE-712E-4CCD-8B53-86E0597A8B1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EF3A-33F0-4714-8407-017C131B669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1479-E07B-4018-A8BF-A26C76B2BF5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DA4D-0092-4CDB-8F54-086FC44BC45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10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mean)= n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n = number of trials, p = probabilit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f suc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variance) = npq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q = probability of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  ( standard deviation) =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4800600" y="4648320"/>
                <a:ext cx="201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a dart player has probability p of hitting the bull’s-eye with a single dart, and all attempts are independent.  Prove that the expected number of bull’s eyes the player will hit in two attempts is 2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nomial distributio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0292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0q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+ 2pq + 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5105520"/>
          <a:ext cx="3200400" cy="11127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1q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p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8"/>
          <p:cNvSpPr/>
          <p:nvPr/>
        </p:nvSpPr>
        <p:spPr>
          <a:xfrm>
            <a:off x="5105520" y="4876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(q+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638680" y="5638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binomial distribution of tossing a far coin 250 times and counting the number of heads, what is the mean and standard devia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: np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0 * .5 = 12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: (np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250 * .5 * .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9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some binomial probability distribution,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45 and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6, find n and 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638 – 639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0:20:05Z</dcterms:created>
  <dc:creator>Laura Helbing</dc:creator>
  <dc:description/>
  <dc:language>en-US</dc:language>
  <cp:lastModifiedBy>Laura Helbing</cp:lastModifiedBy>
  <dcterms:modified xsi:type="dcterms:W3CDTF">2012-04-11T15:29:46Z</dcterms:modified>
  <cp:revision>32</cp:revision>
  <dc:subject/>
  <dc:title>Mean and Standard Deviation of a binomial distribution</dc:title>
</cp:coreProperties>
</file>