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E67-23C8-4DC1-B77E-CEDF3389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6627-66F9-4785-86FD-F8532AB5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719DB-7BD2-426D-9608-E9B4B24D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DC5E3-0064-46A0-AF02-3DE60BC4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3E4E6-9EB8-452B-88B6-F8079839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4C47A-C693-49C8-940A-1874CA8D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F1D823-A03C-413C-9BF4-24C2113C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A65C4-6989-4380-B20E-680C76E1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17EF8-7647-4D10-93CD-318EA01E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03B77-A249-4149-82AB-EF7F2BDF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11037-4EEC-4112-AC14-F1D3878C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A90CF7-D72D-4434-968D-4342B4BD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B86-5CA2-4F19-B0E8-CB3928B9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DF153-55F9-4D1F-A969-55776427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FD564-8527-4117-8DA6-FB663B2B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04CD7-BE90-466C-A51D-4A201E80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930D4-0AAB-4721-B6F5-ACA6C6B3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575D1-68EB-41D6-92FA-99FD66F2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C698E-A88A-490E-AB7A-C550F45D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D901D-9EB7-4F71-B8B4-0B0008CA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857EEC-395F-45CC-81A8-B257DA1D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74A38-E5D0-43E4-9A53-1299163A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85D21C-8212-4E06-A692-520EF530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72C-9084-453C-9297-EB5B2791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7CA5B7-2BE8-4916-862D-FF089C5A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5F825-9ED0-40C6-A8D7-F38C9ED0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3D0E8-D25F-41C2-999E-35E4C279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6FA76-4374-462D-AECB-BCFCFA47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6E2D0-5F00-4C3E-84D3-F02A7FD9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5A79F-E850-4E55-B027-417D1294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7F202-CB1A-40D8-961D-A23FE63D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51394-0F94-4BB8-AD0A-9AAF7567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21776-EA21-4516-B161-A795409C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3E869-A090-46D3-9994-D071776B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84E7-E2B9-4599-9023-0E139489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4B400-46B1-42E0-B08C-268B7BF4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A5ECD-9494-40A5-8674-63D9C2BF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D74CC-5C7F-4C39-AEAB-8E5463E3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867D8F-C386-4DCB-A8C2-B9E90475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8D345-03A7-48F1-9BB4-33841A3C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22141C-2A11-4B34-BF1F-52D3B6BF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E10D71-5BEB-4441-B761-FFA6E721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C4EFA1-FCAE-437B-A417-3E3BC27F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A23F0-FEE5-4AA9-9348-C6D9A1D6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74F264-510C-4D17-8149-35427EFA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966C-3ADB-4C21-BBEE-1397ABE9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9187AD-02FF-4FBF-ADE2-68B8B0F0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587D3-C608-40BD-91D7-C4500FC4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B0856-F98C-46FA-8FAE-1B629F1E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716A8-0DC6-4D36-B501-1968357A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7F2EA8-DC89-45AE-B991-1853E48C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561B-29DB-4F27-87A8-A72FEC98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64F7-FDED-43E7-914A-66C59392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9D60-1AE5-414E-BAFD-DDD377DC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0DE3-AAE7-4363-A54D-C4278597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65C5-2BD1-49B1-B432-374C0AD6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1AA-4DF3-45DE-A1DF-0066110B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D361-767C-4A0F-AE36-62A9D8D3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B03C-830C-43D8-A4D3-78EB42C6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B5ED-9A98-4B35-9E52-E8543E7F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4FE9-6A5F-475C-AEBC-1FC4A84D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65E1-8A5B-49E6-9E89-262087B2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0BC69-C116-4878-A08E-A82DB56F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CF79-E7EC-4A63-B981-73C041CB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98177-736F-4EE3-B7CE-15AA20F0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C0224-175D-41DA-A512-EB8F865F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EC68B-7F79-4861-A763-A27CE298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10E-CD75-4D2D-A05B-9EBCDF6D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1345B-FD88-47E0-B59D-1A67D045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C877A-B73B-4481-8591-D6B327A8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10890-A510-495F-8910-C5E9525F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E18F9-4D19-44C2-BBCF-0DE47A51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8A144-123B-4D5B-9423-6E586CCD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4B59B-AE0D-4657-91DA-7D5B3449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7A56C-CA2C-44D2-AF1E-5EAA7247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A5160-A320-4CE3-94D5-EF424148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972EC-217C-4C90-916A-EF3C2D0F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2CB27-0E08-4795-A798-4B7AB049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7D8D-385B-435E-8E8E-C5CDAE24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8F974-08C9-4C94-9847-5D1E66A3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C5CFE-48E7-4B6E-8D6A-54BA554D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F46C4-25BE-4C6A-B2AB-1AE8DDE5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22218-5A9E-4315-8E7D-F46E7E41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38012-6EB5-461A-B9D5-87708E51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EF6F5-D5E9-4629-AECE-4158FB0E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475BC-3C2C-4CF6-BB94-3B835737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68486-1FF2-45DC-8999-6E104DC3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6BFDC-909B-40CC-8021-CB2DB3E3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D7751-0E90-4629-92A3-FE81A32C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8529-0781-4458-9AF6-DE7DE105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AA563-F216-42D9-A1F3-887E03B4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6DA2C-A673-4AA2-AF5B-DB504872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0857A-A170-4318-B886-B27E212C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AAEA4-8A5C-4271-87F8-98BF7D38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CC1C8-2BF8-460D-9148-FDB8DC39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51C6A-4402-450B-8D69-5271D5D8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DF3E1-D7B2-4484-B4AB-8BA2F695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5746D-68B2-4826-AFDC-B1F3F94F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CF657-A76C-434C-BCAE-FF7D94CE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84D53-9B4D-4943-8AB9-CF15B3FF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599-A4E3-454F-BE52-3B1E501D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99BC4-9B71-422C-BC00-AE6A15FF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2484B-8E07-486E-A258-5E78DEFD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512A9-181F-4E74-92EE-C65750AB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8EC62-AA4A-401D-B00F-A08A4514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53949-5B03-4A25-B820-3D4164B8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CC729-0C0B-4BF5-AF56-460FB7CE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B07A9-B710-42A1-9248-860963B1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6BFF2-8C60-4366-B22C-E64ABA7C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ACEB3-ADD1-48DC-8CE9-76E4E7F7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E8178-7F1E-4DCD-BF05-4FBCBFF0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B8F6-033C-4B29-971C-8F16E66E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DFDE0-AEF3-4BB2-B4D5-B68DDCD8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93909-61AE-455B-8395-10A23529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E00A3-B3AB-4EAD-B5BB-95E312B8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B0EC5-F389-46B0-8722-597F5D83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6C30F-18E6-49CF-A04E-85A1EE52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577BD-A480-4A24-A72B-F1A54A3F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12FEA-AFAC-44F0-95AC-70C07DFE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A34C3-A7D2-4B46-98D4-85D31509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1FF54-77D9-4F47-B2D8-A79C3E71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13502-776F-4208-B366-90E2A488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FE0-D0CE-466E-8D11-9A843012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69836-F5E3-4BCE-88D6-73E4DBF0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EDE24-4F85-437F-912B-B113E4F0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234F5-1A36-45AB-AB8C-0C05ED0C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E2FF8-A426-44B5-BBCC-C5A3EAB3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4C775-0DA1-47C7-BF86-44E820B3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E594B-BB6E-4841-98F5-C992C2AB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48038-E340-44B8-9F9E-9459D964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EADFF-8183-4FFD-99E4-759A70AB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41E3B-A8FD-40C6-9184-6AB908FF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7AEF8-5669-4F38-A009-53DE55E0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7118-9CF5-402B-A94A-B1FF12C6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26DF2-4B99-49B0-A273-F2736DA1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B4CFB-C312-484C-82FF-1F12F32B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BDF10-46DE-4FAF-9BC8-5BEB7956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7C647-A45B-4852-B92C-BFA73F9B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F11B0-EF20-424B-B9C0-AD25269F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D0605-DE35-4F41-92F2-9B625CDB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C1F30-0630-41EE-8F0A-3D092176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B9CA4-D093-4C28-AA40-A3A3383D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7288C-0B7B-476E-894D-E776E867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4B72DF-D652-4533-8F0F-A4272173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D0F4-67D3-418B-86B8-6FAD5C59BCBA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710D-9137-434B-A8F3-9F9A56C7EAD5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BE79-294E-47F5-87B0-544D6479127F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03F5-4DF9-4E88-A2D1-C921A016AE89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0077-3B9A-4D54-B2C8-7041CFBDD0F5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93CC-FFEC-4779-98E5-A76E1614DFBD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4BDA-2547-4CA2-BC61-07038038F16A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B599-D9E1-4E45-9678-C64B7874E059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E2F7-98C4-4C64-9861-445451FC4747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C90A-069A-4EFD-BC17-39B3211118AB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340B-23FC-45FA-A4E3-9F658E71FDCD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5DAF-8031-4A58-BD83-474DF0D01A2E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Georgia"/>
              </a:rPr>
              <a:t>SECTION 9.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88c"/>
                </a:solidFill>
                <a:latin typeface="Georgia"/>
              </a:rPr>
              <a:t>Factoring Sums and Differences</a:t>
            </a:r>
            <a:endParaRPr b="0" lang="en-US" sz="4200" spc="-1" strike="noStrike">
              <a:solidFill>
                <a:srgbClr val="89006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Sums and Differences of Cubes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= (x + y) (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– xy +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-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= (x - y) (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+ xy +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For general odd powers…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= (x + y) (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–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y +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3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- … - x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-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= (x - y) (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y +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3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… + x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1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ind the fourth roots of 16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-  16 = 0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(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+ 4)(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– 4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x = 2i , x = -2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x = 2 , x = -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2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actor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– 64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12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ver the set of polynomial with rational coefficient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(x – 4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)(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+ 4x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+ 16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3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actor 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over the set of polynomial with rational coefficient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ame as (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(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4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actor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completely over the set of polynomials with rational coefficient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ame as  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(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x – y)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x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x + y )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-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- x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Pages 605 – 606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4 - 7, 11 - 19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8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5:18:38Z</dcterms:created>
  <dc:creator>Laura Helbing</dc:creator>
  <dc:description/>
  <dc:language>en-US</dc:language>
  <cp:lastModifiedBy>Laura Helbing</cp:lastModifiedBy>
  <dcterms:modified xsi:type="dcterms:W3CDTF">2013-04-19T18:53:53Z</dcterms:modified>
  <cp:revision>12</cp:revision>
  <dc:subject/>
  <dc:title>Factoring Sums and Differences</dc:title>
</cp:coreProperties>
</file>