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922D-96EB-4E72-BC13-887822D0E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A57F-21BE-4DEF-AE95-01CC16FA2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D2B3DF-9919-4830-9152-942A6FBC2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2F3140-DB12-4DA6-AB89-4947C8182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C5630D-2F11-47C0-9E0E-2D88B0BDB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884735-FD8A-4654-83A6-78258734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DC5F3C-52AF-42E0-BC71-986F113C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9B08C2-2961-4A8E-BF5B-421FF811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88EEEF-FF9C-4D5C-8530-1DD42647E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134159-FD4F-4F01-96F5-4AEAE2985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605330-8AC9-4CDB-ACE1-29B08798F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B20DF1-C78E-48C3-9182-E9E6F9253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53C3-BC79-4BB6-83F0-6F780E764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6CE4BE-9347-41D0-BFCE-C3C00AA0F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C2FCD0-3DA9-4088-8B41-4F52E3040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4A4DBC-E19C-404C-BB40-D38B516FB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CBF46E-6D82-4A32-839E-77384DF9B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DF6734-BAF9-452E-A2C9-30712D7EB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09D511-4F65-489E-8050-D5440561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FF487A-E5AC-450E-AE99-1224546A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924917-C689-468F-82BD-7AF6DDAA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416CE3-1193-4D20-BC3B-4CD1C80A1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41C65C-BD93-447E-9E16-8726A51A9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031C-2959-4379-B50C-16CAFC885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5D4E69-4269-4D1D-A78C-276CE8EBB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3DBFEB-64A4-4A25-89F9-C8B06CDB1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25CB42-E445-41A9-B50D-EABEFD28C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875178-52F1-4625-ADF1-351B283AD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747C16-F856-4412-BAC5-58D210757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8AFDC4-EC4C-49BE-8C16-330B34B7F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CBD92D-956E-4BDC-BD81-410919D71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F5C0BB-31B1-4660-B8E6-B33D654B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105C78-3260-4321-A2C9-830BC1A6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08A608-3586-4302-BECD-C32660CF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BD0F3-BAEF-470A-88D6-61105429F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923309-DCB2-4CBE-92CD-44CEF5943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9F34B4-94AF-4ED6-99CD-1B41895B3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A3C6F4-E471-4698-9902-DAF4E45F2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CFADC7-E77C-471C-8564-E5B695381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220010-E118-4253-ABB5-82D795F99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C40964-A3FB-4054-BBFA-A099A048C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C15834-6BF4-4D9B-AE44-22155CBBB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CCDB52-122D-4041-80CA-56F2FC33E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41E717-A296-4611-A22F-D022153B6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A58985-C843-41DB-A38C-62D98DE4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DBDC4-5F2F-4016-823C-3B8E21A20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86B1F0-2EA9-4220-A318-C77799AA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EA0F55-846D-40A8-AE13-58EBCDE2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502B8B-1D18-446B-B602-9063F700F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1CB550-40EA-4FF3-9A76-50BF3A2A9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94C7C5-EB85-4543-B5D2-7F777ABF7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0B515-41E2-45E5-868D-28C76A2F3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AAA45-781A-4F72-A5F1-3F76EF05F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283C3-D048-47DC-AD79-F64D62440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7C799-9666-4C66-B1F0-8472A8E12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FAE65-BE0F-4ED4-A280-DFF4083B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CFF8-E988-4689-92BF-C0E612003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C5E8C-4C27-43D8-A56B-BC384766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66922-26E3-4331-AE69-DB5AC5CE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50F95-B36A-4ABC-B2E1-A05EF906E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5BC44-9656-4CE4-A7F5-829D19D41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C3208-7BFF-4212-8527-8D104EE07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431C2-5C46-45B3-897A-2C3B60176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6CA5E-0790-4CFB-8B2A-11B108FB7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78071-BEE0-4BDE-A5D9-63263119B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8F27A-F785-41A8-BD39-74436798D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79FEB-F221-4F77-907B-42EB6D04F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25CB-A873-449F-8F99-ED914435A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DBBAE-6D40-4C51-AD46-5E7992BD7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7055B-4283-4012-9B4A-508A49C0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87D35-1286-43CB-8D05-26137E34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5682E-E98B-4DE2-9DBA-0246E995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06BDD-0851-4239-A639-4F17A93CA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1652A-4EBC-4931-9161-90257D75C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76A81-8401-4F05-9D8C-495577396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FBE20-6059-499D-BA20-BDF417743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714D0-1172-450A-81EF-7B9D818F6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DF209-5C63-41F6-98A6-5F432A008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4F21-4EB3-42E2-B8C8-205E1D183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107CE-F92D-497E-8131-F676C4058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330B5-B2E7-4ED0-8CE3-EF228E12F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3127C-784B-48ED-8DAD-D69F60764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8572D-12F0-46C7-8D2A-22F3B2EB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FB3E7-70E4-4D5F-8E8E-683452B9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A83BE-C969-4A00-85D0-F8C7F72E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7363D-81A9-4063-8259-2DB7099C2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78A6C-03B5-4900-825B-977C4AA49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BD30F-15A9-4A85-BDDC-3AC2CE1F0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AFD52-96BB-4F7C-AE22-9F6559406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EF52-2C53-4253-80FB-62E9BCC2A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AF135-58C0-47B3-B891-2589939DA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9EA3B-3189-43F0-A7FF-164FD291B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8D656-5120-4EA2-8CB3-887EE9A76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384DB-DF31-4137-BD8F-AFC5B7C68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75DB9-10D2-422B-BE23-2C99D167E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40FAB-4B91-4DF4-939E-FC118489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4D0B4-CE49-46B4-BC5E-E11EE280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86BB0-62EE-456E-B437-53D0B03A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91C3C-4CC6-4974-8A17-1B9CB5631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72024-D47F-4D04-B635-833B76613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84AC-977A-404F-932C-4FAF59D64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838AF-C611-4024-BE7C-751A5E67E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B447F-DB07-49EE-B747-306B0DD2C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F6CEB-7607-4115-9A6E-1AD7E1294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C127B-3F4F-4BE6-B0BF-41BD834EF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B5CFD-3F66-40EA-88CA-379D065B1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04EFAE-1393-4264-81BF-350BEB112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C3E3F8-F59D-473C-988D-91C8CA0ED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336FD-CFDE-4715-A728-765DBFA9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4D86B-1602-4A52-A4F7-ABF3BDF5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37DAC-5EAF-4043-A7BC-224EF4F4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F3F3-60CB-4744-8FA6-3C58948C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26DDC-D739-4ACF-913C-6C198A64C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36FBD-3149-4F8C-BA19-0730ED36C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68494-3FD0-4B1B-9F5F-EF163EFEA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0502A-6071-4743-AA3C-F4DA285F0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84E555-7523-42DA-B840-F9BAE0CA1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B7953-DAFD-4B48-818A-EC2375B58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CDDA2-2BA3-414F-95E1-000FD9F86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2CA0A-B3A9-4E7D-9303-2EA8BEAE6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2B1632-C98D-4C25-9436-A0F3E6B03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852541-DCEC-467A-86A7-2532DFC1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3C85-8F6F-4C36-BCA0-529186CE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33DCD-F7D4-45CB-A9AE-E7F03B47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1B44ED-309D-4E36-895C-39B6B952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B1160-DCA1-421E-AD10-C15FE3B67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26C9D6-29DC-4344-9F26-BE6BACA0E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9716D6-C898-430B-A80E-16D718BC1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7A7AFA-03A6-4D2D-99CC-18742C7D9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6A3416-0689-4D19-8193-5D242F0C2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E21893-5D94-489C-8290-737968866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5C247-F373-4F06-94FB-E3D4EFDDD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6785D-FF93-40D9-A77F-4571B1031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3E2B-6AF4-4316-8D19-A45DF03D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C6A06F-5957-489A-BA2B-3A48651FE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845982-2213-4458-9056-53252693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B22E56-CDCB-4DCF-8B9E-0B94BC3F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168BA5-7748-47B3-ACE7-A03D2A3D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F5408-09D6-4C3D-A562-DFE85FE4A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691E3-EF1C-45E3-9875-1FF146E40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AF651B-5067-4D6B-995C-5E7BB1198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89638F-A1CD-48C6-A9D4-5C79076DB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1A2CF2-3F6E-4183-95D7-4E0F2E7A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595CA8-C63F-4F4B-BAF7-0B0F76868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006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A7634-B39B-48DC-8D79-E672C58A2341}" type="slidenum">
              <a:rPr b="0" lang="en-US" sz="1600" spc="-1" strike="noStrike">
                <a:solidFill>
                  <a:srgbClr val="89006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006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A1146-84C5-4A92-A5E0-CB07B6129A72}" type="slidenum">
              <a:rPr b="0" lang="en-US" sz="1600" spc="-1" strike="noStrike">
                <a:solidFill>
                  <a:srgbClr val="89006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006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33648-A396-48EE-845F-7C61E54CB746}" type="slidenum">
              <a:rPr b="0" lang="en-US" sz="1600" spc="-1" strike="noStrike">
                <a:solidFill>
                  <a:srgbClr val="89006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006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799C2-5302-4015-9BEC-9AC808534AFD}" type="slidenum">
              <a:rPr b="0" lang="en-US" sz="1600" spc="-1" strike="noStrike">
                <a:solidFill>
                  <a:srgbClr val="89006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006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E0912-CCAE-4396-9326-B1023AEC4148}" type="slidenum">
              <a:rPr b="0" lang="en-US" sz="1600" spc="-1" strike="noStrike">
                <a:solidFill>
                  <a:srgbClr val="89006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006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30FC7-3DB5-4E9F-A865-ADAB33EC638C}" type="slidenum">
              <a:rPr b="0" lang="en-US" sz="1600" spc="-1" strike="noStrike">
                <a:solidFill>
                  <a:srgbClr val="89006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006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67B1A-17EA-43B0-984D-670F464638CA}" type="slidenum">
              <a:rPr b="0" lang="en-US" sz="1600" spc="-1" strike="noStrike">
                <a:solidFill>
                  <a:srgbClr val="89006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6666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006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07AAD-28B7-4FB1-A8DA-6C54C53D3F34}" type="slidenum">
              <a:rPr b="0" lang="en-US" sz="1600" spc="-1" strike="noStrike">
                <a:solidFill>
                  <a:srgbClr val="89006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6666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006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2EDD0-E8B1-430B-98D7-CB971B23395D}" type="slidenum">
              <a:rPr b="0" lang="en-US" sz="1600" spc="-1" strike="noStrike">
                <a:solidFill>
                  <a:srgbClr val="89006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006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95F5C-E0FF-41BD-AF79-6DC8B4D00CB7}" type="slidenum">
              <a:rPr b="0" lang="en-US" sz="1600" spc="-1" strike="noStrike">
                <a:solidFill>
                  <a:srgbClr val="89006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39C30-1F41-4EB7-AB8E-8552B2A804A3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006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7033-F517-4278-BB5D-F90A70578F0C}" type="slidenum">
              <a:rPr b="0" lang="en-US" sz="1600" spc="-1" strike="noStrike">
                <a:solidFill>
                  <a:srgbClr val="89006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66"/>
                </a:solidFill>
                <a:latin typeface="Georgia"/>
              </a:rPr>
              <a:t>SECTION 9.8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388c"/>
                </a:solidFill>
                <a:latin typeface="Georgia"/>
              </a:rPr>
              <a:t>Factoring Sums and Differences</a:t>
            </a:r>
            <a:endParaRPr b="0" lang="en-US" sz="4200" spc="-1" strike="noStrike">
              <a:solidFill>
                <a:srgbClr val="89006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Sums and Differences of Cubes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1" lang="en-US" sz="44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 + y</a:t>
            </a:r>
            <a:r>
              <a:rPr b="1" lang="en-US" sz="44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 = (x + y) (x</a:t>
            </a:r>
            <a:r>
              <a:rPr b="1" lang="en-US" sz="44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 – xy + y</a:t>
            </a:r>
            <a:r>
              <a:rPr b="1" lang="en-US" sz="44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1" lang="en-US" sz="44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 - y</a:t>
            </a:r>
            <a:r>
              <a:rPr b="1" lang="en-US" sz="44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 = (x - y) (x</a:t>
            </a:r>
            <a:r>
              <a:rPr b="1" lang="en-US" sz="44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 + xy + y</a:t>
            </a:r>
            <a:r>
              <a:rPr b="1" lang="en-US" sz="44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For general odd powers…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Georgia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 + y</a:t>
            </a:r>
            <a:r>
              <a:rPr b="0" lang="en-US" sz="4400" spc="-1" strike="noStrike" baseline="30000">
                <a:solidFill>
                  <a:srgbClr val="000000"/>
                </a:solidFill>
                <a:latin typeface="Georgia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 = (x + y) (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Georgia"/>
              </a:rPr>
              <a:t>n-1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 – 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Georgia"/>
              </a:rPr>
              <a:t>n-2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 y + 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Georgia"/>
              </a:rPr>
              <a:t>n-3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y</a:t>
            </a:r>
            <a:r>
              <a:rPr b="0" lang="en-US" sz="44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 - … - xy</a:t>
            </a:r>
            <a:r>
              <a:rPr b="0" lang="en-US" sz="4400" spc="-1" strike="noStrike" baseline="30000">
                <a:solidFill>
                  <a:srgbClr val="000000"/>
                </a:solidFill>
                <a:latin typeface="Georgia"/>
              </a:rPr>
              <a:t>n-2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 + y</a:t>
            </a:r>
            <a:r>
              <a:rPr b="0" lang="en-US" sz="4400" spc="-1" strike="noStrike" baseline="30000">
                <a:solidFill>
                  <a:srgbClr val="000000"/>
                </a:solidFill>
                <a:latin typeface="Georgia"/>
              </a:rPr>
              <a:t>n-1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Georgia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 - y</a:t>
            </a:r>
            <a:r>
              <a:rPr b="0" lang="en-US" sz="4400" spc="-1" strike="noStrike" baseline="30000">
                <a:solidFill>
                  <a:srgbClr val="000000"/>
                </a:solidFill>
                <a:latin typeface="Georgia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 = (x - y) (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Georgia"/>
              </a:rPr>
              <a:t>n-1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 + 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Georgia"/>
              </a:rPr>
              <a:t>n-2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 y + 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Georgia"/>
              </a:rPr>
              <a:t>n-3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y</a:t>
            </a:r>
            <a:r>
              <a:rPr b="0" lang="en-US" sz="44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 + … + xy</a:t>
            </a:r>
            <a:r>
              <a:rPr b="0" lang="en-US" sz="4400" spc="-1" strike="noStrike" baseline="30000">
                <a:solidFill>
                  <a:srgbClr val="000000"/>
                </a:solidFill>
                <a:latin typeface="Georgia"/>
              </a:rPr>
              <a:t>n-2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 + y</a:t>
            </a:r>
            <a:r>
              <a:rPr b="0" lang="en-US" sz="4400" spc="-1" strike="noStrike" baseline="30000">
                <a:solidFill>
                  <a:srgbClr val="000000"/>
                </a:solidFill>
                <a:latin typeface="Georgia"/>
              </a:rPr>
              <a:t>n-1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Example 1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Find the fourth roots of 16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Georgia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-  16 = 0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(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+ 4)(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– 4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x = 2i , x = -2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7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x = 2 , x = -2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6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6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Example 2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actor 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 – 64y</a:t>
            </a:r>
            <a:r>
              <a:rPr b="1" lang="en-US" sz="4000" spc="-1" strike="noStrike" baseline="30000">
                <a:solidFill>
                  <a:srgbClr val="000000"/>
                </a:solidFill>
                <a:latin typeface="Georgia"/>
              </a:rPr>
              <a:t>12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 over the set of polynomial with rational coefficients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(x – 4y</a:t>
            </a:r>
            <a:r>
              <a:rPr b="1" lang="en-US" sz="4000" spc="-1" strike="noStrike" baseline="30000">
                <a:solidFill>
                  <a:srgbClr val="000000"/>
                </a:solidFill>
                <a:latin typeface="Georgia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)(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 + 4xy</a:t>
            </a:r>
            <a:r>
              <a:rPr b="1" lang="en-US" sz="4000" spc="-1" strike="noStrike" baseline="30000">
                <a:solidFill>
                  <a:srgbClr val="000000"/>
                </a:solidFill>
                <a:latin typeface="Georgia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 + 16y</a:t>
            </a:r>
            <a:r>
              <a:rPr b="1" lang="en-US" sz="4000" spc="-1" strike="noStrike" baseline="30000">
                <a:solidFill>
                  <a:srgbClr val="000000"/>
                </a:solidFill>
                <a:latin typeface="Georgia"/>
              </a:rPr>
              <a:t>8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Example 3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Factor m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6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+ n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6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over the set of polynomial with rational coefficients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Same as (m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+ n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(m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+ n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)(m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– m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n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+ n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Example 4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Factor 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10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– 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10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completely over the set of polynomials with rational coefficients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Same as  (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– (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(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– 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)(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+ 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(x – y)(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+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+ 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+ x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+ 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(x + y )(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- 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+ 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- x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+ 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eorgia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Homework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Georgia"/>
              </a:rPr>
              <a:t>Pages 605 – 606</a:t>
            </a:r>
            <a:endParaRPr b="0" lang="en-US" sz="7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Georgia"/>
              </a:rPr>
              <a:t>4 - 7, 11 - 19</a:t>
            </a:r>
            <a:endParaRPr b="0" lang="en-US" sz="7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8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6T15:18:38Z</dcterms:created>
  <dc:creator>Laura Helbing</dc:creator>
  <dc:description/>
  <dc:language>en-US</dc:language>
  <cp:lastModifiedBy>Laura Helbing</cp:lastModifiedBy>
  <dcterms:modified xsi:type="dcterms:W3CDTF">2013-04-19T18:53:53Z</dcterms:modified>
  <cp:revision>12</cp:revision>
  <dc:subject/>
  <dc:title>Factoring Sums and Differences</dc:title>
</cp:coreProperties>
</file>