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AF8-9ECB-405D-A453-3151B002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3FC-2C1A-4BA2-94A8-AD0A521D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AAE-1739-4C73-BD14-26F931D1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D77-FEAC-4063-9DFE-6C02E769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1835-B2A0-4567-87C7-DE52F0B4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F669-5F3E-4AF7-835E-845929FE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19B8-5F88-4EF1-9AC4-8C18CFE5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798C-C3E6-4655-A030-A9798CAE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94E1-06F8-448C-82BF-55951AF0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BAA3-2952-4329-83A1-6F865111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93FD-CE76-4B94-AF57-5DEF71FA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065-FA6D-4413-B819-314F5327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B709-326C-4615-936A-C82CC341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7BF3-9046-452C-BDBF-3A16BC0B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7431-57F6-40E3-8483-34C77AB9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FD55-3F13-4ABA-844E-DAF51BFD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C3F7-8636-414D-9FB3-7F47799D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B009-D6D8-4E53-B5F2-7EE60BB0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4992-A5C7-43AD-A90A-CD33A274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29E3E-6E39-465E-91A2-325F1DBA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52F19-DFF5-47CA-BD9D-3443EBC7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B901A-6259-4A78-9BC6-EC219945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A6E-6AF2-419D-8556-3471839E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2BF1-ADA8-4293-ACAE-1EEABEF2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9490-84FD-4370-ABEB-4FB6B44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9C0F-DD23-4C92-9BC6-11377D26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C845-9ACA-4122-A91D-2B3F04DE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9CCEB-6142-4C9B-8225-FDF68698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CD8DF-E2DC-4B03-9E37-DDA70891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1C55-10B6-42BE-A9B1-A78D36A1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25401-1F63-487E-A37E-5AD632EE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9EB8D-BE78-48AA-8AD6-8295ECB1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BEDDE-BEDC-4F38-82E9-C04516B8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AB4-D8D8-421D-8C22-98429E3D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7121D-88D7-4088-B4D2-7BE98CB5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EEF4F-A92C-4E40-92EB-B2795E7B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D8AAE-6391-4F0F-9463-3976C2C7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62575-0F23-48BD-B46F-13B0145C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CA0A6-A556-4482-A7A5-0E7567F9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60CD5-B2B6-4E20-8B3B-F46AE05C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F579B-465B-4DA1-AAD1-B9ECADDB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5F5F3-26C3-4E21-B546-34E529F9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B3E49-F6FB-4BC1-A1D4-8C24A9A4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EC754-FB51-468A-81D3-01470E0D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4D9-440C-4F49-A007-4933FFEB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9F162-4B4A-4811-A8DF-32509EE6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940A1-5C17-4973-8F2C-02D4BD78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3CE9-1019-4DC7-B8C9-D782576E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9ED5A-0C3F-414E-9F64-EC0741F7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832C7-2CE4-44D0-AB73-2F87C78E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D71B4-9296-4B08-9A16-70E103BF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E148F-5CA1-4663-BD97-E86A8EB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A6F9D-C533-4D1C-B0C3-2210C7E2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AB583-DD35-406C-8F61-98591807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A9A16-F491-4989-867E-6E521FBA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9C9-B73B-423C-AAF7-3BC970AF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2F46B-7E9C-40E7-A66F-4BF3ABA8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D3500-8025-4B63-AAAF-B0FBE8B2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542E4-1EE0-403A-85E3-92A4E09E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0B162-45E1-4CD5-B5ED-EF9544EB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73BEE-577A-4662-BEF0-A145E578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64965-F840-4C20-8E9A-F618B33B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A5B11-9780-4FC6-9A29-CF053D4F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DD131-1628-4C20-ACD3-0BA057F1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6C94F-12F1-455E-876C-AB355099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C310B-D3A6-4786-AC6F-EC665661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34B-E9C7-4105-A289-7724E534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9BBBD-EB36-4995-BC37-6144FF5A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271EB-B672-4E25-A4BC-388A099F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538B5-5E11-4B23-A4CA-FF457C47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3D3CA-BDD1-4439-9F8F-598549D7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19295-84E6-4ECA-84D3-06BF82A9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FA40F-CFC5-42DA-ADFE-6FB2DA66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10131-FC77-4DA9-B4DE-DDB5BBA0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2747E-BEAC-4EC7-9DDA-FE352007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78D2E-EEDB-487A-A4D5-34CB8FA2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730BA-4613-4F1E-BBF7-B829016A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F87-D7C6-4612-866B-6333DC21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A0DB2-3D44-40B7-8CDE-4321B035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A3732-E4E6-4624-BFC2-CA7B51C1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85CCC-5FB7-48B7-A0E5-AA4714A3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7BDA2-86AF-4960-865A-05A4EC1B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26AEC-C325-4097-ADE0-3D64852A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7DFC0-2CAB-4373-B164-6BAC992D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6515B-C127-49C5-B298-3257441A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1737B-4904-4C3F-8384-01C74383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A5518-7106-4054-BA17-D1497D04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AFF58-2A45-42FB-B33C-5DF2747D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336-A8D7-4C2C-BC94-79E8099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18C3D-FDED-4003-9F4D-FD88BA9C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83E7B-3654-4D8C-91E5-361C1CA6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9CFA0-5BF7-4725-A5FD-03E4B2F2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BD3BA-9E14-42A4-A03F-73B05535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A9EBB-C5E8-4562-A93C-03417251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A3A66-9376-4C45-9E93-0E544875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0D8B3-B73E-4205-AA7C-E4A2F631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BB58-627F-4341-854A-BB0BB5117D8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132D-764B-4D38-875F-7D01ACD1193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B988-3166-4094-A8A5-9FF1DFFAAD6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A7C5-C2F8-4BED-85B2-15177AAB17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A8AA-5748-488C-8216-308C74C6F04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BCE4-EA9E-45BB-8764-C1E1DB94215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342A-1C37-440F-8959-427E1BAE6C0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A79D-63CD-4954-8825-37D9FAC7087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87440" y="1749600"/>
            <a:ext cx="84675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9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der the equatio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8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68t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ify that 2i is a solu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+ 8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68(2i)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0 +-136i +-32 + 136i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8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Find the remaining solutions and their multiplic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- 2i  so x + 2i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4  divide throug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x – 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5x – 3) (x + 4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3/5, x = -4, x = 2i, x = -2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-231840" y="-152280"/>
            <a:ext cx="846792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nd a polynomial of smallest degree that has real coefficients and zeros i + 1 and 3i + 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hange them: 1 + i and 1 + 3i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o also 1 – i and 1 – 3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x – (1+i))(x - (1-i)) (x – (1+3i)) (x - (1-3i)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x -1+i)(x-1+i)(x-1-3i)(x-1+3i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– 4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+ 16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- 24x + 2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Pages 600 – 601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4 - 14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-262080" y="-85680"/>
            <a:ext cx="8498160" cy="9032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0" y="68544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undamental Theorem of Algebra: Every polynomial of degree n ≥ 1 with complex coefficients has at least one complex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icity: has a zero repeated more than o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mple zero: is not repe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g.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9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9x + 14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+ 7) (x + 2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0 (mult. 2), x =7 (simple) , x = 2 (simp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25360" y="444600"/>
            <a:ext cx="7705800" cy="1341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2"/>
          <a:srcRect l="12502" t="10001" r="69377" b="67005"/>
          <a:stretch/>
        </p:blipFill>
        <p:spPr>
          <a:xfrm>
            <a:off x="1219320" y="1841400"/>
            <a:ext cx="63244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zeros of a polynomial:  A polynomial of degree n with complex coefficients has exactly n complex zeros, if multiplicities are coun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p(x) be a polynomial of degree n ≥ 1 with real coefficients. The graph of p(x) can cross any horizontal line y = d at most n tim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nd all the solutions and their multiplicities t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2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+ 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– 6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(2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+ x – 6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(2x – 3)(x +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0 (mult.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3/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-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rcRect l="12502" t="12000" r="68751" b="65002"/>
          <a:stretch/>
        </p:blipFill>
        <p:spPr>
          <a:xfrm>
            <a:off x="295200" y="380880"/>
            <a:ext cx="8163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a polynomial of degree 4 that has simple zeros -4 and .125 and 3i with multiplicity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x + 4)(x – 1/8)(x – 3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x + 4)(8x – 1)(x – 3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(31 – 48i)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(-76 – 186i)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(279 +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4i)x + 3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raph of a polynomial function y = f(x) has 4 points in common with the x axis and 6 points in common with the line y = 5.  What can be said about the degree of f(x)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gree is at least 6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(x) is a polynomial with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 rea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efficients.  If the nonreal number z = a + bi is a zero of p(x), then its complex conjugate z = a – bi is also a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*note: only the imaginary part switches sig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57:06Z</dcterms:created>
  <dc:creator>Laura Helbing</dc:creator>
  <dc:description/>
  <dc:language>en-US</dc:language>
  <cp:lastModifiedBy>Laura Helbing</cp:lastModifiedBy>
  <dcterms:modified xsi:type="dcterms:W3CDTF">2011-04-18T00:51:17Z</dcterms:modified>
  <cp:revision>85</cp:revision>
  <dc:subject/>
  <dc:title>Nonreal zeros of polynomials with Real Coefficients</dc:title>
</cp:coreProperties>
</file>