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08A-3FB4-4E4F-A618-DEA22D86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5B2-0D29-4AED-A427-6D6EC1C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1A9-002B-494D-AA93-5D7B6EFC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6E3-7B21-4A38-8741-7826A596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B986-F845-4C69-818D-BD3BED1D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3DC-FF8E-4609-898D-986A2943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6B3F-7B66-4E2D-AF9E-23EEA717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2687-F3A1-4691-B7E6-FCC5DB8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8B02-1EA6-4877-AEFA-474FF133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748F-72A8-43C5-A5BB-EDA6FC2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AB8-A359-4AC7-9620-FFCE272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C88-76D7-4774-8466-D24498FC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5495-4A25-45AA-B94D-03AAC8B0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7211-7E50-437D-B758-1D05AF6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D381-9538-4988-86C4-93DFAB45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1E4D-4ADD-4B8C-9879-E4BD9473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6E65-B7DF-44F5-ADC6-9256579A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DC133-BE94-4249-A81F-8138C06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EA38-4CDA-4866-A0AD-5737654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89B7-660A-484E-9B00-E30322C3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907A-6D58-4805-802D-3ED2520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632E-99A8-4CAB-9476-48782FD2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46D-7C4D-4308-879A-056EB750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6C39-40D8-44AC-9695-5E2B752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A472-A417-4D2C-BF05-2F71772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4FB5-19C3-44DA-A252-14579CA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30C6B-3A9C-41F0-B777-009FF57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2D57-B870-435A-8E3F-09046E4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7DB2-F5B9-4DF3-A725-F3CC9418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FF71B-84C7-4317-9810-2479408E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B8FC2-D341-435F-B987-9038CC3D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EA54-4039-4A5A-8935-9507CA1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EEDEA-34D9-4BF9-84D1-C0D404DD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84B-7F26-4251-87EB-F02BBDEE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D9FF-7DF9-416A-8FE5-E61636A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DD97D-2D39-4287-97B9-D08165DE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9F07-86B1-44EF-8959-92F55C06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9881-3D75-488C-9B5F-C0591A8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BC8FB-AD20-4E4B-ABBE-CE93ADF3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CBAE-3909-4902-891D-FEF2145C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CDB7-DD3F-46DD-BECB-0C5D5A53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6394-086A-49A8-804F-2B0CA3E9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8EE2-B6E6-4914-9993-8AA3AA01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7693F-A41F-467F-84D7-FBF172E5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090-F2B3-483C-AA21-CD06BCF2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D9E78-8FF4-4FDD-BA38-5D1581C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47E2-15B5-499C-8519-BBE71CE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C8C8-E080-4AF0-B103-D9ABD395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CF6F-F83A-44F5-AFB9-66FBE67C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D54AD-DA00-4FA3-8A3A-C5989165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2BD4-436D-4E88-95E8-72083E4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00BF-F61C-4D44-9C0D-BD48314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08BD0-4314-4390-A9B5-8C3D0530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B1E98-200B-4C8C-9590-6CE5D37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63C5-2A41-48E2-B178-C830354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E25-E259-46CA-A00A-EACEE5EA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F9594-6BD4-482B-8F7A-68D8D798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C0FF6-27D9-42FD-B1A4-40EC1ED7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0D74B-0F00-4859-9944-C8A138D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2BD02-4E33-46A1-B3E2-56B953F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D11FD-44B7-4588-B5B5-938BCFC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43D0-968B-4BE9-B6FD-A5992C11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95804-A867-4BCD-B337-AC03065F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180B-EE94-4086-960F-C8F24765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AF054-4B48-43FB-8015-C7A2DD1D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0CE3D-119C-4456-A98E-ACC68E39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054-C7AF-4301-B501-D4E8030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4D6FF-EA66-4712-A0BF-7F262E7E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8598-44BB-4E0C-9331-3E6221C8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3322-9299-41A6-86DA-908CBC2F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5CDA2-A0D4-4145-9F45-19B82A8E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3C1B-B263-4AD2-A4F6-17A43361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E4CDF-B4C8-4DCC-8456-FFB93258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D8D6-36B8-4D73-987C-3EB2EC4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8BCF7-4F22-4238-9B3B-DB9DCD96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CAEF-9E77-43EA-80B7-FF067777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2FFE8-E3BA-4B14-A9C9-2F44969D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35B-9CCE-4254-8E87-32A2D4A9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A9EE-DDCE-4B1E-872D-450DAF4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6F0BB-EE1A-455F-8D5C-4FBADF3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2DDBC-B5B0-4B5E-B3F0-ABEC6A25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2C3B-6CA8-49FA-88FE-32DB3F69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3B50C-02A6-45FD-9922-394C77F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63B8E-9839-4E0E-A9FD-55155338E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5B551-51D9-48C2-9F9B-44C08E6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A11C9-8134-423E-BB39-B4743497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BD709-637F-4C30-A980-19C43A36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4A61B-69C1-4704-AF15-6919624E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0B8-07E9-4735-9F22-7AED4270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4BD4-0904-46B9-9BE2-014F9357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1765A-68FA-4D29-AC73-B2FDB666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191A-DED8-4077-AD36-8B451D5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3A4A5-21F6-4B2D-BCA4-C0380630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18745-E453-4E9E-BACC-5610FB8C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E837F-10EA-410D-963D-8C06E02C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370C0-ACDC-44A6-A028-47E0F2AA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A79A-9540-4B40-B988-1066708A899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152F-FDB1-4CD7-9E27-9A937E9DBD7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FEC-F19C-40E3-AF05-C8A08E9EF24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39A-D1F1-48F7-9664-BA939FA7DA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EA65-0FD7-41B8-AD4D-DF1B844D8DE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49F3-1710-49FB-AC8D-6EE9F3CDAD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BD0B-9BB4-4280-A4D8-89022F8B9D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EB9E-109D-4B8F-AA7B-5EAACD0A5F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87440" y="1749600"/>
            <a:ext cx="846756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9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der the equation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8t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t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ify that 2i is a solu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+ 8(2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68(2i)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0 +-136i +-32 + 136i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8 = 4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Find the remaining solutions and their multiplic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- 2i  so x + 2i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4  divide throug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7x – 1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5x – 3) (x + 4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3/5, x = -4, x = 2i, x = -2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-231840" y="-152280"/>
            <a:ext cx="846792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a polynomial of smallest degree that has real coefficients and zeros i + 1 and 3i + 1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hange them: 1 + i and 1 + 3i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o also 1 – i and 1 – 3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– (1+i))(x - (1-i)) (x – (1+3i)) (x - (1-3i)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(x -1+i)(x-1+i)(x-1-3i)(x-1+3i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– 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+ 16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- 24x + 2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Pages 600 – 601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Lucida Sans Unicode"/>
              </a:rPr>
              <a:t>4 - 14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-262080" y="-85680"/>
            <a:ext cx="8498160" cy="9032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0" y="68544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undamental Theorem of Algebra: Every polynomial of degree n ≥ 1 with complex coefficients has at least one complex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icity: has a zero repeated more than o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mple zero: is not repea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g.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1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9x + 14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7) (x + 2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0 (mult. 2), x =7 (simple) , x = 2 (simp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225360" y="444600"/>
            <a:ext cx="7705800" cy="1341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2"/>
          <a:srcRect l="12502" t="10001" r="69377" b="67005"/>
          <a:stretch/>
        </p:blipFill>
        <p:spPr>
          <a:xfrm>
            <a:off x="1219320" y="184140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zeros of a polynomial:  A polynomial of degree n with complex coefficients has exactly n complex zeros, if multiplicities are coun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n ≥ 1 with real coefficients. The graph of p(x) can cross any horizontal line y = d at most n tim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nd all the solutions and their multiplicities t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– 6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+ x – 6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1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(2x – 3)(x + 2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0 (mult. 3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x = -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 polynomial of degree 4 that has simple zeros -4 and .125 and 3i with multiplicity 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x – 1/8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 x + 4)(8x – 1)(x – 3i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8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31 – 48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(-76 – 186i)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(279 +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4i)x + 3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graph of a polynomial function y = f(x) has 4 points in common with the x axis and 6 points in common with the line y = 5.  What can be said about the degree of f(x)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gree is at least 6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is a polynomial with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 rea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efficients.  If the nonreal number z = a + bi is a zero of p(x), then its complex conjugate z = a – bi is also a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note: only the imaginary part switches sig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57:06Z</dcterms:created>
  <dc:creator>Laura Helbing</dc:creator>
  <dc:description/>
  <dc:language>en-US</dc:language>
  <cp:lastModifiedBy>Laura Helbing</cp:lastModifiedBy>
  <dcterms:modified xsi:type="dcterms:W3CDTF">2011-04-18T00:51:17Z</dcterms:modified>
  <cp:revision>85</cp:revision>
  <dc:subject/>
  <dc:title>Nonreal zeros of polynomials with Real Coefficients</dc:title>
</cp:coreProperties>
</file>