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344C-42C9-4CE4-803B-112A367E3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D1B5-EE8E-4006-BFD4-2868D91A8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B2D-427B-4E9D-A6DD-7B91A767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D21-F0C5-4A03-8276-D79CEAE8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876-91FF-402F-8FE8-57F33F50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DCB-7C70-4631-AEC7-F675D271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8A2-AF21-4FDA-8442-02A4ECDF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3CB-7B14-4CBE-9437-E0041CCE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1B7-17A2-454D-83CD-B5825C95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60D-29C8-4932-A9A7-495BF2F0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CB4-71E2-4FAF-ABF1-C53B8597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2A1-17CF-4F63-86D1-5CDC477E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931-CE76-439B-A1DE-1CB1A943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37D-C0E3-4E68-9359-73B98022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5F67-4492-42B5-AD56-774CC7D8154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Remind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mplex number: a + bi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 is the real part and b is the imagina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njugate of a + bi is a –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(a + bi)(a – bi) = a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+ b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357720" y="4714920"/>
                <a:ext cx="1962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rite the square roots of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ithout 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357280" y="3143160"/>
                <a:ext cx="37054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441520" y="4784760"/>
                <a:ext cx="33958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13880"/>
            <a:ext cx="82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Let w = 1 – 2i and z = 6 + 9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Express each of the following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w +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b. w – 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c. w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d. z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000160" y="2357280"/>
                <a:ext cx="19368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1857240" y="3500280"/>
                <a:ext cx="4035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215040" y="3571920"/>
                <a:ext cx="30718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1143000" y="4786200"/>
                <a:ext cx="27860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929040" y="4863960"/>
                <a:ext cx="2428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6715080" y="4786200"/>
                <a:ext cx="1749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000080" y="5715000"/>
                <a:ext cx="30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3571920" y="6192720"/>
                <a:ext cx="3286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6500880" y="5857920"/>
                <a:ext cx="2400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Factor 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over the se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Polynomials with complex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= 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 = 3i, -3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(x – 3i) (x + 3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Express                     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571760" y="857160"/>
                <a:ext cx="17096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0" y="2857680"/>
                <a:ext cx="1709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928880" y="2928960"/>
                <a:ext cx="1917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429080" y="2786040"/>
                <a:ext cx="39402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285920" y="5200560"/>
                <a:ext cx="24876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5072040" y="5200560"/>
                <a:ext cx="2746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olve 2x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 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+ 5x + 4 = 0 over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et of complex numbers and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ll nonreal solutions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Quadratic eq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500040" y="4786200"/>
                <a:ext cx="22384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029040" y="5000760"/>
                <a:ext cx="203832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56280" y="3960720"/>
                <a:ext cx="2076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6199200" y="5389560"/>
                <a:ext cx="20764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ages 594 – 59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2 – 26 (even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4-19T19:01:28Z</dcterms:modified>
  <cp:revision>24</cp:revision>
  <dc:subject/>
  <dc:title>Presentation Name</dc:title>
</cp:coreProperties>
</file>