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E133-2480-4783-B776-D84FB2A7A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DB1A-C1BA-41C3-8800-482B6A391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6DD-E150-4730-ACB5-35FCEAAD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61F0-A15A-4AA5-B587-DE8FF53A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7C9-34A2-4517-B9C0-28B3B7CA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7ED-2E33-4F3A-9815-B65F3392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118D-A50E-405C-A025-8FFB006B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275-8BB2-41AB-9CB2-D64DF7CF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9FC-9773-484D-97D5-4B5A87EE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EA4-A00E-4497-BAB1-3C23AFDB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E0B-E9D5-4210-9F6B-76625A74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631-C39C-41A8-942D-2A8EA711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782-E334-4427-98D3-0DBE8BAF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DE4-3486-42F5-975F-5AC6D679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2D51-0360-4E58-8CE9-83006751C5D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560" y="1341000"/>
            <a:ext cx="774216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Complex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7200" y="1943280"/>
            <a:ext cx="74451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19340d"/>
                </a:solidFill>
                <a:latin typeface="Arial"/>
              </a:rPr>
              <a:t>Lesson 9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Remind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Complex number: a + bi 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a is the real part and b is the imaginary 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Conjugate of a + bi is a – 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(a + bi)(a – bi) = a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 + b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3357720" y="4714920"/>
                <a:ext cx="19620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Write the square roots of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Without using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Using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2357280" y="3143160"/>
                <a:ext cx="370548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2441520" y="4784760"/>
                <a:ext cx="33958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13880"/>
            <a:ext cx="82440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Let w = 1 – 2i and z = 6 + 9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Express each of the following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w +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b. w – 3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c. w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d. z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2000160" y="2357280"/>
                <a:ext cx="193680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1857240" y="3500280"/>
                <a:ext cx="40356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6215040" y="3571920"/>
                <a:ext cx="30718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1143000" y="4786200"/>
                <a:ext cx="278604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3929040" y="4863960"/>
                <a:ext cx="24289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6715080" y="4786200"/>
                <a:ext cx="17496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1000080" y="5715000"/>
                <a:ext cx="3014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3571920" y="6192720"/>
                <a:ext cx="3286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0"/>
              <p:cNvSpPr txBox="1"/>
              <p:nvPr/>
            </p:nvSpPr>
            <p:spPr>
              <a:xfrm>
                <a:off x="6500880" y="5857920"/>
                <a:ext cx="2400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Factor 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+ 9 over the se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Polynomials with complex coeffi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+ 9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</a:t>
            </a:r>
            <a:r>
              <a:rPr b="1" lang="fr-FR" sz="3200" spc="-1" strike="noStrike" baseline="30000">
                <a:solidFill>
                  <a:srgbClr val="19340d"/>
                </a:solidFill>
                <a:latin typeface="Arial"/>
              </a:rPr>
              <a:t>2</a:t>
            </a: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 = 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x = 3i, -3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9340d"/>
                </a:solidFill>
                <a:latin typeface="Arial"/>
              </a:rPr>
              <a:t>(x – 3i) (x + 3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Express                     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1571760" y="857160"/>
                <a:ext cx="17096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0" y="2857680"/>
                <a:ext cx="1709640" cy="16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928880" y="2928960"/>
                <a:ext cx="19177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4429080" y="2786040"/>
                <a:ext cx="394020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285920" y="5200560"/>
                <a:ext cx="248760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5072040" y="5200560"/>
                <a:ext cx="27464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Solve 2x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2 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+ 5x + 4 = 0 over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Set of complex numbers and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All nonreal solutions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Quadratic equ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3"/>
              <p:cNvSpPr txBox="1"/>
              <p:nvPr/>
            </p:nvSpPr>
            <p:spPr>
              <a:xfrm>
                <a:off x="500040" y="4786200"/>
                <a:ext cx="22384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029040" y="5000760"/>
                <a:ext cx="203832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i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6056280" y="3960720"/>
                <a:ext cx="2076480" cy="135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6199200" y="5389560"/>
                <a:ext cx="20764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i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Pages 594 – 59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</a:rPr>
              <a:t>2 – 26 (evens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2:29:21Z</dcterms:created>
  <dc:creator>Mediac</dc:creator>
  <dc:description/>
  <dc:language>en-US</dc:language>
  <cp:lastModifiedBy>Laura Helbing</cp:lastModifiedBy>
  <dcterms:modified xsi:type="dcterms:W3CDTF">2011-04-19T19:01:28Z</dcterms:modified>
  <cp:revision>24</cp:revision>
  <dc:subject/>
  <dc:title>Presentation Name</dc:title>
</cp:coreProperties>
</file>