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2E2-39B5-49D5-8012-9E9EAA8D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2C5-E668-4351-A78B-FA59E526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505-3D74-4E73-AFB7-DEE35FF3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B17-5F69-4CCF-8BFD-8B248EA4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E2FF-ADAF-4AF3-AE3F-7F540F86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6D0F-9257-4BF8-9E9A-6B3026B2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FED8-F721-41BF-8839-1829AEF0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3008-30C2-4F1C-9F5D-4FE44586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3A3C-C9AE-41AB-A2A2-2184B5AD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F286-CCDD-43CD-9210-0AD797A0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E481-4255-4EE3-8B62-1391D55A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95B-442C-4C2A-88CC-93B502F7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4A81-92C7-45A1-8509-E27AE2F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8436-A232-4BE9-A09E-3ABB659E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35CB-4CF7-4C1F-B1A0-E40E4B1B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86FC-2CD9-4A61-AAE1-27AA4286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A71E-8828-4A12-9769-59FB57E5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965EE-A73F-4E88-8C12-90B485F8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5F3D4-3165-4A80-A2DC-73E23C2F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93248-D05B-4176-B3B7-ABEA0870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92D3C-0997-40DC-8D3F-F424CE8E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2E420-2FC0-4CC3-8208-04394B86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FF7-E18B-445B-A9C4-63E67F00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6F20E-DD42-4D8F-B00F-C521B0CD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25829-2725-4D62-BB31-65BE1B76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44D9D-1441-42DD-BFF3-50CFF21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C3E65-2047-47E9-8358-2811E1B5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33881-B64B-444A-BA52-EE2BE410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C3222-CA43-49F8-A634-F0CF9A35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91FFA-3A8C-46B3-A183-B797C1C7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B1D94-2FCA-43E1-8C47-A84464F0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0DCF-2BA0-4ED1-9FEF-09B60412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0AED-99EA-468B-9DD7-01C1D9A5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169-D11B-477E-AC89-A685892D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B66E-1689-409E-983F-9001DF35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301C1-600F-46E7-91BA-671ECC33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06070-4D15-452C-9554-A9A7A68A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7AF48-D052-4D8E-99E3-B0D0D19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2C92-8226-4696-BC81-397284F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FEA6-F95F-4CAC-8F4B-F901DE20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93A60-86D4-40CD-BB21-A4E76A72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8DFC-060D-4BD5-90DB-2582DB2C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50DD-4B57-4FAC-B3C6-255E731A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506-A0C4-4AFD-8EF4-F31548EB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E84-E428-42AC-B6AC-66F3090B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EAA-A047-47DE-AE80-280030C9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8E0-EF29-4EFD-AEA8-3FB2441F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477-2BCE-4646-A8FB-DAAC725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5EE0-B323-4799-89F9-9EFF2AB50E5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6C0B-5083-4E79-87B0-89580897E28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D95B-7BE3-4F34-9525-2164FCD7A00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ED22-865B-4AAF-B9B4-FAA3787D95C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Factor Theorem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9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orem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560" y="2286000"/>
            <a:ext cx="88390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 Theorem: For a polynomial f(x), a number c is a solution to f(x) = 0 iff (x – c) is a factor of f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ivalence Theorem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(x – c) is a factor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f(c) =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 is an x-intercept of the graph of y=f(x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c is a zero of f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 the remainder when f(x) is divided by (x-c) is 0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43000"/>
            <a:ext cx="82296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actor 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By first finding one zero of the polynomial by graphing and then dividing to find the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When I graph, it is easy to see 3 is a zer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41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+ 13x + 6  ÷ 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Bell MT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 – 5x – 2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 (3x – 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(4x + 1)(3x – 2)(x – 3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 equation for a polynomial function p with zeros 2, - 4, and 4/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 (x + 4)(x – 4/7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 – 2)(x + 4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2x – 8)(7x – 4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56x –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8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1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64x + 3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587 – 588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5 – 13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22:31:41Z</dcterms:created>
  <dc:creator>Laura Helbing</dc:creator>
  <dc:description/>
  <dc:language>en-US</dc:language>
  <cp:lastModifiedBy>Laura Helbing</cp:lastModifiedBy>
  <dcterms:modified xsi:type="dcterms:W3CDTF">2011-04-19T19:01:42Z</dcterms:modified>
  <cp:revision>14</cp:revision>
  <dc:subject/>
  <dc:title>The Factor Theorem</dc:title>
</cp:coreProperties>
</file>