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D69F-6FF3-47EE-B16C-91006D310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06F8-EFE2-4CD4-AE2A-01C21D7C4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C940-5E50-4075-ABEB-750734C94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E0BD-3900-4F63-9290-2C071D711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B3809-1C05-40F0-80D9-50719DD07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A0C9B-199E-4E4C-8F78-62ADD375D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B4276-45AD-4815-B199-52DE77C4D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08C37-D5C5-4CC7-A92F-A1632EB8C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B0969-0D16-4AE8-8374-D73D61811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77E47-BD42-45B8-AE42-04EF0D9A6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93133-426A-4E04-B1B3-4C96A0AAF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BAA1-0372-46DB-98BE-242B32A6E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B52D4-37D9-4A8D-BAC0-91612DC6C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233C6-56E7-416E-8970-AC6B1E609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A9D6E-0136-4D41-867F-AE38DCD38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0B8E5-97D2-43DA-A812-9A1205B25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62E71-8875-49B9-A09B-92BFBFDF5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5790E1-4CCD-4072-8CA3-506203CE7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AE20F2-1A87-4867-A21B-D43E44B26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B52D4C-4145-4735-A578-FBF4FA8EF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4934EB-64C6-4AEC-9C01-968CBF285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BB8840-CAE6-42FB-B1FF-2BD59CAC2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C054-7D88-439B-B9B6-C161FDCE7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F216B6-D64D-4593-B60E-53E1B9ECA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C2C230-48B5-4D00-B845-8E18A8EF2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5CC6E0-40FB-4E31-9CFD-13086093C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4F8EC8-BA10-446F-B405-A0D3BD196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11532C-A1B2-476F-A939-CD88AACD2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E974D0-9CE2-46B3-ACF7-DBA5810BD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42C6DD-FDE0-4966-8E01-FBC9A4BAC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382FDD-DCFE-4850-8991-215507985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E0302-76E7-4854-8CE9-CC560FD92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528EB-293B-49E5-B559-EEEB07A7C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1BE4-6CC2-487A-8156-7F5E920A5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617AA-D9D4-404D-8268-E26BB0F22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F90BE-A226-4D9C-937C-6D561EC28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1C355-915E-4B58-AAC3-5A5B783E7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71AC7-E58E-4B99-ADB8-AAE8586F4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07B3C-76E1-4C92-9CBA-B9EE59E49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BAFE4-53E7-44F1-9489-D094F762D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B5B8B-859E-40AE-B4E8-BF3EC393B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D53361-19E7-49AD-9FC2-21FFDDF94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C5F36-9F33-45B0-969C-6FACF59F6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9655-7391-44FC-89AD-226741255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80CB-BA4F-4461-B3E5-FBC683013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A7F2-451E-49C5-8F94-5DB1D29E2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FCF2-8C53-4FFA-A90D-3AC2385E6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477E-BDA1-481A-807A-7D01AF2CD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A5A70-41ED-49AE-8C9A-59EF9B10C094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084FD-F0CC-4AB0-B650-9C10A55B6679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10167-C4BD-42B0-9DD8-C016959E1FC3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6BA3B-3D8B-4AC0-9222-020BA42621CB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he Factor Theorem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Lesson 9.5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Theorem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	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560" y="2286000"/>
            <a:ext cx="883908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actor Theorem: For a polynomial f(x), a number c is a solution to f(x) = 0 iff (x – c) is a factor of f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quivalence Theorem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. (x – c) is a factor of f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B. f(c) = 0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C is an x-intercept of the graph of y=f(x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D. c is a zero of f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E. the remainder when f(x) is divided by (x-c) is 0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Example 1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143000"/>
            <a:ext cx="8229600" cy="54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ell MT"/>
              </a:rPr>
              <a:t>Factor 12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Bell MT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Bell MT"/>
              </a:rPr>
              <a:t> – 41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Bell MT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Bell MT"/>
              </a:rPr>
              <a:t> + 13x + 6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ell MT"/>
              </a:rPr>
              <a:t>By first finding one zero of the polynomial by graphing and then dividing to find the other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ell MT"/>
              </a:rPr>
              <a:t>When I graph, it is easy to see 3 is a zero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ell MT"/>
              </a:rPr>
              <a:t>12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Bell MT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Bell MT"/>
              </a:rPr>
              <a:t> – 41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Bell MT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Bell MT"/>
              </a:rPr>
              <a:t> + 13x + 6  ÷ (x – 3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ell MT"/>
              </a:rPr>
              <a:t>12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Bell MT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Bell MT"/>
              </a:rPr>
              <a:t> – 5x – 2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ell MT"/>
              </a:rPr>
              <a:t>(4x + 1) (3x – 2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ell MT"/>
              </a:rPr>
              <a:t>(4x + 1)(3x – 2)(x – 3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xample 2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nd an equation for a polynomial function p with zeros 2, - 4, and 4/7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x – 2) (x + 4)(x – 4/7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x – 2)(x + 4)(7x – 4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+ 2x – 8)(7x – 4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7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+14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– 56x – 4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– 8x + 32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7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+10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– 64x + 32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Homework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Georgia"/>
              </a:rPr>
              <a:t>Pages 587 – 588</a:t>
            </a:r>
            <a:endParaRPr b="0" lang="en-US" sz="7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Georgia"/>
              </a:rPr>
              <a:t>5 – 13</a:t>
            </a:r>
            <a:endParaRPr b="0" lang="en-US" sz="7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7T22:31:41Z</dcterms:created>
  <dc:creator>Laura Helbing</dc:creator>
  <dc:description/>
  <dc:language>en-US</dc:language>
  <cp:lastModifiedBy>Laura Helbing</cp:lastModifiedBy>
  <dcterms:modified xsi:type="dcterms:W3CDTF">2011-04-19T19:01:42Z</dcterms:modified>
  <cp:revision>14</cp:revision>
  <dc:subject/>
  <dc:title>The Factor Theorem</dc:title>
</cp:coreProperties>
</file>