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3F6-769C-481F-8C0F-AEE345B1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963-9633-4F7A-9C96-46DAA30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296-511E-4A09-836D-CC1A5A9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5C1-86A0-439D-A7DD-CA9D3E8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622B-5196-48C0-AA82-6ECD62CF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A35E-B4BB-4B23-A876-926B9D2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8B3-B56A-4F83-B806-56C80671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EB5E-C979-41CE-86BC-4D481B1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9DCB-737A-419B-A449-C42865A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4835-1467-456C-9076-E4821E65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D097-4026-436C-AEBA-997A5B7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773-3C12-43EE-B642-C639AF5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55D-AF4C-4666-87F6-521E3D85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A641-ADE5-4937-983D-40181C2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6B1-8AB2-4836-912E-75648F6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D5F3-EB0C-4448-B4F4-7AF13F37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823-57CE-4409-BB70-1E6CFEE7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CD1-35C6-4945-864F-BB7333A2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5F1-B57E-432F-B22A-DDCE5548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856-AEF0-4B55-A0E1-304A6EAB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80A-BDF3-4226-9F8C-689A6D6A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75D-2486-4C4E-9D7C-30BF5D67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E68-0A6E-4C96-B684-68C0A5F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10A-5115-4460-8FB1-4521038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906-15A9-444B-9DB6-BFCD5BE4C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32E-E56B-4225-9554-D7BB9172A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3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106668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x – 25 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+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– 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x) = -2x – 7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9880" y="4952880"/>
                <a:ext cx="2106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f(x) of degree ≥ 1 is divided by x – c, the remainder is the constant f(c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581 - 58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, 2, 7 -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Laura Helbing</cp:lastModifiedBy>
  <dcterms:modified xsi:type="dcterms:W3CDTF">2011-04-14T18:09:34Z</dcterms:modified>
  <cp:revision>22</cp:revision>
  <dc:subject/>
  <dc:title>Dividing polynomials</dc:title>
</cp:coreProperties>
</file>