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4A1-2F23-42C5-9F80-C884918E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6F5-6E09-4DC0-B94D-55EB0828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14E-0FC5-4A3C-9529-AD6C98DA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CAE-2B59-4D1B-9402-D5834AB1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6D5-8C60-45F1-ACAC-3AA68F40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ACA-A544-46B2-AB4C-2159A11C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5F4-AA79-4126-B999-8B9330B4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4E0-7EC3-48D0-9447-26C828C0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668-177B-4267-B957-486F8E57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2DB-9AC6-402F-869B-5B734B38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130-4203-4242-BBA7-2D595600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1AF-3B14-40F5-BCBF-C87179C5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AE91-AF79-4948-994D-D3EB999991A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Finding Polynomial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17000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57a144"/>
                </a:solidFill>
                <a:latin typeface="Calibri"/>
              </a:rPr>
              <a:t>Section 9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57a144"/>
                </a:solidFill>
                <a:latin typeface="Calibri"/>
              </a:rPr>
              <a:t>Pages 574 – 57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57a144"/>
                </a:solidFill>
                <a:latin typeface="Calibri"/>
              </a:rPr>
              <a:t>1 - 1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1st diff   24     80    196   396   704   1144    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nd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diff         56     116   200  308    440    5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3rd diff             60      84     108   132   1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4th diff                   24      24      24     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0"/>
          <a:ext cx="8381880" cy="990720"/>
        </p:xfrm>
        <a:graphic>
          <a:graphicData uri="http://schemas.openxmlformats.org/drawingml/2006/table">
            <a:tbl>
              <a:tblPr/>
              <a:tblGrid>
                <a:gridCol w="931680"/>
                <a:gridCol w="930240"/>
                <a:gridCol w="932040"/>
                <a:gridCol w="931680"/>
                <a:gridCol w="930240"/>
                <a:gridCol w="932040"/>
                <a:gridCol w="931680"/>
                <a:gridCol w="93024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o, 4th degree polynom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Plug in ordered pairs to graphing calc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Quart r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Y = 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4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3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0"/>
          <a:ext cx="8381880" cy="990720"/>
        </p:xfrm>
        <a:graphic>
          <a:graphicData uri="http://schemas.openxmlformats.org/drawingml/2006/table">
            <a:tbl>
              <a:tblPr/>
              <a:tblGrid>
                <a:gridCol w="931680"/>
                <a:gridCol w="930240"/>
                <a:gridCol w="932040"/>
                <a:gridCol w="931680"/>
                <a:gridCol w="930240"/>
                <a:gridCol w="932040"/>
                <a:gridCol w="931680"/>
                <a:gridCol w="93024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1st diff    20           20         -28      -124      -2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nd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diff         0             -48         -96         -1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3rd diff            - 48           -48          -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14400" y="285840"/>
          <a:ext cx="6519960" cy="990360"/>
        </p:xfrm>
        <a:graphic>
          <a:graphicData uri="http://schemas.openxmlformats.org/drawingml/2006/table">
            <a:tbl>
              <a:tblPr/>
              <a:tblGrid>
                <a:gridCol w="932040"/>
                <a:gridCol w="930240"/>
                <a:gridCol w="931680"/>
                <a:gridCol w="932040"/>
                <a:gridCol w="930240"/>
                <a:gridCol w="93168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o 3rd degree polynom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Plug in ordered pairs to graphing calc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cubic r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Y = -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6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2 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+2x +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14400" y="285840"/>
          <a:ext cx="6519960" cy="990360"/>
        </p:xfrm>
        <a:graphic>
          <a:graphicData uri="http://schemas.openxmlformats.org/drawingml/2006/table">
            <a:tbl>
              <a:tblPr/>
              <a:tblGrid>
                <a:gridCol w="932040"/>
                <a:gridCol w="930240"/>
                <a:gridCol w="931680"/>
                <a:gridCol w="932040"/>
                <a:gridCol w="930240"/>
                <a:gridCol w="93168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27280" y="1409760"/>
            <a:ext cx="60595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here exists a polynomial formula of degree 4 for the sum of the cubes of the integers from 1 to n.  Find that form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27280" y="1409760"/>
            <a:ext cx="60595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1 , so 1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 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2, so 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8  + 1 =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3, so 3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27 + 9 = 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4, so 4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64 + 36 = 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5, so 5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125 + 100 = 2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26920" y="1409760"/>
            <a:ext cx="62881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5, 225=625a+125b+25c+5d+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4, 100= 256a+64b+16c+4d+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3, 36 = 81a + 27b + 9c + 3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2, 9 = 16a + 8b + 4c + 2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1 , 1 = a + b + c + 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3809880" y="4330800"/>
                <a:ext cx="31752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A Few Formulas to k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etrahedral numb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riangular numbe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1828800" y="2038320"/>
                <a:ext cx="4086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4191120" y="3562200"/>
                <a:ext cx="17460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5:41:51Z</dcterms:created>
  <dc:creator>Laura Helbing</dc:creator>
  <dc:description/>
  <dc:language>en-US</dc:language>
  <cp:lastModifiedBy>Laura Helbing</cp:lastModifiedBy>
  <dcterms:modified xsi:type="dcterms:W3CDTF">2011-04-13T18:09:56Z</dcterms:modified>
  <cp:revision>13</cp:revision>
  <dc:subject/>
  <dc:title>PRESENTATION  NAME</dc:title>
</cp:coreProperties>
</file>