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12B-8374-43A9-9785-0FA533FC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51E-C839-4BDB-94E1-424AF776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2D2-B6D2-4798-87E2-D2D06AC5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7A4-5634-455C-A076-FD7695AF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927-D058-409E-968D-D0A2691E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B7E-9F39-431D-9252-8DB0A58F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9C7-1148-4D6C-A34D-44C3A7EC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721-627C-4FFF-81F2-6295BC9D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CE0-D185-49D9-900F-FE05F019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89F-39EC-4439-B474-E4765E19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A84-FF64-4A22-A5C6-2729BCE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B38-8303-4E26-9748-E348564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9EFE-9BC5-4A29-AFC1-F0C8849D666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Finding Polynomial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57a144"/>
                </a:solidFill>
                <a:latin typeface="Calibri"/>
              </a:rPr>
              <a:t>Section 9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Pages 574 – 57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57a144"/>
                </a:solidFill>
                <a:latin typeface="Calibri"/>
              </a:rPr>
              <a:t>1 -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24     80    196   396   704   1144    17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56     116   200  308    440    59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 60      84     108   132   1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4th diff                   24      24      24     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, 4th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Quart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3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0"/>
          <a:ext cx="8381880" cy="990720"/>
        </p:xfrm>
        <a:graphic>
          <a:graphicData uri="http://schemas.openxmlformats.org/drawingml/2006/table">
            <a:tbl>
              <a:tblPr/>
              <a:tblGrid>
                <a:gridCol w="931680"/>
                <a:gridCol w="930240"/>
                <a:gridCol w="932040"/>
                <a:gridCol w="931680"/>
                <a:gridCol w="930240"/>
                <a:gridCol w="932040"/>
                <a:gridCol w="931680"/>
                <a:gridCol w="93024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1st diff    20           20         -28      -124      -2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nd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diff         0             -48         -96         -1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3rd diff            - 48           -48          -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19988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Determine if y is a polynomial function of x of degree less than 5.  If so, find an equation of least degree for y in terms of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o 3rd degree polynomial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Plug in ordered pairs to graphing calc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cubic re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Y = -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+ 6x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2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+2x +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14400" y="285840"/>
          <a:ext cx="6519960" cy="990360"/>
        </p:xfrm>
        <a:graphic>
          <a:graphicData uri="http://schemas.openxmlformats.org/drawingml/2006/table">
            <a:tbl>
              <a:tblPr/>
              <a:tblGrid>
                <a:gridCol w="932040"/>
                <a:gridCol w="930240"/>
                <a:gridCol w="931680"/>
                <a:gridCol w="932040"/>
                <a:gridCol w="930240"/>
                <a:gridCol w="931680"/>
                <a:gridCol w="93204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here exists a polynomial formula of degree 4 for the sum of the cubes of the integers from 1 to n.  Find that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27280" y="1409760"/>
            <a:ext cx="60595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so 1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 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so 2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8  + 1 =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so 3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27 + 9 = 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so 4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64 + 36 = 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so 5</a:t>
            </a:r>
            <a:r>
              <a:rPr b="0" lang="fr-CA" sz="3200" spc="-1" strike="noStrike" baseline="30000">
                <a:solidFill>
                  <a:srgbClr val="57a144"/>
                </a:solidFill>
                <a:latin typeface="Calibri"/>
              </a:rPr>
              <a:t>3</a:t>
            </a: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 = 125 + 100 = 2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415800"/>
            <a:ext cx="605952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6920" y="1409760"/>
            <a:ext cx="62881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5, 225=625a+125b+25c+5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4, 100= 256a+64b+16c+4d+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3, 36 = 81a + 27b + 9c + 3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2, 9 = 16a + 8b + 4c + 2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S = 1 , 1 = a + b + c + d +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3809880" y="4330800"/>
                <a:ext cx="31752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58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7a144"/>
                </a:solidFill>
                <a:latin typeface="Calibri"/>
              </a:rPr>
              <a:t>A Few Formula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09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etrahedral numb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a1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57a144"/>
                </a:solidFill>
                <a:latin typeface="Calibri"/>
              </a:rPr>
              <a:t>Triangular numb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828800" y="2038320"/>
                <a:ext cx="40863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4191120" y="3562200"/>
                <a:ext cx="17460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5:41:51Z</dcterms:created>
  <dc:creator>Laura Helbing</dc:creator>
  <dc:description/>
  <dc:language>en-US</dc:language>
  <cp:lastModifiedBy>Laura Helbing</cp:lastModifiedBy>
  <dcterms:modified xsi:type="dcterms:W3CDTF">2011-04-13T18:09:56Z</dcterms:modified>
  <cp:revision>13</cp:revision>
  <dc:subject/>
  <dc:title>PRESENTATION  NAME</dc:title>
</cp:coreProperties>
</file>