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8C0C-BE9C-45D3-BECE-4ADEDE45F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1F7D-2C4A-4E5C-A19C-892CE8BD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03F5-706E-466D-B385-0318F57C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A59D-E5E0-465E-B59F-6DAE922D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39EB-5DA2-41F6-AED4-B53ABB64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2C75-63B6-4CFD-8778-A6AA445B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F9A2-B531-4FF5-9FD7-81703825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5931-3627-416A-ABDB-5DB05ECE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D33A-FE58-47E8-BCCB-57948490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5E05-2B7D-46DB-88EA-AB3E6DC2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0EDA-0834-4627-8FFE-4D908E11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0AC8-35E3-4634-9653-B7C7B036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3DA9-D8D4-40F1-B622-55EB57270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phs of Polynomial Fu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esson 9.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560" y="16761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ximum Valu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reme Max (or absolute) : largest value in its 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ive max (or local): highest value in an area (Inflection poi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imum Valu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reme Min : smallest value in its 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ive min: lowest value in an area (Inflection poi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 All extreme points are relative point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eros or roots of the polynomial function: all of the values of x where p(x) =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837720"/>
            <a:ext cx="9144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raph: p(x) = -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+ 4x + 3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zero can you identify from the graph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stimate the other zeros to the nearest tenth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ver what interval(s) is it positiv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ver what interval(s) is it negativ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662280" y="2057400"/>
            <a:ext cx="67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-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3444120" y="3429000"/>
            <a:ext cx="236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-1.3 , 2.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933480" y="4572000"/>
            <a:ext cx="307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-1.3 &lt; x &lt; -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4583520" y="4648320"/>
            <a:ext cx="195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x &gt; 2.3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2455920" y="6027840"/>
            <a:ext cx="289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-1 &lt; x &lt; 2.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roximate (to the nearest hundredth) the coordinates of the relative maximum point of the function p from example 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2836800" y="3886200"/>
            <a:ext cx="303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(1.15, 6.08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Pages 567 – 568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1 – 4, 7 – 11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00:35:42Z</dcterms:created>
  <dc:creator>Laura Helbing</dc:creator>
  <dc:description/>
  <dc:language>en-US</dc:language>
  <cp:lastModifiedBy>Laura Helbing</cp:lastModifiedBy>
  <dcterms:modified xsi:type="dcterms:W3CDTF">2011-03-21T01:14:49Z</dcterms:modified>
  <cp:revision>4</cp:revision>
  <dc:subject/>
  <dc:title>Graphs of Polynomial Functions</dc:title>
</cp:coreProperties>
</file>