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2C6E-F2E8-4EDC-8B8D-E605448A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07E-1AC3-436B-AD8A-48F753B1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3A89-7AD4-4666-9D67-DE522334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2122-4C17-4DCA-A4C2-D8C5376B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24D9-EFCD-447F-9336-98F5348B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BDC-129A-4416-8BA2-2C2C8CE4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47AD-CE7B-4445-8DC0-31B2DA09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875F-9F0E-4336-8B24-999F076D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97AB-8853-41F2-B10A-8F1B7732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F08C-EED9-4704-8916-8F3D6A54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DF38-12E9-4C73-88C4-1A6699C3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9D6-B3F5-42A2-A8CE-39CC7FDF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CFD3-8897-43C9-A869-C3063FE44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olynomial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sson 9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-2x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+ 4x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- 6x +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28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eading term: term with the largest expon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egree of polynomial: exponent (s) of leading te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eading coefficient: coefficient in front of leading term (could be nega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tandard form: exponents are going dow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2989440" y="2209680"/>
            <a:ext cx="99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-2x</a:t>
            </a:r>
            <a:r>
              <a:rPr b="1" lang="en-US" sz="4400" spc="-1" strike="noStrike" baseline="30000">
                <a:solidFill>
                  <a:srgbClr val="ffff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3736800" y="365760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2975760" y="5486400"/>
            <a:ext cx="59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2x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– 3y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+ 12x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-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ding ter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gree of polynomi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ding coeffici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001320" y="2209680"/>
            <a:ext cx="12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2x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y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051000" y="403848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432240" y="563868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ppose you can earn .5% compounded each month, paid at the end of the month.  If you deposit $100 on Jan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$150 on Feb.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and $125 on March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nothing else for the rest of the year.  How much will be in the account on Jan.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f the next yea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06560" y="4724280"/>
            <a:ext cx="892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100(1.005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1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+ 150(1.005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11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+ 125(1.005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10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708480" y="5410080"/>
            <a:ext cx="541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106.17 + 158.46 + 131.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133080" y="6149880"/>
            <a:ext cx="186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$396.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he radius R of a circle is increased by r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.  Express the area of the enlarged circle as a polynomial in r and 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B. Give the degree of the polynomi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2174760" y="4038480"/>
            <a:ext cx="44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A = </a:t>
            </a: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R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(R+ r)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326680" y="4724280"/>
            <a:ext cx="351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R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+ 2</a:t>
            </a: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Rr + </a:t>
            </a:r>
            <a:r>
              <a:rPr b="1" lang="el-GR" sz="4000" spc="-1" strike="noStrike">
                <a:solidFill>
                  <a:srgbClr val="ffff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r</a:t>
            </a:r>
            <a:r>
              <a:rPr b="1" lang="en-US" sz="40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736800" y="614988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Pages 560 – 56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1 – 6, 11 – 12,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15 - 1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21:22:40Z</dcterms:created>
  <dc:creator>Laura Helbing</dc:creator>
  <dc:description/>
  <dc:language>en-US</dc:language>
  <cp:lastModifiedBy>Laura Helbing</cp:lastModifiedBy>
  <dcterms:modified xsi:type="dcterms:W3CDTF">2013-04-02T19:04:49Z</dcterms:modified>
  <cp:revision>12</cp:revision>
  <dc:subject/>
  <dc:title>Polynomial Models</dc:title>
</cp:coreProperties>
</file>