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28E-632E-4A2C-A592-0F321449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F6D-873A-495D-B112-9CA73BD2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A2D7-8CBF-4E9A-8A06-B3473966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523-1DB8-45A4-BA46-1EEBB350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BEF-A129-4091-ACE5-77AF89F8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2CE-887B-4582-93C9-CE4D1341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415-BBB4-4A80-B811-76E48865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0EF-F55E-4F97-ADD9-CD905A24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BD5-3529-449F-9B70-0BF8B71E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C1B-4D4D-4434-842A-38CF129E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229-208B-4182-A68F-E991DF3F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453-CAA4-4243-98AE-07098498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7549-FCF7-49B1-9CC1-BD78CC0CD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lynomial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9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-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+ 4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- 6x +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ading term: term with the largest expo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gree of polynomial: exponent (s) of leading 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ading coefficient: coefficient in front of leading term (could be nega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tandard form: exponents are going dow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989440" y="2209680"/>
            <a:ext cx="99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-2x</a:t>
            </a:r>
            <a:r>
              <a:rPr b="1" lang="en-US" sz="4400" spc="-1" strike="noStrike" baseline="30000">
                <a:solidFill>
                  <a:srgbClr val="ffff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736800" y="36576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975760" y="5486400"/>
            <a:ext cx="5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– 3y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+ 1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-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ding te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gree of polynomi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ding coeffici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001320" y="220968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x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y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51000" y="40384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432240" y="56386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ppose you can earn .5% compounded each month, paid at the end of the month.  If you deposit $100 on Ja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$150 on Feb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and $125 on March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nothing else for the rest of the year.  How much will be in the account on Jan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f the next ye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06560" y="4724280"/>
            <a:ext cx="89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100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150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1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125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0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708480" y="5410080"/>
            <a:ext cx="541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106.17 + 158.46 + 131.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133080" y="6149880"/>
            <a:ext cx="18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$396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radius R of a circle is increased by 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.  Express the area of the enlarged circle as a polynomial in r and 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. Give the degree of the polynomi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174760" y="4038480"/>
            <a:ext cx="44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A =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(R+ r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326680" y="4724280"/>
            <a:ext cx="351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2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r +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736800" y="61498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Pages 560 – 56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1 – 6, 11 – 12,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15 - 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1:22:40Z</dcterms:created>
  <dc:creator>Laura Helbing</dc:creator>
  <dc:description/>
  <dc:language>en-US</dc:language>
  <cp:lastModifiedBy>Laura Helbing</cp:lastModifiedBy>
  <dcterms:modified xsi:type="dcterms:W3CDTF">2013-04-02T19:04:49Z</dcterms:modified>
  <cp:revision>12</cp:revision>
  <dc:subject/>
  <dc:title>Polynomial Models</dc:title>
</cp:coreProperties>
</file>