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BD66-CC00-4F4B-915C-77835BB8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851-8BF7-4C61-AE4A-967880E6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653B-0449-4A4B-A430-9191E251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419-5F6C-4A83-94F6-922A7D69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FCF2-A91F-4E04-9899-104366C4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2566-513F-44DA-888F-80A99CC5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2ACA-17AA-4187-B6D6-CA3E7D2D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A697-BEA4-4E91-9301-72E52458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A8C6-2252-4365-99D0-C29A9DAE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E424-915D-44EE-83B4-B3E040D0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5B25-97F2-4CDD-83B3-12342B2A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28A-7788-4496-84C4-6D0FB27A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92A9-5CC2-4372-B01C-AC2A12EB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51DA-EBD4-4272-AFD3-330A623C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9601-C37A-4F01-A6AA-60B64EE5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CBA5-742B-47CB-8B8D-30C4F1BF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A943-C4EF-4F59-8D0A-6EAA4F46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6AA220-2C54-41B1-9B25-1141B4D7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32540-9A99-40BD-95E0-9E0A1758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D0AED-7F33-4E23-BE5A-AF82E73A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5027A-4F2C-4F74-8058-286CFFE7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A1B27-F70C-45B2-A26A-F26C2961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4DF9-A3D5-4802-8634-34352008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94B46-8F88-4CE7-85E1-EFA1C6F8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67A1F-ACD6-44F5-A063-252DE759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DE8CF-EA45-4470-96FA-5BDB97F4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3A174-35DB-492F-A637-B53FAC39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DA82F-1EB2-47D9-A04C-7711DD46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60C9B-618F-4A7C-B580-9E849971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CD208-FEDC-4F09-9E2A-1B4CE7DA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290894-8C6E-4D3E-BDF8-C582E301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8E7914-0908-4EE9-9F0C-636F456F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4F0CF-ABAE-467C-A33F-6A078ADB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B17-6FBA-4047-A1C2-52D194A2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98B842-845C-4116-9161-F23BD378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C52F09-C955-430B-9FA5-824AA3F4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94F95-C22F-43B9-97C3-4E6BF79E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9CF8E0-BC00-4CE3-AE92-5B0B4B93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1ED79A-7AA5-426C-9987-2B7296AC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552881-A26D-402B-8E1A-4138F45C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BEE434-B20E-4BF2-9FA8-C0046A68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D792D-282E-41AC-8905-7E4FD110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5ECF4-639A-4117-BEBB-AC51FF4F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74140-0B9C-4717-896F-1700528E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B9F-F083-4FC6-BB52-72AC79AC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608568-F777-4CB1-A885-01B1E739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C58209-33EF-4435-B071-6983A222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12465-4726-440E-90AE-C236F729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645A2-6176-4394-82D1-3A1D4559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9FB62-97EA-4D4A-8981-C69449A1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B5554-DD5F-4B89-8CC3-B5CA215B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DDEAE8-E813-4234-B6F3-9B3403C7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EAEEF-A4CE-472E-8EFC-18C77A59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4BE0B-B422-4237-AD91-96010BD2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1E838-B02A-4D41-9C79-935F549D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B55-C720-4148-BFB6-174438D4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23304A-E9B2-4001-AAB1-51D98325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31DE9-8AB3-498D-B5F4-B2110737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E2BC3-9469-4291-8107-672BA3A8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25F8D-8219-4D0E-95CA-973D7343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26B5A-E971-456A-8A12-E78F3391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A8C4A-C7E9-4D8F-A3BD-3544ED8C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811A9-F3D6-417E-9CD2-32CF0B02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D2B13-1E00-424C-89F4-6E003CAE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B8BC7-2D8E-4030-8956-DA07FEBE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AE1FF-4AE9-4AF0-8F27-00C7CFA3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4B8-CBDB-46B2-947A-4B573D8E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6897A-FE83-48B8-95E7-D7DD4353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F375C-F295-4381-8802-60145984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99A55-A57A-4280-902B-E09F0A7E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347A4B-FC8A-48E1-940F-2FBE6A28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91F98C-C1D9-4B85-95B3-A0E0112A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E8DED8-FCD5-4676-B31E-7619B3F0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19B7CE-4506-4999-B6C0-0C3D7444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053D6A-4E2F-4A6F-8F62-22B160D0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3D0933-C726-42A5-89C2-5CD568EA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5E7656-C3C4-411C-AB3D-62CD5AB3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3AF-4768-45D5-9AFD-16BE32FD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60D5EA-EF0A-4363-8928-7CFCD394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3F0E61-B649-4CC8-9177-E96BC153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C0BCE7-CAA8-4BCC-9A99-7D0146DB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AEC4C8-AB9F-4394-A1A1-F573F84E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F5F8E6-64D1-4BAB-88E0-65DE24FF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FDFDA-93BB-48BA-9329-5BB724FB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0F05B-4EB5-4C8A-B188-AD5705CA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8E442-CC90-4D2D-B266-3CC389CA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D01E2-BF50-454E-87CC-0121168E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E5121-7CEF-41D7-A3F4-ED9E8861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424-5254-411E-896A-87A859F1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F3BA5-9309-4F74-93E0-CC848C93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40018-B5F8-4B8F-9FE2-30CAA675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16092-5CF4-46CC-8BE1-2B299BE8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BAD9D-DC9B-4547-BC15-E7B8A7AB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F6C92-346D-416C-908E-2764C877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7420A-470E-4D19-A172-800C6CB7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A4279-EE84-4C50-A0A9-4E962747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6D11-9FA7-49ED-8F27-37A6B912F1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C6F1-EDFD-4B50-8ACB-7074CD145B1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375B-06EB-40C5-B5ED-4DDC70F3FEF8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50D6-DE80-4323-9952-E3D89ABE869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8C5B-260E-4EE7-86E3-F6C0B844B9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1325-68B6-427B-8744-249A198B54BA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0468-7945-4B84-8886-EBD09DC3FC82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2164-C4F7-4AD2-A95A-F2383C8A35B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DESIGNING SIMULATION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tion 7.7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y Hall Proble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w Cen MT"/>
              </a:rPr>
              <a:t>Break up into teams of 2 and complete the activity on page 464.  Fill in the chart for number 5, and answer questions  6 and 7.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fini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Simulation: a way to test the results of an experiment without actually conducting the experiment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Trial: each repetition of the experimen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te Carlo Simula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. determine how it will be simulated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2. Define what constitutes a single trial and what data will be recorde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3. Specify the number of trials that will be run and how the estimated answer will be obtaine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**very helpful – p. 874 (random numbers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BEGIN AT ANY NUMBER(not beginning)!!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Four darts are thrown randomly at a coordinate plane and the quadrants are recorded.  It is desired to simulate the probability that all 4 darts land in at most 2 quadrants.  Design a simulation with 50 trials to estimate this probability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Sample: roll two dice, 1 – 4 stand for quadrants.  Re-roll if it lands on 5 or 6.  Roll die 4 times – record answer.  Repeat 50 time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Explain how to use a table of random numbers to simulate the trials in Example 1.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Take the numbers in pairs.  If the number is between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0 – 24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1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25 – 49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2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50 – 74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3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75 – 99 </a:t>
            </a:r>
            <a:r>
              <a:rPr b="1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quad 4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3233520" y="4267080"/>
            <a:ext cx="641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Look at 8 numbers.  Record result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Repeat 50 times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3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un the simulation mentioned in example 2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I began my random number at row 23, column 10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1, 4, 1, 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1, 3, 1, 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4, 4, 1, 4 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3702960" y="42670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18 / 50 = .36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3128760" y="4952880"/>
            <a:ext cx="54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Theoretical probability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3739320" y="594360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/16 + ¼ + 1/16 = 3/8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Page 469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3, 4, 6 – 8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w Cen MT"/>
              </a:rPr>
              <a:t>(skip 8 b)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0:08:29Z</dcterms:created>
  <dc:creator>Laura Helbing</dc:creator>
  <dc:description/>
  <dc:language>en-US</dc:language>
  <cp:lastModifiedBy>Laura Helbing</cp:lastModifiedBy>
  <dcterms:modified xsi:type="dcterms:W3CDTF">2011-02-23T00:38:05Z</dcterms:modified>
  <cp:revision>3</cp:revision>
  <dc:subject/>
  <dc:title>Designing Simulations</dc:title>
</cp:coreProperties>
</file>