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999-95C5-4113-B5E0-606A0452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FE9-2098-4DC3-A812-C0D8D664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532-FCB9-49D5-AB45-562C1E34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AD04-F6B9-4A2B-AAA3-44A4CC9B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0FA-7784-4DC0-A9B6-4AAA3A25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E97-CBC7-45BE-9B78-247EE0A9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CCC-7AC1-4240-8D12-53715318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3ED-551C-4165-963F-724FFAED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1EA-EE6A-44CB-9161-3E77B526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943-DE46-4C21-8B33-B42CDC4B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FE6-EE1C-471B-A3B7-9B25FD36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79E-2F92-4967-BC19-48F26CCD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7F36-8281-4B72-9D77-5E62873B2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Independen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0843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Secti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499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Events A and B are independent events iff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071880" y="2643120"/>
                <a:ext cx="56307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99840" y="164304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magine that a fair coin is tossed 4 times.  Let A = getting all heads and B = getting all tails.  Are A and B independent or dependent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3286080" y="5369040"/>
                <a:ext cx="256068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500200" y="4286160"/>
                <a:ext cx="5631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" name="TextBox 5"/>
          <p:cNvSpPr/>
          <p:nvPr/>
        </p:nvSpPr>
        <p:spPr>
          <a:xfrm>
            <a:off x="6226200" y="5572080"/>
            <a:ext cx="273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14720" y="160020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Two normal dice are tossed. 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C = the sum is 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D = the first die shows a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re C and D dependent or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3355920" y="5369040"/>
                <a:ext cx="24195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5"/>
          <p:cNvSpPr/>
          <p:nvPr/>
        </p:nvSpPr>
        <p:spPr>
          <a:xfrm>
            <a:off x="6226920" y="557208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pend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27860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14720" y="0"/>
            <a:ext cx="692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A coach keeps records on the basketball team.  When a member shoots 2 free throws, 65% of the time the first free throw is made and 70% of the time the second free throw is made.  What percent of the time do both free throws need to be made in order for these events to be independ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3071880" y="5357880"/>
                <a:ext cx="2744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5"/>
          <p:cNvSpPr/>
          <p:nvPr/>
        </p:nvSpPr>
        <p:spPr>
          <a:xfrm>
            <a:off x="6579720" y="55008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2478240" y="4286160"/>
                <a:ext cx="5676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∩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1175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 – 4, 8 -10,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404040"/>
                </a:solidFill>
                <a:latin typeface="Calibri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15:26:34Z</dcterms:created>
  <dc:creator>Eric</dc:creator>
  <dc:description/>
  <dc:language>en-US</dc:language>
  <cp:lastModifiedBy>Laura Helbing</cp:lastModifiedBy>
  <dcterms:modified xsi:type="dcterms:W3CDTF">2011-02-17T14:39:13Z</dcterms:modified>
  <cp:revision>11</cp:revision>
  <dc:subject/>
  <dc:title>PRESENTATION  NAME</dc:title>
</cp:coreProperties>
</file>