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B32-ACAE-4219-A4CD-83368849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C94-287E-4BE1-B47B-0A6258CC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14D-C8A5-4A4E-BD97-B0ED9530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78A-EA21-4FEA-9B98-D14E11C0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FB1-1BD9-49F1-9948-44027075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FCA-EF4D-4C28-9D9C-EF91E87E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850-BB1B-45DC-A49B-5B630E3F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3D6-FDE0-42A1-BBA6-3CE78AE5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D82-B472-49F4-AE0E-E27F2FB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A24-1A71-4E27-9744-708B085B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D8F-4DA4-4415-9E8D-8C9F9CFA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4D3-B021-472A-A367-80E0A91F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9BB5-B5EF-4DDE-B6AE-A70CB7F6D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Independen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0843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Secti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99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Events A and B are independent events if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071880" y="2643120"/>
                <a:ext cx="56307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99840" y="164304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magine that a fair coin is tossed 4 times.  Let A = getting all heads and B = getting all tails.  Are A and B independent or dependent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3286080" y="5369040"/>
                <a:ext cx="256068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500200" y="4286160"/>
                <a:ext cx="5631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TextBox 5"/>
          <p:cNvSpPr/>
          <p:nvPr/>
        </p:nvSpPr>
        <p:spPr>
          <a:xfrm>
            <a:off x="6226200" y="557208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14720" y="160020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Two normal dice are tossed.  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 = the sum is 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D = the first die shows a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re C and D dependent or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3355920" y="5369040"/>
                <a:ext cx="2419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5"/>
          <p:cNvSpPr/>
          <p:nvPr/>
        </p:nvSpPr>
        <p:spPr>
          <a:xfrm>
            <a:off x="6226920" y="55720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27860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14720" y="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 coach keeps records on the basketball team.  When a member shoots 2 free throws, 65% of the time the first free throw is made and 70% of the time the second free throw is made.  What percent of the time do both free throws need to be made in order for these events to be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3071880" y="5357880"/>
                <a:ext cx="2744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5"/>
          <p:cNvSpPr/>
          <p:nvPr/>
        </p:nvSpPr>
        <p:spPr>
          <a:xfrm>
            <a:off x="6579720" y="550080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1175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 – 4, 8 -10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2 - 1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5:26:34Z</dcterms:created>
  <dc:creator>Eric</dc:creator>
  <dc:description/>
  <dc:language>en-US</dc:language>
  <cp:lastModifiedBy>Laura Helbing</cp:lastModifiedBy>
  <dcterms:modified xsi:type="dcterms:W3CDTF">2011-02-17T14:39:13Z</dcterms:modified>
  <cp:revision>11</cp:revision>
  <dc:subject/>
  <dc:title>PRESENTATION  NAME</dc:title>
</cp:coreProperties>
</file>