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DE2-38B5-4D4D-93B7-E7DD0B25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9F1-3FDA-40B1-9E60-D44F976F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7D23F3-7132-4707-AECF-4B8A91AC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27F323-C4FB-47D2-9360-F19D7AE5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14DB7D-1551-429E-85F6-2BEB66AA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15EB70-2324-47F5-A890-46FC1931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02D85B-7010-449F-97B6-61E0E596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FC3B81-C834-4935-94EF-BAA4AC60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944FE2-8076-45AB-B260-50D97058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FDD2FD-F694-4D86-91BA-2D01B4C4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07B551-4EDB-46A6-99B5-3DCA248D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3627-8C7A-48D2-8320-BBDD9A92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2E8-34EC-464F-BF26-CB1A079E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12123-3E9A-4E6E-B97D-6DE5DE89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68F92-C9C7-4FD3-B154-8957933A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A4E2E-A375-4B5F-B7C7-0BA8FB11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A79F1-AEBE-402E-B2C6-7DC8BBC0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26FFD-EA22-431E-9917-C595079F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9AE9D-6ACF-41F2-AFA5-BDAF66BB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5A669-92DA-43A1-AD7A-7208F7C4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49F-CDF6-4FFC-86CB-5DA6DC99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B8F45-5F7B-447E-B899-B771C097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BBF42-65A2-4C0F-BADF-DFC1651A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82290-F75B-4FC8-8230-E9E10D80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BE5DF-288C-46F6-B5F8-77A73186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52FE6-D8F7-414B-9A69-8CD674CA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20F7-225F-4190-8880-B99794CE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B7ED-FF1B-4D77-9209-F1EFE3A9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6A57D-7301-49B6-AAE7-0DBE9DA6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AFDDD-525A-4176-B98B-F03B8E37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AB9E-CF38-434C-94F5-57BC1A00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3E9-6F9F-4DE8-A413-B7CCC164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E446-0324-4580-88BA-244BE37C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237BE-97A6-4011-8622-ABDBA345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6B691-E2D0-477E-B738-725C26E0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AC85-64A5-44E0-99E4-AF817787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A1A7F-3164-46B7-835C-9EF51122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8C83D-9D13-4E86-9020-65D3DC35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11BD4-4F43-48FD-B46B-E7F0261A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7EFC4-7F58-4AD6-B33D-D2ED80CE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50FD1-1FCF-461C-8D43-FF0836AE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8EE6F-ED17-47BF-922B-5DB2FE17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87D-B229-425D-ADE8-309E12A6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C6669E-889E-4BF7-B24E-09D5CC34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795EB-30E0-49EC-A7C9-59D13951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57B36-54ED-43D4-811C-3F83D4D7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2BD7BA-C7AE-44A3-B37B-FFA60C64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18DCAE-5DE5-4A1D-81CF-C4D1CE8A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BB4AC3-2435-413F-B709-321EDFA7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7C833-6A92-4778-93DF-DC6D2AFF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F56ED-15C2-4D2F-8A00-CF616745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2942BD-4DA9-4EE3-B02D-B15692F0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A8E11-B88B-4B75-87FB-9FF698EA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B0E-9C59-4E6C-AF63-AC5D8399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F229A-336F-4749-839A-B485FB61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35EFF-40F9-475C-94E6-E69CBF1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DCD47-6D29-4339-867C-D2CB0732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2F84D-6E91-444C-A391-30DEE6A5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3FD6-9B3E-44AF-8DDA-AAC9E945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7D1A3-836E-4FF5-AB6B-14CA6A77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225B-013A-42B9-B7F8-A7381DF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373CC-46F2-4296-B993-364DE8C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44CB7-F5BF-451B-97AE-FDEAEFF1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E623C-47B3-4E84-94C7-42952869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AF3-43D8-421F-8D8D-4220C056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6A585-FEB3-4539-B4E5-304E9D27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43BE2-1ED7-4D9B-B0C7-D1034108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9469C-A6EA-40D0-A486-46075F3B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F3A5F-4BF0-46DF-BCF6-0576B0C4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8C4B1-3B54-4003-BEA0-D593EB03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BCC15-6DA1-42BD-A500-C228EB9F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55603-D2E8-4B97-94CC-B6185068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2CA57-0789-4B67-9B86-E7CA74BE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1D192-33F1-4CAC-8783-D56B4CD3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F86F2-1573-4E9E-93F7-7FEE58E5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844-F2D2-48BA-8284-CA3265C1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442F7-8B18-4B79-A3E1-B909442D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6E96A-C03E-4F72-A4CD-B99C14FD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FB45F-193C-4438-9081-C7202639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0FB76-F8A7-433D-A003-FEC36E72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53C81-33D9-4C9E-B8B3-0BB730F7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4B0C9-CC1B-4D40-8F83-3913C161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A2DE7-AD60-4499-8EAB-CF9C4EBB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274CC-6CF8-460C-8488-AE82B637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A27EC-1FFD-496E-BC14-D2618176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84073-545F-4A47-83D5-6450D666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C607-B138-4B63-8F92-842D5910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B9873-BEDB-4C90-920E-054D86EE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687A8-C380-49EA-889E-E7FC6213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F656E-029F-4311-8FCA-10820E3D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06CA1-5591-496F-932B-AC95C6DD2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BA6CB-5D79-4909-A953-CDEA349F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CDF77D-DD75-4606-9451-6A7A88F0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0CE065-478E-4C82-A318-EBE6BF44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255C37-1A31-4AFE-B361-F3273C64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0E7B37-1913-4A53-9C2C-78E891C3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1317CF-0A75-4BD8-8E7C-92CAC61B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A2D-00E9-4C85-AE8D-D99E17CB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649515-72AB-42C6-8AB3-6D204EBE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3CA4BF-BF7C-4FA9-ACBE-59565A20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133F77-125B-4D62-B351-DD438859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7ADA91-90CD-4A53-986C-351981EA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092722-A096-44F6-8112-2006D7AA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756C2C-B5D0-4CCB-BB21-AE9215B1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3FF355-4CF0-4304-A614-1DA1A9D9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D7F352-122D-457D-9E95-7958F0DA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43A825-BCF8-4488-88ED-B6C8B330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C1EA73-4433-432B-A49D-A96444DE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08AB-D471-468D-A4C1-1864210E1838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6112-2464-479E-9978-380F18D0935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4607-C495-4EB5-B1D8-32F7C5CD01A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194E-3781-4AFF-B02C-B3114B87866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F766-A5B9-42CB-BD57-C6899BD7D739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CD8F-FD17-4BE2-AE64-91DD7B0F0D95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5DA7-861E-4178-88E4-F9EF7333821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602B-6609-4E8F-9237-107738AE6BA4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31F8-BB65-4EB0-B70D-B0D9B5FA574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 7.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242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629400" cy="397800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334800" y="96840"/>
            <a:ext cx="87123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684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tually Exclusive: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lling a jack or queen card from the dec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a U b) = P(a) + P(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general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mind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U means un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ans interse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609480" y="4267080"/>
                <a:ext cx="8172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or 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1828800" y="5486400"/>
                <a:ext cx="8287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two fair dice are tossed, what is the probability that the sum is a 2 or a 3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tually Exclusive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a or b) = P(a) + P(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1/36 + 2/3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3/3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1/1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3 of the 50 states include territory that lies west of the continental divide.  42 states include territory that lies east of the continental divide.  Is this possible?  Explain  your answe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0 = 13 + 42 – P(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∩ 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re, as long as 5 states include territory that lies both east and west of the continental divide (Mt, Wy, Co, NM, Al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ree fair coins are tossed.  What is the probability that NOT all the coins  show the same fac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sample space is 8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1 heads) + P(2 head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/8 + 3/8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/8 = ¾ = 75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Use complementary events to answer the previous question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- P(3 heads)  - P(3 tails)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– 1/8 – 1/8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– 1/4 = ¾ =  75%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ckwell"/>
              </a:rPr>
              <a:t>Pages 438 – 439</a:t>
            </a:r>
            <a:endParaRPr b="0" lang="en-US" sz="8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ckwell"/>
              </a:rPr>
              <a:t>6 - 20</a:t>
            </a:r>
            <a:endParaRPr b="0" lang="en-US" sz="8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37:20Z</dcterms:created>
  <dc:creator>Laura Helbing</dc:creator>
  <dc:description/>
  <dc:language>en-US</dc:language>
  <cp:lastModifiedBy>Laura Helbing</cp:lastModifiedBy>
  <dcterms:modified xsi:type="dcterms:W3CDTF">2012-02-13T16:06:26Z</dcterms:modified>
  <cp:revision>79</cp:revision>
  <dc:subject/>
  <dc:title>Addition Counting Principles</dc:title>
</cp:coreProperties>
</file>