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C69-DC74-4351-9634-DC826E7A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DFD-139D-4445-83D4-50A42792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0B174E-6392-4070-9645-8CE92572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5B593-3709-4C63-B1E8-352C7E3B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5CEB40-EAC3-4CF6-9241-9AA362B9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8949E-E5CE-4096-A81C-5EE7344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F5D908-3B8D-491E-866F-59681FC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4CAB5-2534-4E50-BCE6-D241565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D4DFA-958F-45CE-BE81-C111C85A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0A9B75-3DBC-4CB9-9D42-DFDD2235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5A62FD-C3FB-4C41-AEDB-B6AC5D69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233-7F91-4965-A039-0D20C596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AF4-14C0-4FF9-920B-B69B7D21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6E98F-2A6C-410C-9329-A9FAD951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65737-71D8-4A92-968E-ED347552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F19B8-96C8-4761-ACF4-37D1283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B5A41-3B80-4452-AFDA-F935A5DA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4215B-A9F1-4DA1-ACC6-BB095B11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830E-DF3E-4070-975F-2E7133FA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AFFDC-CA7A-401D-8D22-CE720357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48A-EE7C-4423-8617-BB14AA57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97025-3030-43EA-863A-CA794C87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52215-A032-4295-ABBE-A4BD398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7333-1BA9-416E-9DC6-FFBEA084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520D4-8B4D-4595-9A67-54E410F3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07C76-54C6-4071-A4AA-13048C06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8CBB-0D2D-46E3-A687-CC6F859D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E706-D186-47F9-B7C9-EDD6EB2A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5051-0F62-4B62-9B50-B0B5D39A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0122-0886-47F8-ABC7-DA9737AB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5A34-CA32-4C90-AEA4-8701EBEC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F3B-D40E-457F-921F-D67192D6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18A9-CAA1-4F75-8330-87DA135B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A6D2-9100-4ADE-8FA5-DF1F258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2759-07D2-446D-B9F4-8A06549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1322-F6DA-4F67-BE9D-CEB68A9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21FF-9D97-4DEA-846C-0D4BA64F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3A09-545E-4902-B799-62C35549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CCAB-93D6-4815-BA34-514408B2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4D886-9067-4C73-B8D9-7FBCE9B4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F9CE6-894A-47C4-8584-41AAFE0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7FA20-F5E8-41D8-8784-C586DE89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73F-C1C2-432A-B76B-29373929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80932-A23B-4669-9F6E-F75EE3AE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20A46-CDE7-45C6-ADE0-D7ECD18A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56EE0-E807-4251-A689-33499BD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DE293-FAA2-4D4C-BF1F-48554121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8F97F-DF5F-45EB-B99A-67D70BAF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30B07-8C3D-4331-BDBD-050F0F2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343EF-5BA1-4923-A2CC-46025FC6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C2465-4C98-4268-BC8F-ADA4C057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7025E-9188-437E-A2DF-9E9F4E72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368D-155F-4CF2-A6EA-9BD9EB53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D08-D8AD-4ED9-A454-992C4C5F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1478-45BA-41E3-88DD-07BC7A08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4BABB-D61A-48B0-BF4A-D6391DE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5BDD9-1D53-419E-BAB1-1740F1A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A7A2-FE7F-4B98-B1BB-691E50C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521F0-9441-43B4-B846-46FA83CA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9F6D-4842-4CA6-898C-CFEF1F5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1FE3-2702-419A-BB26-CAE4FB3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5607-F41D-4E88-90D4-E2AC2C2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9BA49-5BBF-410A-B730-48395362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DBFAF-DE01-4495-8D40-C57A18B0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535-C0ED-4F7B-9241-AA35073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AD6A-8432-46AB-AFF9-AB03AE52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0387-AD08-4022-A6B0-A6A3C9E8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60EA6-1E3F-4351-821E-542AB4E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BC5F-DBAC-44DC-8A10-6790D774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13EC3-99A7-4FEC-BD6C-CCDFC02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AA01-F568-4AED-9732-D94BD9C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382CC-2295-4C7D-8FE9-C8298C87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0F31-3E4E-432C-8E54-131D594C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5694B-A26A-4719-9771-F290A2E6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5E7F-5D1E-40EC-B34E-2A138E7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45B-5295-4C5A-8828-54EFE16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1C484-184C-479F-9D5A-DD5CE058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C62FE-4782-4A70-B1A0-D9D23124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6B58-7442-41AA-8111-CB7CD8B5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690A2-7F6A-4834-AD49-3E609ED8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A2C3-8D39-4E6D-8EAC-ED19E411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CF7C-B0A9-4B4A-81CE-A2932D3C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8D31-4E59-4995-AE0B-960FCDB4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B7FC-428C-46FC-B30A-3CCDA80F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26BD6-D45A-4E3D-A55D-3B363628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ACE4-0B92-4238-9E8E-9642157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561-9992-4391-A201-6BDCAD6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DA4C1-EEEB-4A75-8FBE-929FBE30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6E270-DEF3-43FD-99D6-87A2546A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F5399-2291-44C9-87A8-D62467B9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8CE7-B49F-4B6F-BCED-7C9D4DB5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0C91-355F-4A49-B97A-48067E3D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4460B-11AB-4DC6-9002-6BF6A9C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73F1A-8B40-4470-BFA8-F8F1E4B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5E9C8-2F7D-4691-A87F-7D3B6B3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4AC23F-597A-4383-9AEB-3E3E3155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5E63B-B961-47F1-8424-1813729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D7D-EA06-4C7C-97C2-FC14C70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8FF56-3119-4DB5-87E1-0DDE12A8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97BBF-E799-4F8D-B3C8-06A51C5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D3173-B757-4D06-9FBE-23C6D310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C78EE4-5A6D-413D-8B8C-C0C6503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1456D-D3BF-4C26-8F6D-CA17DC1B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B204D-A9E0-49A3-A79F-84D430EF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0E4C4-64FC-4399-B3AB-245327B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45DA7-6E40-4488-B261-FFC9E4AB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C621D-A3CA-4620-A28D-6D78E099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A36546-EFF8-47FE-9328-4E52FD6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A234-5593-468F-B46E-61C96FD483C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EFA-1721-4277-9A2F-4DE2F6E7D4E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C8E-297A-4C00-8CA5-CC22AF25210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31E-FA5E-4F3C-B270-2524C7FDFCA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DC4-D09D-4DEA-B6E4-D913AFE7214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D804-ED94-4E81-AA43-9A481C7BBA8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DD02-4F24-435E-92D3-E255C56061C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EDA8-8459-47D1-9D7E-310BFB9FAFB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0020-6AE6-4186-AF02-D8624821D3A8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7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24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97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334800" y="96840"/>
            <a:ext cx="8712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lling a jack or queen card from the dec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U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genera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mind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U means 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s 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609480" y="4267080"/>
                <a:ext cx="8172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or 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828800" y="5486400"/>
                <a:ext cx="82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two fair dice are tossed, what is the probability that the sum is a 2 or a 3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or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36 + 2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3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1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3 of the 50 states include territory that lies west of the continental divide.  42 states include territory that lies east of the continental divide.  Is this possible?  Explain  your answ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 = 13 + 42 – P(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∩ 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re, as long as 5 states include territory that lies both east and west of the continental divide (Mt, Wy, Co, NM, Al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fair coins are tossed.  What is the probability that NOT all the coins  show the same fa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ample space is 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1 heads) + P(2 head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/8 + 3/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/8 = ¾ = 75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Use complementary events to answer the previous questio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- P(3 heads)  - P(3 tails)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8 – 1/8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4 = ¾ =  75%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Pages 438 – 439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6 - 20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37:20Z</dcterms:created>
  <dc:creator>Laura Helbing</dc:creator>
  <dc:description/>
  <dc:language>en-US</dc:language>
  <cp:lastModifiedBy>Laura Helbing</cp:lastModifiedBy>
  <dcterms:modified xsi:type="dcterms:W3CDTF">2012-02-13T16:06:26Z</dcterms:modified>
  <cp:revision>79</cp:revision>
  <dc:subject/>
  <dc:title>Addition Counting Principles</dc:title>
</cp:coreProperties>
</file>