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FA2-CF99-48A7-86D1-041956B9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DCC-97D1-4BFC-8DA0-58F547A5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CF4-41A7-4484-B280-4931A3BA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B42-073B-45A2-80E1-CD918B41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998-14F8-4B8C-AE0E-3B6844E9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CE2-094F-4AD5-AF04-588BD3CB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461-55C3-4284-930E-CC801525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F01-0689-4CD0-8387-D013802B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011-A338-4C71-B946-C4F8EDC6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60F2-33DD-405F-85CD-F152A63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876-C8D5-49A2-A7D8-3ECD88BC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DD7-6602-4BDD-A343-152E285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D37A-6998-429E-B79D-B002F00420C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7200" y="1928520"/>
            <a:ext cx="6786720" cy="24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Distributive Property and Removing Parenthe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5640" y="4114800"/>
            <a:ext cx="558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400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Objectives for the day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expand and combine lik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and apply the distributive property to perform calculations in your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Apply the distributive property in real-world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Add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+ b) = ca +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Subtr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– b) = ca -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3360" y="762120"/>
            <a:ext cx="701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1 : 5 ( 2x +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5:   5 (.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.4x + 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7: Show how the Distributive Property can be used to perform in your head  17 ∙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8: You want to tip the pizza delivery person 10% of the cost of your pizza.  The pizza cost $13.65 plus $1.50 per topping for n toppings.  How much is the t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Express the area of the largest rectangle at the right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ength times wid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The sum of areas of the smaller rect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"/>
          <p:cNvPicPr/>
          <p:nvPr/>
        </p:nvPicPr>
        <p:blipFill>
          <a:blip r:embed="rId2"/>
          <a:srcRect l="81253" t="52001" r="7500" b="35999"/>
          <a:stretch/>
        </p:blipFill>
        <p:spPr>
          <a:xfrm>
            <a:off x="3505320" y="1905120"/>
            <a:ext cx="2819160" cy="187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3"/>
          <p:cNvSpPr/>
          <p:nvPr/>
        </p:nvSpPr>
        <p:spPr>
          <a:xfrm>
            <a:off x="4038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( x +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380988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 + 2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One mo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write as the sum of two fra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4724280" y="2362320"/>
                <a:ext cx="1567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4572000" y="3962520"/>
                <a:ext cx="1641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4724280" y="5410080"/>
                <a:ext cx="1119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Partner work (to be handed in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0" y="685440"/>
            <a:ext cx="6858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404040"/>
                </a:solidFill>
                <a:latin typeface="Calibri"/>
              </a:rPr>
              <a:t>Suppose a farmer rents three farms on which she plants corn and soybeans.  One farm consists of u acres of land, the second farm consists of v acres of land, and the third farm consists of w acres of land.  She plants corn on the first two farms and harvests 184 bushels of corn per acre.  She will earn $3.30 per bushel.  The farmer plants soybeans on the third farm and harvests 54 bushels per acre and earns $6.42 per bushel.  Explain how you would find how much she will 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s 70 – 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 –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section 2.2 and complete p. 75 1 -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16:58Z</dcterms:created>
  <dc:creator>teacher</dc:creator>
  <dc:description/>
  <dc:language>en-US</dc:language>
  <cp:lastModifiedBy>Laura Helbing</cp:lastModifiedBy>
  <dcterms:modified xsi:type="dcterms:W3CDTF">2012-08-10T02:24:21Z</dcterms:modified>
  <cp:revision>16</cp:revision>
  <dc:subject/>
  <dc:title>Probability</dc:title>
</cp:coreProperties>
</file>