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8A7-BC92-4D69-A459-102469ED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908-4E44-4721-BDF6-629D3ABF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8F264-5719-483F-95AA-BA79269C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17A9A-C4F7-4820-A771-D5771310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87654-952D-4FF0-AECC-370D58AF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960AE-76C9-4CE0-9A66-5B7F54FC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ACED2-BC6F-4416-B65A-EF999BA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07EA0-16C8-4211-94AA-25C9C902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82869-1D64-4817-8B8F-6CAF1EF7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4BC24-8D18-4D61-B82B-4DA7FBE7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817B5-69BB-4A90-A488-7DF1FEFD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381E3-21A0-4FD3-B23D-E52D4683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775-4942-484E-BA32-47CA329B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6CA1C-5222-4013-84FE-44B86A9A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5074C-F8B7-40EF-911F-E0D719FC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B1E39-8F23-4415-B17A-2EE00333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F5B6B-D98D-4253-A401-7D6D127B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8603A-C905-414B-BAFE-D5C5394C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16F7E-DCB1-4838-B201-54BE3B24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96119-997B-4B81-BE57-C67EE8A7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C3F76-BCF3-4C18-BA74-522323BF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E1F53-0B0B-4D4C-BCCA-A1EE694C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CB0B2-1704-4B9C-8034-1782089E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CF8-EF52-4230-AB52-999B9E6E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667AE-5BA0-4317-BB27-22D861C7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9675A-1BAD-4A88-B72C-A0623529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F8376-2123-49C9-9B1D-0EAB22AC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B835D-9471-4BFB-B8B3-293DF73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CEAD8-B14C-4124-80B0-5101F59A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5BA41-70D1-4945-9B40-A8CFF221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7DDCE-1C9E-4BDB-B733-9A3E3E87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00202-8570-4911-AC7E-E8C8832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F10CF-529E-48C4-BFD4-C1C681C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893A2-1235-450B-9BAA-FD16CB54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1301-A002-461B-B4B6-C2194489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8420-C6C1-4472-8B6F-E0CB458C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CBCCF-9F4A-47CF-86F6-CC050048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9C25B-382E-48A6-873E-CED9A74A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D1DF7-0A1F-4170-B0E6-9A4FEF38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142BA-A139-4973-B7A0-8B8BF0DB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1D363-20A7-48A0-9B05-A2199257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88910-851B-4194-B61D-ED7FCC0C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8CA06-90D4-4E32-8AF3-27CC17CA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A1C47-CFEA-4161-A458-355034B9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E22AE-53B1-4B5D-8CEC-9C5A0B3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C110-324B-4270-AB30-0F9304B1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74619-C55E-4CB2-8532-683CAFC7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22651-7C97-44A9-AD32-7D27FA8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D6416-E02A-438A-B9B9-CB19D755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542BA-10B1-445C-A809-684A570F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80B22-EB3A-406C-B738-06454442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E39B-DA6A-4D15-8440-4DEB2843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B98B-A6E2-4EC9-B1D2-0E029EB6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066F-DF76-4111-97CD-8CBAC9BD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77CA-5033-4425-8B18-2405B008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DF17-EFEB-4AB4-B14F-37D6E2A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B68-C0A9-442A-8CF0-A32FD2A5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DAD8-35F1-478B-8280-51025DF4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CD57-9E6D-4746-8143-B774B8BD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A9EE-300C-48AC-BD34-9312C7ED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1BFF-4A63-48FB-A9E5-174FE408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DC1E-1810-47B1-B6C0-2A0F2D4B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7E17-D533-4E39-B2F5-687D1C5E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A0E7-5E9C-417C-BEFF-18D1FF6D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B44D-781C-4FC9-B686-3406F168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A11B-E851-4A9D-8868-C9898965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F584-D5E2-45F2-811B-3779B039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5EE-6F17-478F-B720-91CFBDD4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274E-4657-435D-A6E8-7A45B296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475A-0E3B-4671-9D8E-F4C44CC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9892-C94D-4256-86B3-762885F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D720B-DA17-4970-8B49-A1188A5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897B7-7E39-44FE-9A9C-E6FC1351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C272-6883-45D6-A687-56AE65DE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331E-6F31-4576-9F16-1E0E3DCE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6D7C6-138D-4E29-9CCD-52E1C396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0130-0716-430C-B5D7-99DB73FB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85A4-5215-4538-B36E-8624551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078-34C1-43DC-8FBF-D4A07AC6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30B8-D291-428A-890A-5CFFB7C9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3580-D715-4236-9B01-65145E3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AF2E7-AB1E-4619-B40F-1AFC1B05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2767-9FEB-457A-9C90-F6285B5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9117-8FD9-468C-AC6D-3E3BBBBE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EB37-41AD-49FF-9FD2-77E5E27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3500-9780-486D-B417-63CCD1FA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E1FB1-993D-4C2E-B1D9-43C5AD68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DDF8-AF37-4361-90D6-B6F37B31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BD64-EB7F-4CFB-8164-17A4B59A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EE0-D368-4D63-BDF1-004A0AAF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BDA8A-68C9-4E65-85EF-09F71895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89CC-13D3-444A-83A6-72B1AC67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EA3A9-16FE-461E-90EE-2F76EAF6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C3DAF-2164-44BE-9B8E-C8505555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A2772-BA97-4B71-8AF2-7792D411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83D0F-0830-4349-B01C-63F4D49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19573-214B-435A-A594-8597C28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69B61-C29E-4821-BE1A-5A55F9C9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63448-70FF-4E54-A738-48BE0A17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F8AB-C9D8-433D-8DB8-8B92B84E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22E-AB90-494F-8FEE-1F855876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CB2F-52C9-486C-AF2D-01215FC7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48AF-8885-42DE-84F3-3BD8F321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7A2F2-A0FA-47E4-988A-9B9FB4E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A63F6-B680-4D80-873F-51CBF2FF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791F-814D-44C6-9586-B6064365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7D4C0-50A0-4D01-83DF-4ED7A499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6A85F-9321-4EB0-B5D1-AB2845A3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06185-A5CE-4059-A912-6D1A232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3041B-73BE-4B41-ABBB-BC13B1D9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07225-D63C-49A9-BD6D-40B3F9F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A1F-8CA4-4E92-A035-9DF289ED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0A305-7B66-45FA-A202-48397DAF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A19BE-DA6D-43AA-B450-7B5E8503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E257-CB28-46AF-B243-91E91545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01954-D8BB-4F1B-8026-644F8726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75374-5454-4F98-AAE1-1916FC82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2B810-B436-47D1-9A43-DEECA063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0B71-FE4D-4FD7-B622-59FBA54D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7A198-4CB7-4417-8ED7-56F431E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F6E4E-7EED-4A71-BB6B-C74727A9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4AFAE-53AA-42AF-B8A1-06DCFE8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CB8-403D-45C5-82A3-CAD5433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36DE1-5F7A-4557-9D42-E2DBE3C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318A0-C82E-4A33-BF27-13641E63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88B0-1DFA-423F-85E5-7C09A2D8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AB0E4-1879-4756-9C05-F025DCF9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FA074-CB39-4992-8AE6-9015C778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253C8-03FB-450D-BEFD-9BFE84FC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4B76B-7FCF-40B3-8CE2-9E467210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AEEF9-49C7-4ADD-B3D3-F18E7BA1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BD75-FB66-46BA-A9A9-F5E9ADE0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724DE-21DF-4F1F-9ED5-472B8507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F24-6C38-4ADA-9F8C-D74E523D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B5925-11D0-4373-A1DA-4D89E6FE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F2CB9-52B0-44AB-896E-E939AA4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C8044-FF11-4A86-843C-BD8AEC0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514E4-B235-4FA2-A2F1-2713F7E3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FD6B2-4BC3-4D1F-B447-991FB360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B3876-BD45-4772-9D6D-42745E0F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892DC-C590-4182-9A79-EE25AC31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24969-8BCF-4A36-A9EA-1B12DEDC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7DF96-CE28-47EF-941B-619F067A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A1F17-7E55-4BAA-B3A5-6CDCC5C7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C120-A194-4C98-93E9-63823D07431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1195-3D5B-4ADC-BBAB-2D4EC3E41BB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7B0F-045B-4B5E-B4F8-AADFFD53D06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DA59-76CF-4D17-844D-7FEF279706E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7ED0-503B-437A-8034-7C6352508D1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12B6-1919-42FA-B50C-737B69B3A7D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4466-2357-46D4-8DA4-BDAAEA600F3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17E3-52A4-4EF6-8B5A-6FE7AD4FF01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C123-BA2B-46F1-A59D-13B5CF9976E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9980-B2B6-42A5-967E-F2A96F9EB84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B88B-3EAE-451F-9F95-014BA4A2457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8978-E769-4425-A989-0D347141190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ESSON 4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ranslation Images of Circular Func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 shifts the graph to the right and to the left.  (connected to the x coordin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ifts the graph to the LEFT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s: shifts the graph up and dow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+ 2 = sin (x)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-2 + sin (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aph y = cos (x – </a:t>
            </a:r>
            <a:r>
              <a:rPr b="0" lang="el-GR" sz="3300" spc="-1" strike="noStrike">
                <a:solidFill>
                  <a:srgbClr val="7b9899"/>
                </a:solidFill>
                <a:latin typeface="Georgia"/>
              </a:rPr>
              <a:t>π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/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15235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phase shift of this function from y = cos x?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to the r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shift of this function from y = sin x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0; they are the same fun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045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real numbers x, cos (x –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) = sin 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remember the Complements Theorem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– x) = sin 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sin x 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) + 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 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tan x and y = -1 + tan x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hing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dow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50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π/12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plitud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io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π/6 = π/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2743200" y="1143000"/>
                <a:ext cx="3382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Pages 282 – 284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3 – 9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15 – 16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09:10Z</dcterms:created>
  <dc:creator>student</dc:creator>
  <dc:description/>
  <dc:language>en-US</dc:language>
  <cp:lastModifiedBy>Laura Helbing</cp:lastModifiedBy>
  <dcterms:modified xsi:type="dcterms:W3CDTF">2011-11-30T16:28:44Z</dcterms:modified>
  <cp:revision>7</cp:revision>
  <dc:subject/>
  <dc:title>Translation Images of Circular Functions</dc:title>
</cp:coreProperties>
</file>