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5F3-B649-4063-A054-642DBE6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56F-4647-4261-B394-1563F277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D0F98-F69B-47C0-BC85-D188E6AA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B55B01-0F43-496B-8C20-E3C3D6F7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5DD9E-B98F-43B1-90E9-1FD2903C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FF1D4-1792-4029-822A-317EF8C0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52D1B-157B-4252-818D-F8194558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CE5CC-A31D-4A10-9379-34A2E7F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87C2C-BA2B-4A58-A752-BA2C353D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91FEF-A4FE-46D4-A6FA-B8F7DF32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150AB-3F82-4B30-B631-A6EC729E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3A395-8986-4851-863B-DCF495C0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EDF-DA1A-41B0-B433-70E7489D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1D8E7-D94C-47D5-8166-708658E2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1815E-3724-4A15-814F-CC59266A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31983-598A-4A0E-B8E9-938C46D1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18116-FA9A-4397-B208-624A2DB9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AC006-DC96-477B-B655-78FE1EAB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86CC3-31CF-4CF2-94B2-04665BE4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2E933-6A54-438C-849B-4E10C898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3DC17-FBFB-44EF-9D98-1A0D7BF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14041-AC02-48D3-BC20-02B059B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247248-3D3B-47C1-96E7-56EB21C4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B02-D238-4A5C-9B0B-21135A9C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9FAB6-C5E6-4045-B23B-185FF68E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31BF3-A686-49D3-BDD9-107AF25E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EE25-68DB-40F0-94F7-BB415C2E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D9E85-3246-4A10-8B03-668CEF44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678BA-2075-44A8-83C8-3658B2D1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8AC37-06BB-449F-83FB-50363135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9693B-9914-443B-9141-4F59127D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E56C3-4788-46FE-ACBE-0D90EF22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2D4388-57B8-4608-8EFB-FEB69B3D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2BB8E-9860-4C3D-9283-1D70EAA0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0BF1-2A56-4104-AA7D-3151B3B0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52B35-7581-4C46-9451-FC769D96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6D5D4-41FB-405F-992C-AB00075D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56E53-CFA2-4947-B6F8-C0F395F3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0D92C-2B77-495D-BC34-7213FE16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1F830-E6BB-4889-B572-234C3FC8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DAFFCA-6597-420A-BE39-6202E7B9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DF5DE-11ED-49D5-9C69-0709F9B2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44F78-6F74-4919-B7B1-9C921E2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352D22-77D2-4455-B250-D8ED2A6A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5065F-7BB7-431C-8C69-F5254EF5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2124-1A7A-496B-8E59-12F4B62D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7ABA51-0170-4007-8521-06F46FE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2201B-CC8F-45B9-83E8-A4284FA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54613-6311-4237-ADBA-C33C97F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B8435-AB61-4AB9-BE71-738EF687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B69A6-0146-466F-8373-9D7C18E3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778C-797D-41D7-B7E4-71F2E67B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EA52-FC34-43E4-9E56-8A1A712E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FB3-D1CB-492F-9712-31305CC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3E86-4DAB-4197-9AA2-DD3D394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FA7-A775-4392-A1F9-FA6172D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BC1-D5D4-4303-8AA0-0D4FD58C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BAFF-5436-46E9-BBA6-83C4FDB9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1342-AEC2-499F-BAFD-418E538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4E2-DB52-40CD-BEA8-7616513F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42F5-28BB-4BD6-973C-BF0A1758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FAD2-BBF6-4FF9-9EE1-A782E583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BB868-2438-4374-8CD5-0C1B7294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53B1-00DF-4431-AD9C-41E927DE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F200-0847-4C4B-A85F-5BDAE79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CDBB-B96E-46FC-81AE-277615F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EC84-0D31-441D-AD93-EA32F6DB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4CC4-EF2C-4129-8638-19FB8D43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08DC7-9721-4D58-A303-D3EDE81C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77DC-1DFC-4397-A34E-6DA67E8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A30BC-619C-45E0-BA93-53B9632A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CCA9-EA63-4305-BFD4-9F567C1D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8FE9A-29A5-4CC8-BE6F-80F7C21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7036-9388-40F4-ADCD-C1F625E5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7221-59C5-45BD-A5EC-5ECB6E9C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7E21-7080-42CB-B7B4-52715F51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9E8F-3C55-4F19-84EE-36E4BD2E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C2EB-2EDD-4F0E-9B1A-3AE08CE8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083-D36E-40C6-AEBF-B397C2C1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822A7-886D-43B2-A3F1-60E32FDE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01CF3-BED4-44F4-9AA9-18C2CF4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1E2CE-BFF6-4CE9-80D5-BE5F0D99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A048-8074-4665-B97F-A3A6BBA7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74B6-1BBD-4346-B782-BD8F630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1B94-09DA-4946-8EB4-7795DD34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2DF5-EC4C-473C-8FB1-4864D2B5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7E586-3613-4780-A47A-E65B3DC8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5CB68-241F-4C74-8EAF-9B3F7C38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D5F39-7C1E-4BB1-80D3-575EF7BB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954-2E2E-4AED-BE28-6E69A0AE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A3665-47B3-4C01-8277-7CC2DB0F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0034-3E86-481B-91AF-E2F95B55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9C7CF-6EDA-4588-9FE4-A02E0CB2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0767-A877-4ABA-A38A-B7BE669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2EE33-63C7-46CE-BAEC-3909589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B771-EE52-4873-9572-1C5FA20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D3126-36D4-442C-9717-AFC0DD9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019B0-08DE-4593-AAC8-4DDD9CF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AA9EB-87FD-43C4-BB4A-9632022A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17B81-BF45-4849-8778-64EE38B3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74D-1A72-4BDE-8FC0-0E00732A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8C7C0-031E-4913-80DD-9FB9419F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71EA7-3F7C-41F1-8BF8-1CA4EEF7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5643-8B6F-4DEE-A73F-DAAF9B41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E5C87-3FF0-4FE7-A1F6-8F7EC9E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254A-740B-468F-AA70-36723FE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EEDD-A0B3-404F-A69E-B7C0E389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3E699-7BD8-448E-8329-7E9C3EFF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65E8-295E-4054-A1AA-36FE58F2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FE7B-8885-4B91-A5FB-0309E7A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47BDD-C6DD-4412-B36D-8AC46EA8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229-51DA-421E-97CD-2F3D999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A120-FF8E-493D-A00E-25AD11BF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AE49C-B29C-4822-9686-7BCC5182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5B8CF-4F45-4195-92E6-971A638D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1EC4E-5EDC-479E-A3A4-A43190EF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25E04-65CF-4109-9C75-E7AF1A38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858E7-366F-4998-A762-90EDDF38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4C4F-360E-407D-A3D6-F396F4BD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CD3AE-D290-434F-BA8F-490F3F6B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2414-0D91-4C37-8C19-E4AF1407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2C37E-E716-4D7A-98CE-E48C7E44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802-2A78-46D8-A688-5659B95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C1891-2650-45A1-8B37-202C5ED9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7C1AD-ED07-482C-A7A4-35B2BA1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5F8F3-C7A4-4860-84ED-04B15F1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F36B3-2434-4878-8D7F-EB1B8EC1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51C24-54EF-4F50-9118-112FC5C6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4538-08BA-4F4A-B8FD-6069F898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46888-529F-4847-A42F-28BBC63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C498-19AD-4954-9BE9-6CA24AC7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948CB-1CE6-4642-82EE-D55B1AD7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515B6-E477-4EF3-BF9F-68FA391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AA0-7171-4CF8-B9B2-AF0AD3A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55458-756C-4FBB-9A5F-EF9662A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8660F-1343-41FE-8666-CF7B712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1AF3-212A-4F0D-ADC2-028DF44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D85BE-1985-4C9B-B830-47FA070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D93EB-88D2-4998-A75B-4D4912F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5464-3092-44B8-8E28-B5B802CA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71E6A-E53D-4AFC-92D3-F3AF5817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C1285-94BA-4377-BBC9-299947B0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DCB0F3-6DFF-4899-91E6-CC57171E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8F941-8087-47B5-B460-785C6A2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49CD-BE13-4D7E-9A89-E42B34362A9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E570-A517-4519-BF19-25ACCCD6E86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C01-DE3A-4C42-A190-335F91A2075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9B19-AA20-4AF2-B261-BBC07A3DCC7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80F0-0013-4ED9-A603-9F9C4272E55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73DA-4D21-4385-BF26-0FE68B7EB3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B03A-0FB9-444E-A4F9-CE613E9A77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5B3-165A-4282-9894-4C6B6ACC89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CFF0-A672-4CCD-A55B-43485608815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4833-8838-4F99-8BBB-53AC7E7B3B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D437-DA71-4862-B477-841BB0568961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017-C184-47C5-B8CE-0898E6C368D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SSON 4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ranslation Images of Circular Func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 shifts the graph to the right and to the left.  (connected to the x coordin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the graph to the LEFT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s: shifts the graph up and dow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+ 2 = sin (x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-2 + sin (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ph y = cos (x – </a:t>
            </a:r>
            <a:r>
              <a:rPr b="0" lang="el-GR" sz="3300" spc="-1" strike="noStrike">
                <a:solidFill>
                  <a:srgbClr val="7b9899"/>
                </a:solidFill>
                <a:latin typeface="Georgia"/>
              </a:rPr>
              <a:t>π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/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phase shift of this function from y = cos x?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to the r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shift of this function from y = sin x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0; they are the same fun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45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real numbers x, cos (x –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) = si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remember the Complements Theorem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– x) = sin 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sin x 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) +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tan x and y = -1 + tan x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hin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dow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π/12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plitud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io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π/6 = π/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2743200" y="1143000"/>
                <a:ext cx="3382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Pages 282 – 284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3 – 9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15 – 16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09:10Z</dcterms:created>
  <dc:creator>student</dc:creator>
  <dc:description/>
  <dc:language>en-US</dc:language>
  <cp:lastModifiedBy>Laura Helbing</cp:lastModifiedBy>
  <dcterms:modified xsi:type="dcterms:W3CDTF">2011-11-30T16:28:44Z</dcterms:modified>
  <cp:revision>7</cp:revision>
  <dc:subject/>
  <dc:title>Translation Images of Circular Functions</dc:title>
</cp:coreProperties>
</file>