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C2E-B94D-4374-9CB7-F33EC00A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489-046D-4450-80F9-C7E6F089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E94-2BDA-41BA-9A26-C7DACC0F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A69-1AFB-43FD-813D-D8C7DA90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2214-FA6C-4628-A4B2-A3867B06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C0CE-6D08-40E0-90DE-C4A95692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E27B-037F-4330-9F88-B1E8CD2E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5D64-75AD-40DC-96E9-CBFE2701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AD3E-EE88-4E5B-8DE3-33C9B156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6EBA-FCB5-4764-83CE-7F7EF839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758A-5A45-43DB-8386-F425A7FC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B4D-0B9E-496D-B401-07890D54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83B2-B647-400D-B7CB-6B54220F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0EE0-4EAB-45DE-BC3B-6A847ECD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BEB9-ABD8-4DD0-857D-86598229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69ED-9689-4D16-B38C-F6C6F04E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6259-73FB-4EC5-990B-FA7AA6ED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085DB-4EDB-446D-A584-EA861EDF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ED6A0-A733-414B-A843-BB99934C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8B28D-4F34-4929-8E19-0628CDA6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357F1-0E46-47E5-8C7C-55839CA5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28A73-96CD-4931-BEF1-29DA0FEE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AE3-449B-4ACF-950F-579CB217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2A0EB-DCC9-4C65-9080-275C4778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0C2B6-776E-406B-A0D5-3F374BAB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775B3-8A19-40F7-B0F2-83BF4C90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056AE-071B-4FD1-95C7-DE4E711E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EDA77-A44B-4ED1-80A5-02E1D32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A4439-E539-4139-86B3-1A002AEA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06E64-8169-4D99-9065-51CFA4BE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3A396-04B4-420E-B0DB-9AE01A27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03485-7165-4F8C-ACE6-7E158526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D4F41-5DA2-4277-A991-55511225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3CF-FB51-4F87-970D-3C3ECE02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684A-10A8-44D7-979E-B243A64A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2DD3C-361D-4B9C-AC61-E823CDC7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A4244-FC98-4306-98E9-DDA4780B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A6CA8-DF33-475E-B327-20CD0F0A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1FF2B-4F17-44CD-94DE-3986FE5C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17602-3075-4E28-BA48-EE9F621A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B95CA-3D60-4927-A22C-2FA2F3F8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18157-E9E7-47BD-8566-C011A4D7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13276-8040-4CCE-AFAE-11AD4072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C3B-6A55-40F2-9843-4802A9BE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E57-AD11-482F-B1EA-48F298D3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BFC-0D63-4F86-85E4-E4FD4BB9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8D9-2599-4FBC-AD74-A3FDEB82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693-EA04-41CC-A026-73F24651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B99E-7718-4719-BDA5-46A1BE2A9FC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A29F-4FEF-412B-B676-24BDC8D4E5D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8E43-C890-4C28-BD17-994CFCADD43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E18E-3B81-47C1-9391-5A3302A2BA5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cale-Change Images of Circular Function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4.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ine wa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player.discoveryeducation.com/index.cfm?guidAssetId=A691574C-39AB-4E4A-9B27-7643422C3F6B&amp;blnFromSearch=1&amp;productcode=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litude: Half the distance between its max and min valu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quency: the frequency of a periodic function is the reciprocal of the perio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find the period:  period of parent function divided by whatever number is next to the 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 = 5 sin (2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5105520" cy="3733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y = 5 sin x for -2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≤ x ≤ 2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. What is t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. of this func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6948720" y="38862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66680"/>
            <a:ext cx="82296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y = 10 cos (3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iod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litud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2209680" y="16002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/3 * </a:t>
            </a:r>
            <a:r>
              <a:rPr b="1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2514600" y="2057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 the graph of y = ¼ sin 2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amplit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perio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frequenc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478400" y="3581280"/>
            <a:ext cx="89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3735360" y="4572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376880" y="5486400"/>
            <a:ext cx="94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/</a:t>
            </a: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a tuning fork vibrates with a frequency of 440 cycles per second.  If the vibration displaces air molecules by a maximum of .2 mm, give a possible equation for the sound wave produc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905120" y="49528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 = .2 sin (880</a:t>
            </a: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x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275 – 276 3 – 10, 17 – 24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1:29:56Z</dcterms:created>
  <dc:creator>teacher</dc:creator>
  <dc:description/>
  <dc:language>en-US</dc:language>
  <cp:lastModifiedBy>Laura Helbing</cp:lastModifiedBy>
  <dcterms:modified xsi:type="dcterms:W3CDTF">2011-11-30T16:28:36Z</dcterms:modified>
  <cp:revision>4</cp:revision>
  <dc:subject/>
  <dc:title>Scale-Change Images of Circular Functions</dc:title>
</cp:coreProperties>
</file>