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330-4C3E-4BA4-A66C-D9BDFD33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CB7-E520-4B06-AAAD-2693747C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547-0258-4145-A86A-E8204398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615-35E5-4F67-AFFB-042B810D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979F-0ADF-45F0-802D-B9AA33F1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6D64-F24D-467A-8897-64F0F204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30FC-0221-4CE4-AB30-1A15752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085A-99EA-4822-9189-498E6DC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ED4F-3C44-4CAF-A5E5-0361F9F6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79EF-C9DE-41D6-A244-08EE8B14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37BD-5F1B-4753-AF41-85C705F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8D1-89EE-4066-A9EF-C80E8E06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3D38-AD25-4F4E-B525-9C7063E8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C10F-86F2-4CF7-8E25-C62CB8C2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BF09-C906-43F0-9177-E304C09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D01B-252F-4593-99CA-C21CCFA8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9891-6ABB-49F4-B2AC-4EE59CED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6432B-B2F9-44C2-AA5C-D9FF79D3B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5794C-45E1-4D3D-8012-EC1927C1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FD028-2F5F-4FEC-9AEB-5689D68C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6F589-2B39-42DD-90ED-C104399D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C99A1-6FF1-4ADD-B814-1D2E6AB4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9DC-A171-49D6-940A-E280478E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C568DB-AFA0-49DE-904E-9596A90A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E54B7-27D8-4EB3-8502-5EFEF04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275FB-B1E8-4BBB-972A-0E88449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0CFE6-32D1-40EC-A1CB-53DB9C6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504F6-42DA-4E21-8433-7537706D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BEAF8-0E43-4E9A-8DDA-F90EB449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84696-E8A1-4C87-BB32-A25BAFD7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7FF97-F787-4DEE-9544-4541F0E6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D55F-CFC9-4BD3-B12A-D75AAB4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E27F2-9227-439D-927A-6C86E0E7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C31-F3F2-4B7C-BD9A-1860143B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51FD-0C12-44C6-AD8E-24E066D4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66F9F-F373-4614-BED1-F39E5C79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BA63-9501-46DF-8ABD-E37B2C9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F0ABB-24BF-4B4E-8F2C-D58B6DC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6442A-A66D-44ED-BBFC-45815F69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13B2-48E6-4C8E-B9D5-6C6CF13E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C823E-79C1-4456-8526-59283144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E799-AD5A-4FF5-A701-2597F3C7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A920E-7EEE-4AB5-B47F-FDE2EB33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8561-AF49-4417-8BB3-CBBC89BE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B39-BFE7-476F-8B47-C2D45900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416-3731-41E8-A379-CB4C424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203-F093-4FB4-813D-87B5E99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D3C-F8B4-4EFE-9E94-2CCF7F18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9CA8-4344-4A07-A246-9D1B90E977C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4B9B-0132-4E45-A4D0-356EFAA0055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C002-F534-44DF-AA90-4D2A44DB583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9E7-38A5-412F-BB68-D156357B22C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cale-Change Images of Circular Function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4.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ne wa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player.discoveryeducation.com/index.cfm?guidAssetId=A691574C-39AB-4E4A-9B27-7643422C3F6B&amp;blnFromSearch=1&amp;productcode=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: Half the distance between its max and min val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quency: the frequency of a periodic function is the reciprocal of the perio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find the period:  period of parent function divided by whatever number is next to the 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= 5 sin (2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5 sin x for -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≤ x ≤ 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. What is t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. of this func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948720" y="38862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6668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10 cos (3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io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09680" y="1600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/3 * </a:t>
            </a:r>
            <a:r>
              <a:rPr b="1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146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graph of y = ¼ sin 2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amplit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peri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frequenc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478400" y="3581280"/>
            <a:ext cx="8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735360" y="4572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376880" y="54864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a tuning fork vibrates with a frequency of 440 cycles per second.  If the vibration displaces air molecules by a maximum of .2 mm, give a possible equation for the sound wave produc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905120" y="49528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 = .2 sin (880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x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275 – 276 3 – 10, 17 – 24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29:56Z</dcterms:created>
  <dc:creator>teacher</dc:creator>
  <dc:description/>
  <dc:language>en-US</dc:language>
  <cp:lastModifiedBy>Laura Helbing</cp:lastModifiedBy>
  <dcterms:modified xsi:type="dcterms:W3CDTF">2011-11-30T16:28:36Z</dcterms:modified>
  <cp:revision>4</cp:revision>
  <dc:subject/>
  <dc:title>Scale-Change Images of Circular Functions</dc:title>
</cp:coreProperties>
</file>