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C731-7E91-41C1-9FB7-6B540F3E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CCA-FF31-4628-AA6D-D989191D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EA6E36-092B-4581-8D36-EB9D8FB6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535D4A-E42C-4E22-BDF0-A46F4931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6F959-CF01-40BE-A3DD-A319BAAA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4FCAA5-BED7-40AD-8AD5-9BBFA44A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EDED0A-2F34-4D9F-B0AA-FEBD0E44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52911-5827-42F3-985C-3F11E354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7E0F1D-5C1A-48C8-BC65-D8782212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EE531D-C36B-4D7E-A89F-0CD2959B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9F2E02-9E44-40FA-804E-E8C9900C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018D-825B-495D-AA36-A8DC8630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898-E5C1-474A-8570-EB57ECA4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1B121-379D-4654-8C5E-6730FFC9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1EBA5-27EC-430F-9600-8E98EC65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468A4-DED1-439F-AC53-3EAD9CAA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5C7D1-8E79-4091-B3C6-E9CE4C32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452D4-C980-4101-9BE5-8B6F78F8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F90AE-938C-406D-82D2-CC58A25A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EECA8-8A2F-4757-86E2-C9F1AD06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257-9A9B-4EC4-AB76-D731B3B9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ED504-B4B3-48D4-92D5-296A129C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94486-D682-4E7B-8FEC-52370062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2CFDD-6C85-429F-B5D4-87734AA6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39E1C-10E1-4015-BAD2-FD76180C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1EC1C-06C5-4C6F-95BD-12BED530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7C03-18DF-4E1D-813D-0883D77A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15B5-873A-4DE0-95A1-4B9005F0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69C7-2BF1-4CE8-8059-3362B792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CB6B4-B49E-44C9-B3DA-2C0BDDFB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37DD-968D-431E-9477-375A2E20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56C-9963-46A9-83C7-79604013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DACB3-979A-4699-9C2E-B5C0E085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6C64-7D49-4F68-892A-A4EA53CE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6A451-7DE8-4314-BCF2-4A7BCB8E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2EA7-C59D-454E-BB68-80679546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95D40-0F15-4568-ADE8-C07714DC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AFD91-F114-4D64-ADF4-73BE8AB1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D6A18-651A-4CBB-954F-76C3CA2A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A0794C-8ACD-4431-9F31-13B4E637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2CAF25-A0B5-4182-A535-86F1071A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1A5B2-03C0-4301-B108-87587A95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8AA-7C9D-45BC-8FFF-3705317F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3231E-2554-4450-A293-D7382741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7156E-FFE3-4E0A-B467-B993A3F8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269DB-A54F-444E-BD91-F173F13F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D6CB4-33F4-480E-BCB7-64864F5A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65230-AD80-4FB2-8326-C632BEC1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18388-F779-4ABB-99E2-5608C110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FF838-61A3-4098-9841-28767037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11F13B-C21E-4217-B10C-A0DA04DA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18BC9-3334-4DC4-96C5-73B5348F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3582D-2D66-439B-98D5-9F6245C0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BFD-BDD3-4ED3-915F-4AFCE2E6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4FA8F-1396-4C6D-AD03-4835EF4A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19A6-615C-41C5-B2B6-7C40307F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DBB7C-E587-4BD7-85F9-465FBD59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B0577-AC8F-4E8E-A50B-62338720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EDD04-C319-4802-9C20-FD3F4120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60C07-12D3-4EE7-833E-DA98E502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103A1-6250-4E66-B81C-8C8D2C7C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4B921-1E32-44CC-AD5B-D8463670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3DA86-6F6B-4D2D-9FAE-9C2C8B86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5B2A-7938-4549-B2A8-ACF1B695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2D9-7697-47A2-9890-18AF5059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3B25F-60AA-4403-AFE2-80DD685B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4FD98-8D7C-44D4-9364-F918CC9D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4B634-EE1A-451E-9EB6-32BE5F12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9B156-28A0-42E1-86EC-2462CC62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4DD93-EDAB-4A60-A0C4-EF06FAF6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9D4A4-B402-494E-B81C-BBA31EF7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1CA1-7F0C-4103-855D-4B179EB3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AF111-110B-4BE3-9D13-D99CD6A6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51A8-10DF-41B9-BE18-CD5058E0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15BA6-96FD-4D65-9096-31BF2E7B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816-683B-414B-B0CB-0AFB0AC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E0969-5ACE-454E-9194-5EE296CD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039D7-9DB6-485B-B3F0-F3B0361E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495E4-02E4-49AF-9BA4-195B151E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DA361-C0B9-4C92-85E6-61F22FBA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23615-29B0-4114-8EAD-6F18A407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40837-D74E-44C0-9617-7AE4AA1F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667B7-1CD8-4683-AF66-30E6975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AB7B8-8867-4631-B3D3-3DCB988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536D-D16B-46D0-B6E1-24D87736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CB1A0-0502-4DAE-8ED0-F46F0E5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9F5-8B95-44D7-98AB-B7821080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58671-2887-4AAF-8B50-5DB321C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8B3E2-44C1-4CC7-9CB1-8566BE58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B11C2-3F87-4BD0-9BAC-189B0BD0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C5667-F538-4049-8478-0712CB88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51C8C-360A-4261-9869-49C99101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26C7C7-91AA-4FB4-AED7-A04A2066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64267B-B071-4EB6-B0C1-5B9BD7D5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BE3F3A-C422-4C50-A5B6-E115CE4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C484F-9AAC-4C86-9A28-9EAD8A18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EEA7A1-BB43-4320-9D05-79223CF2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D1C-FA4F-48AD-861C-C9613C02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26AA35-FF26-43D7-979C-4B9C4EB2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BD17E-375F-46DE-8BB8-F954C19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69E0A-9C6E-4DD7-82D8-B7F217EC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08BC50-EC3A-471B-AC75-9AC9B5E3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BEBFEC-D8E7-49F2-9FD2-34DF3B26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1DB8FC-3505-4F81-8C36-1C03EB41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76E760-7D75-49C2-8F46-03F67F0E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73A37-A33C-46C6-89F9-41ACDA7B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B40C9D-92FA-468A-9FD9-A7ECB913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11CFD1-B5F0-46B3-8ADF-92ED0F33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ED92-181D-489D-880B-1409E0738359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45DE-7D49-45C9-A160-72A39DC78361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DDD8-F9E7-4591-AC67-132C61D593D7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EC67-76E9-4D3C-BABB-5E3A2D4D5A3B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5B9E-AD2E-4DEA-9DF9-D218FC03B783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F35F-FD2D-4B05-8F6A-CF8FCC38DB30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A73F-0781-4B5D-9ED1-9C483B2852F6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31CA-986E-4004-AD7F-A1799D9E8386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4B0B-9CB5-433E-BD55-1ACBD60F118E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tion 4.6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e graph of the cosine function is a translation image of the graph of the sine function.  Give an equation for the translation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T(x,y) </a:t>
            </a:r>
            <a:r>
              <a:rPr b="0" lang="en-US" sz="32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 (x –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y)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o, y = sin x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y = sin (x +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)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Y – coordinate of the image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ositive from 0 to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Negative from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to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eriod of the function: how long it takes until the function begins to repeat the pattern.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4534200" y="213372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-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 π</a:t>
            </a: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 to 2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4997520" y="27432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Rockwell"/>
              </a:rPr>
              <a:t>0 to -</a:t>
            </a:r>
            <a:r>
              <a:rPr b="1" lang="el-GR" sz="3200" spc="-1" strike="noStrike">
                <a:solidFill>
                  <a:srgbClr val="ffccff"/>
                </a:solidFill>
                <a:latin typeface="Cambria"/>
              </a:rPr>
              <a:t> 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458200" cy="3695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 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534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8610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44600" y="24912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rcRect l="29377" t="39004" r="16252" b="23003"/>
          <a:stretch/>
        </p:blipFill>
        <p:spPr>
          <a:xfrm>
            <a:off x="0" y="1828800"/>
            <a:ext cx="9072720" cy="3962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rcRect l="57501" t="21000" r="18124" b="62002"/>
          <a:stretch/>
        </p:blipFill>
        <p:spPr>
          <a:xfrm>
            <a:off x="0" y="1828800"/>
            <a:ext cx="9090000" cy="39625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3809880" y="3962520"/>
            <a:ext cx="228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e500e5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/2 * k for 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all odd integers k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 equations for the four asymptotes of the tangent function closest to the y – axis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n tan 50˚ ≈ 1.192, find three other values of x with tan x ≈ 1.19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ince tan repeats every 18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2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41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-1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Page 269 – 270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1 – 16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Skip 3 and 7b.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2:01:42Z</dcterms:created>
  <dc:creator>teacher</dc:creator>
  <dc:description/>
  <dc:language>en-US</dc:language>
  <cp:lastModifiedBy>Laura Helbing</cp:lastModifiedBy>
  <dcterms:modified xsi:type="dcterms:W3CDTF">2012-11-19T15:00:22Z</dcterms:modified>
  <cp:revision>4</cp:revision>
  <dc:subject/>
  <dc:title>Sine, Cosine, and Tangent Functions</dc:title>
</cp:coreProperties>
</file>