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8.png" ContentType="image/png"/>
  <Override PartName="/ppt/media/image13.png" ContentType="image/png"/>
  <Override PartName="/ppt/media/image10.png" ContentType="image/png"/>
  <Override PartName="/ppt/media/image6.jpeg" ContentType="image/jpeg"/>
  <Override PartName="/ppt/media/image12.wmf" ContentType="image/x-wmf"/>
  <Override PartName="/ppt/media/image4.png" ContentType="image/png"/>
  <Override PartName="/ppt/media/image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5214-FBF7-4257-B92C-37D8DA1E0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7238-A5AA-4374-965E-CAF956E8C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563B-DF3B-41AA-BB42-898156F99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E48E-D5B2-4C14-A67B-8FE4C21E4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E13A4-B2F8-41DB-AB6C-CCCD93EC8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494C1-AC3E-432A-A676-28126AC6A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72E7A-F45E-46B1-A1D6-5682F6ADD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77FDD-A837-472C-9210-646274E7B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75E2D-F3D7-4108-AE22-83F3F5139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980C0-1858-4C33-9F1D-D65E3055A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08976-B84A-40EE-A873-DC15B5F75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5B1D-C541-4D71-8538-5D0A7219F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9B63C-2CD0-4721-AED4-1E8915BD7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517C6-7700-4427-AF51-FD9130156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4A35C-1161-468D-B88D-9C42C01A7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3C8BC-20F7-458F-93BC-073FD18FE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B4DDA-26AD-477A-8F80-FD43A2BCD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33702F-9EE1-49C8-A02C-B97F3360D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542BDD-8814-47C1-AE5A-BC16EEB09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159311-4DA6-4A9F-9823-03F1CCC69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778D12-065D-4F81-841F-1AC1AD029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9611D6-C6CB-4CD2-8040-E175B9A6D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2F49-DAB3-4FEB-B9A8-880FD20BA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D30EE7-A8FA-4A46-9F94-932F91E38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73BDF0-047E-453A-B48F-B3788A9A0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BD09F5-9840-4FA2-B6B2-4BA382718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A8C2CF-A2F4-42DB-90A4-88A04C8E7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DA5D9C-2218-4516-805B-6BC71D383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C8F4DE-288A-40B0-A556-1F6BB3E02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B2B848-3BEE-4864-80E4-A3FDF0988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A2A2DA-9435-4EE9-8717-A409D8ADC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D2EBAA-2554-4B6F-A218-BEB4AB639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CDF47A-B683-4C8B-A1B2-B66273B77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B81A-7EDC-4BF2-A68F-2AEF735B6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9CCA51-6EF1-4EE0-B850-6CB75DCD4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E078F4-59D9-4C23-834F-1EE651099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CFEEB5-9660-4FB2-9DD4-064B1D030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642002-5794-445A-B462-BF1E611B5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89F5B5-CB41-49A0-9B62-0C0102C4A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A74563-E616-4451-A904-24362CA53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C4235A-A075-4F11-8BC0-FAC923DD7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9CC762-4DD0-49CF-B670-02D438AB9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2EDB72-60AE-4E1C-848B-3A8099823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5A2C33-7C81-4C5A-B0E5-CDA3D88A8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522B-BA9F-47F8-B61F-4C3537404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6F42B6-D23F-4B81-A612-3C5F9F73E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66A2CB-DB5C-4CD2-A9E5-3D175D961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EBFD5D-5B47-4AF2-BDC7-9CB1AF1F6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AFBE55-A53A-4817-9F2F-150317EAD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D9133A-0862-4DFB-90A3-53C5D774E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F8AD36-048F-431B-BD89-38310F8EA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3204D7-17CA-44B0-B4B4-ACDB07DB8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1C0170-DA24-4DC4-9FB2-28F7AD005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EC667F-DD31-470A-A4A3-1844B0152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F428DB-31E6-4073-A7E5-0BB7024C0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3B1D-DD17-4283-A9E9-46FAC171F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D29E79-785E-4728-BF5C-7960E51D0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3AE7CC-9C40-4380-908A-E5E219EE0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871E40-3FEE-44A1-84CB-F49F55804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6C2A1F-49D3-4445-B719-1013979F8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B3E282-CFDA-4F56-9A37-7B7655EE8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DAB721-5F3E-4501-9A2D-4125E626B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54C4DE-43B0-49EC-A812-7333B37ED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B44DB3-BA32-4663-BE78-4E7A59870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1AC822-663E-4B8A-8996-482FE03F6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91DE13-0920-4915-819C-8AF1BCAD1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94E9-12A5-487B-AEF5-A12674F19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B14A2A-29C1-4FAC-887B-E377A7AE6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D32446-A1A1-4A71-97E5-E04F99F42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DD0FDB-3569-4876-9445-A57FC651C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4C3982-8309-4847-8193-CDC751844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C3C075-1650-4A91-A192-3738937C4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B52997-EC03-41A9-8BFB-7865CC50F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567C9F-0F2B-48FB-9344-2E808C815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B44611-034C-4138-A65C-3B3DEBA49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777135-313F-40A9-B097-87A89502C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A684B8-C367-4A6F-A483-986CFE4B6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1D59-D087-40F9-A4CB-CFC941666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78CA43-BF99-4FDE-AD55-668D9BB08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94C4D9-A7E4-40DA-BDCB-CC4C685F2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26C66D-35ED-48DA-AF87-D9CE3CB4E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8F4CA9-D913-4B37-A680-F75B7BA9D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BB240F-FBD6-4921-ADDE-531DF7DBF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41841D-C2CB-4DF0-B1C4-26FC334AA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544672-8091-4A01-B0FA-9ABA946A0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186AA9-DFDC-46E5-943C-8E3DC91F1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290449-5D8F-4213-850C-5989F1C02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6E9D08-3400-4523-808E-E20E88C55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7014-9578-40C5-8979-31732CA05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419866-4879-4582-AE1B-4DAA567DE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8470F7-411B-4995-BCB7-50D10F6F6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6359EF-09B7-4C09-96B7-B3FFD0926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AD9824-4602-406D-A664-73D2D493F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F38107-C0DA-4B63-B2D5-BF17153DB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99C444-98FB-47A9-8049-24288C691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382660-5BDB-40E8-ADF5-B882450B1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1474E-1AA3-48AB-82E3-25BABFC9C83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72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4280" y="5236560"/>
              <a:ext cx="9093600" cy="78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9E76F-A0D7-4EC1-9104-6D080053F2C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E3872-EC19-4405-9244-26006650E8F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F7C1D-851E-43D5-BC47-70D1DBD8151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72B36-E083-43FB-9E7D-2A619012B7D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D4EE9-C2A4-40C5-81E8-CE9FE849462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274D8-E42F-4FFC-B5CA-73DCF5A70D8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E76FB-2F6F-468F-A44F-913AE8EF824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le 1" descr=""/>
          <p:cNvPicPr/>
          <p:nvPr/>
        </p:nvPicPr>
        <p:blipFill>
          <a:blip r:embed="rId1"/>
          <a:stretch/>
        </p:blipFill>
        <p:spPr>
          <a:xfrm>
            <a:off x="682560" y="1384200"/>
            <a:ext cx="8199360" cy="221292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Lesson 4.4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456840" y="188280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n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2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x + cos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2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x = 1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pposites Theorem, for all 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θ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,(flip over x-axis)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s (-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 θ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) =  cos (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θ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n (-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 θ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) = - sin (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θ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an (-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 θ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) = - tan(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θ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3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3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r all 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θ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, measured in radians,   flip over y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n (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π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- 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θ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) = sin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 θ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s(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π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- 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θ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) = -cos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 θ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an(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π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- 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θ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) = -tan 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θ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mplements Theorem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n (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π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/2 - 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θ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) = cos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 θ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s(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π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/2 -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 θ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) = sin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 θ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5" name="Title 1" descr=""/>
          <p:cNvPicPr/>
          <p:nvPr/>
        </p:nvPicPr>
        <p:blipFill>
          <a:blip r:embed="rId1"/>
          <a:stretch/>
        </p:blipFill>
        <p:spPr>
          <a:xfrm>
            <a:off x="225360" y="262080"/>
            <a:ext cx="8467920" cy="14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500"/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3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r all 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θ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, measured in radian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s (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π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+ 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θ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) = -cos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 θ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n(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π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+ 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θ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) = -sin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 θ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an(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π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+ 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θ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) = tan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 θ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7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f sin 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θ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= 1/3  , find cos 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θ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n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2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x + cos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2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x = 1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(1/3)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+cos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x = 1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s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x = 8/9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9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80" name="Object 4"/>
          <p:cNvGraphicFramePr/>
          <p:nvPr/>
        </p:nvGraphicFramePr>
        <p:xfrm>
          <a:off x="990720" y="5105520"/>
          <a:ext cx="4757760" cy="1125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81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5105520"/>
                    <a:ext cx="4757760" cy="112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" dur="2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f sin x = .681, find sin(-x) and sin (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π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– x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n (-x) = -sin(x) = -.681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n (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π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– x) = sin x = .681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3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sing the unit circle, explain why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n (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π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– 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θ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) = sin 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θ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for all 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θ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386" name="Line 10"/>
          <p:cNvSpPr/>
          <p:nvPr/>
        </p:nvSpPr>
        <p:spPr>
          <a:xfrm>
            <a:off x="4495680" y="2971800"/>
            <a:ext cx="0" cy="3657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11"/>
          <p:cNvSpPr/>
          <p:nvPr/>
        </p:nvSpPr>
        <p:spPr>
          <a:xfrm>
            <a:off x="2590920" y="4876920"/>
            <a:ext cx="38098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Oval 12"/>
          <p:cNvSpPr/>
          <p:nvPr/>
        </p:nvSpPr>
        <p:spPr>
          <a:xfrm>
            <a:off x="3505320" y="3962520"/>
            <a:ext cx="190476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9" name="Straight Arrow Connector 7"/>
          <p:cNvCxnSpPr/>
          <p:nvPr/>
        </p:nvCxnSpPr>
        <p:spPr>
          <a:xfrm flipH="1" flipV="1">
            <a:off x="2894760" y="4037760"/>
            <a:ext cx="1600920" cy="839160"/>
          </a:xfrm>
          <a:prstGeom prst="straightConnector1">
            <a:avLst/>
          </a:prstGeom>
          <a:ln w="5724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390" name="Straight Arrow Connector 9"/>
          <p:cNvCxnSpPr/>
          <p:nvPr/>
        </p:nvCxnSpPr>
        <p:spPr>
          <a:xfrm flipV="1">
            <a:off x="4495320" y="4037760"/>
            <a:ext cx="1677240" cy="839160"/>
          </a:xfrm>
          <a:prstGeom prst="straightConnector1">
            <a:avLst/>
          </a:prstGeom>
          <a:ln w="5724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391" name="Straight Arrow Connector 12"/>
          <p:cNvCxnSpPr/>
          <p:nvPr/>
        </p:nvCxnSpPr>
        <p:spPr>
          <a:xfrm flipH="1">
            <a:off x="2666520" y="4876920"/>
            <a:ext cx="1829520" cy="305280"/>
          </a:xfrm>
          <a:prstGeom prst="straightConnector1">
            <a:avLst/>
          </a:prstGeom>
          <a:ln w="57240">
            <a:solidFill>
              <a:srgbClr val="92d050"/>
            </a:solidFill>
            <a:miter/>
            <a:tailEnd len="med" type="arrow" w="med"/>
          </a:ln>
        </p:spPr>
      </p:cxnSp>
      <p:sp>
        <p:nvSpPr>
          <p:cNvPr id="392" name="TextBox 16"/>
          <p:cNvSpPr/>
          <p:nvPr/>
        </p:nvSpPr>
        <p:spPr>
          <a:xfrm>
            <a:off x="2214360" y="3809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Box 17"/>
          <p:cNvSpPr/>
          <p:nvPr/>
        </p:nvSpPr>
        <p:spPr>
          <a:xfrm>
            <a:off x="6175800" y="3809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Box 18"/>
          <p:cNvSpPr/>
          <p:nvPr/>
        </p:nvSpPr>
        <p:spPr>
          <a:xfrm>
            <a:off x="2062080" y="510552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Box 19"/>
          <p:cNvSpPr/>
          <p:nvPr/>
        </p:nvSpPr>
        <p:spPr>
          <a:xfrm>
            <a:off x="6252120" y="510552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6" name="Straight Arrow Connector 20"/>
          <p:cNvCxnSpPr/>
          <p:nvPr/>
        </p:nvCxnSpPr>
        <p:spPr>
          <a:xfrm>
            <a:off x="4495320" y="4876920"/>
            <a:ext cx="1677240" cy="305280"/>
          </a:xfrm>
          <a:prstGeom prst="straightConnector1">
            <a:avLst/>
          </a:prstGeom>
          <a:ln w="57240">
            <a:solidFill>
              <a:srgbClr val="92d05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Lucida Sans Unicode"/>
              </a:rPr>
              <a:t>Pages 255 – 256</a:t>
            </a:r>
            <a:endParaRPr b="0" lang="en-US" sz="7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Lucida Sans Unicode"/>
              </a:rPr>
              <a:t>2 – 20 </a:t>
            </a:r>
            <a:endParaRPr b="0" lang="en-US" sz="7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Lucida Sans Unicode"/>
              </a:rPr>
              <a:t>(omit 3, 8, 11, 16)</a:t>
            </a:r>
            <a:endParaRPr b="0" lang="en-US" sz="7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8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02:16:07Z</dcterms:created>
  <dc:creator>teacher</dc:creator>
  <dc:description/>
  <dc:language>en-US</dc:language>
  <cp:lastModifiedBy>teacher</cp:lastModifiedBy>
  <dcterms:modified xsi:type="dcterms:W3CDTF">2010-11-11T20:03:33Z</dcterms:modified>
  <cp:revision>3</cp:revision>
  <dc:subject/>
  <dc:title>Basic Identities Involving Sines, Cosines, and Tangents</dc:title>
</cp:coreProperties>
</file>