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C7E-36ED-4F23-A605-995525BE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504-D0AB-443F-879C-EF8BD2EA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FD0-B6E0-4D00-87EB-980F109F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451-76E0-4ACC-81BB-07689386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D0F1-A7BC-4C84-82D1-29FA2F5A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4B96-20FB-4C62-96FE-71575BCE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E494-A6F3-4359-8097-3B21699D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35DA-DF3B-4E56-AF64-9F9E11FA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5A86-29A7-4CCA-A5AD-11D57D62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14F0-15E7-4912-849D-B712F469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811-BACC-4630-A862-0CC4305A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B0C-B89A-419E-B441-A8C461DF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8794-9DD4-43AC-B7C3-E1D87136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D292-D165-46B0-8C36-300498F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2D2D-808A-4B33-A8CB-09E17637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D73E-07FB-4AB7-A303-3C878911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3A33-924E-40E6-AD2D-F42B388C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DAAD-3DAB-4531-AA01-3A705C1C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6C17C-142A-4E7B-8280-C12DEE86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F3CB5-2AEB-4ABF-B2F0-64D8342C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26B7-9F81-4521-82A9-2870F65C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A65C-B7D5-4BE8-BFC5-27A6F87F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DA3-D13A-4BC7-A900-AC7C9D31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A8D9D-6376-4168-B6FF-CA7BD8C3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B96B-E513-47D5-8828-D27668C5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D44E-8B27-4D71-99F4-6EC02951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1464-65DA-47EE-9B58-DC9FD248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37D5-76EE-4FEF-915B-7B89ECBD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E6E8-0136-492C-B4F2-FB97CC03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B52A-2F38-439F-BF00-A869EB54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EABD-F299-4A3B-9DF5-CD99A01A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4A108-6AC5-496C-8620-2FB99BF4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B68F-2D02-4206-97B8-D1E9E1EA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30A-8446-467A-AC7C-53165905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A5FF9-8825-49A5-AB62-95FDE51C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3B3ED-719C-4E70-9CD3-7DE2F6CB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8E09-8FFE-48BD-B8C2-DD600748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AEE5-16B1-4B86-9764-1F38E29F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5D95-DBB5-4059-BA21-8DD312B5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AE77-22F6-4ACB-AC39-4170E3E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DCD4-6348-429C-9733-8A28A3AC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0CF0-9EF6-4BC6-A690-F79BF4EE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9F71F-E890-46A0-BBA7-8C5F6B0C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7330D-D997-412B-9F57-95C9E31C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00F-08AF-4263-B1C5-F2793C57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4454D-BE9B-4B08-A801-F8BE56F8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D1E12-7702-4C9C-A9A8-952F4232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3DCC7-E10E-451A-9B61-B7156058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578D5-BD80-4482-9B42-ADCAA830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2400-B51A-467D-BAC9-5CB7F017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6C98B-F22A-4326-BA57-7E60E266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AD901-B560-4EAC-84E8-A5496D1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6C233-9B59-4ABA-9F1C-4347C2A6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6343C-083B-4006-848A-46271013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B86FE-9529-433B-8D1A-6B6B2CEF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6D0-C448-47B8-9AC3-B2F05127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B451-1F18-4479-BC1C-07F7EFF6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DD7D6-AC23-45E6-BF7F-BD1C8594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B591C-CA39-476B-99B7-D4114353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CD1A-B7E8-4F76-B58A-E75BB704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C6E7E-7DD5-45B5-B915-1DF9AE8C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A5838-EB25-4BC6-BE46-0B0D1381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002A-AC5C-4FD4-9ACC-E3D2C44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93ACD-E513-4EF6-A149-DEB96AB7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8CCBB-6E11-4CBC-ABE2-50F3204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7BE24-F957-4606-BC71-A763BC87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404-E63C-4D1C-A94D-A98B4C2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E17D-6873-4796-B184-1D50A3C2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A714-360B-44FB-BC14-B870D92F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AB445-DBCD-4D9B-B411-BEDE26FF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5E073-4E50-40E6-8666-BB7D0397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FD11-8337-4F38-A456-62B29803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96202-60BD-49E9-A4EF-8C7C6659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B2996-25C8-46D6-846B-EFB117D9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FB184-C876-4BC5-BC5B-BE1B2145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72CAC-E8F5-4096-A287-136195F2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B8FA5-6043-4777-B43B-38FADD67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FBE-D389-4AA3-A4F5-D31E4C13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22C43-8A56-445A-9348-0E83F09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86262-D8D0-46A3-AE78-9F3F321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0F535-5B79-41DA-9CC1-A5144AB1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550A-9567-4C4F-95FC-9680D9D6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63A5-04BC-4228-8C62-E4471916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C0103-ED8A-44CC-B406-D0C6319F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65D91-3DC1-46D3-86E7-1218B979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00E28-9C7A-46E7-9DC7-84111B61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FD24E-12B1-476B-BE8F-979CD9CE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84DDA-D44D-4AC7-8B6F-2AFDFFC5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167-EDC7-42BF-A082-E77B763F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FCA67-0257-4556-BDD7-28E17D4C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E5E0F-A992-4CD2-BFA0-0C0A5FE6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7EE90-C0E5-4969-A618-FF4B4DE3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EAAF8-1712-4784-A0F4-A8D380B4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60FD6-2B2C-4F84-AA8A-36005325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82FF4-8FFB-47FF-AB95-E8280E90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D558B-4776-4D39-A37A-36EDA1E9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D8FF-11B1-4E91-905C-A85EA0F64B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D132-5BCF-453A-BB70-C9BF59B651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C2C5-DEC5-4FCA-9F15-F663E0AB1A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FBDA-7090-4D22-B8F1-BF16F067C8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5B96-5896-4895-8D9D-0A9F327362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31A7-D71C-4D64-B485-1995C9329C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EBD6-E7F0-4D3F-BF45-E7F72E9571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68D4-7CAD-4176-9B2C-C8AB7183CF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19936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4.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882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posites Theorem,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(flip over x-axi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 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,   flip over 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ta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ments Theor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8467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ta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1/3  , find cos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/3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8/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Object 4"/>
          <p:cNvGraphicFramePr/>
          <p:nvPr/>
        </p:nvGraphicFramePr>
        <p:xfrm>
          <a:off x="990720" y="5105520"/>
          <a:ext cx="4757760" cy="11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5105520"/>
                    <a:ext cx="4757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x = .681, find sin(-x) and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x) = -sin(x) = -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 = sin x = 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ing the unit circle, explain wh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Line 10"/>
          <p:cNvSpPr/>
          <p:nvPr/>
        </p:nvSpPr>
        <p:spPr>
          <a:xfrm>
            <a:off x="4495680" y="29718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>
            <a:off x="2590920" y="48769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2"/>
          <p:cNvSpPr/>
          <p:nvPr/>
        </p:nvSpPr>
        <p:spPr>
          <a:xfrm>
            <a:off x="3505320" y="3962520"/>
            <a:ext cx="190476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7"/>
          <p:cNvCxnSpPr/>
          <p:nvPr/>
        </p:nvCxnSpPr>
        <p:spPr>
          <a:xfrm flipH="1" flipV="1">
            <a:off x="2894760" y="4037760"/>
            <a:ext cx="160092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0" name="Straight Arrow Connector 9"/>
          <p:cNvCxnSpPr/>
          <p:nvPr/>
        </p:nvCxnSpPr>
        <p:spPr>
          <a:xfrm flipV="1">
            <a:off x="4495320" y="4037760"/>
            <a:ext cx="167724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 flipH="1">
            <a:off x="2666520" y="4876920"/>
            <a:ext cx="182952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392" name="TextBox 16"/>
          <p:cNvSpPr/>
          <p:nvPr/>
        </p:nvSpPr>
        <p:spPr>
          <a:xfrm>
            <a:off x="2214360" y="3809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6175800" y="38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8"/>
          <p:cNvSpPr/>
          <p:nvPr/>
        </p:nvSpPr>
        <p:spPr>
          <a:xfrm>
            <a:off x="2062080" y="5105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9"/>
          <p:cNvSpPr/>
          <p:nvPr/>
        </p:nvSpPr>
        <p:spPr>
          <a:xfrm>
            <a:off x="6252120" y="5105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Straight Arrow Connector 20"/>
          <p:cNvCxnSpPr/>
          <p:nvPr/>
        </p:nvCxnSpPr>
        <p:spPr>
          <a:xfrm>
            <a:off x="4495320" y="4876920"/>
            <a:ext cx="167724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Pages 255 – 256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2 – 20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(omit 3, 8, 11, 16)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2:16:07Z</dcterms:created>
  <dc:creator>teacher</dc:creator>
  <dc:description/>
  <dc:language>en-US</dc:language>
  <cp:lastModifiedBy>teacher</cp:lastModifiedBy>
  <dcterms:modified xsi:type="dcterms:W3CDTF">2010-11-11T20:03:33Z</dcterms:modified>
  <cp:revision>3</cp:revision>
  <dc:subject/>
  <dc:title>Basic Identities Involving Sines, Cosines, and Tangents</dc:title>
</cp:coreProperties>
</file>