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4482-FC53-4E56-B77B-F660973BD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5E69-102D-4A18-81DF-30D601D24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9AB4AA-150F-4ED2-A2E9-C9624A372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781377-0653-400D-99E5-A3E012CA0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D4FA7B-AF0C-4BA7-85F4-15DE58E7A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FCCA9E-03A6-4352-8354-46DBC4DC5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F7DFB1-758D-4B8C-A506-7C73F243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B3E16A-8CB9-4F00-8465-859C8C5B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71664B-E2C7-43F1-8102-6A0B2DFC5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BA75EF-1822-402A-AF53-DE72DC31F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1BEEA2-C95A-4D79-949F-FA4CDB6C8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F21339-D13F-4FC4-B2D4-15195C842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3536-2F81-4E8F-B04E-688C53999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5AE064-0731-4B50-AA7A-4E787FEC5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CAD1CE-FE20-47FC-9B6D-1D7AD7003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7C66C9-6ADA-4BE8-B543-048F8676C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D0604D-FB5F-4EA0-9731-6D13FEA7F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95130D-2386-4546-B0A6-EB30D389B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5791B8-4463-4F65-8C4C-EB67440EC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9DADFC-F0D9-4E60-81A3-2068244C7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CF1E08-9590-46DB-9799-8A2358D5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F6AAEE-5447-4644-968C-1C5E97406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609DB3-6D98-495D-9517-482D22726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72E7-86EF-4715-A852-44CA9A4AA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EDD164-C1F7-4E3D-BD58-31ACDE2ED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D9F066-FAD5-485C-A6F4-23924374C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4EF759-1489-4A3B-9CF4-971124763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4DBE70-2EB9-4B20-BB5B-250ED3847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15BFAB-4940-4CC1-B35F-B859FBC62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AAD97D-BC40-41C8-8C0D-4CC54445B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B83AEE-DF79-49E2-B9C0-F61C60614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5A6160-8FA2-4141-8823-762EB3D7F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FF0224-2073-42D8-AF3A-879204903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C50208-9D82-4353-8669-D17F4B48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98855-7220-4411-81D0-6B34D94EA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4F79BE-A4F5-4D83-A38C-F24241E38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9D2354-7228-428E-850A-3F803E018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874B34-FA3E-49B9-84A2-44370540E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2CA266-4BBC-4F43-B331-56743FA00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ACC461-800D-4D1F-B816-1521660A4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27E122-29CC-4313-8DFC-56C56DAC9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66C06E-7633-47AC-8CFE-2730DC803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7FD643-3551-4A42-84B8-BFC4499AC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6B9C30-ED6C-4350-B4D7-D630742FD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0027B6-2CCA-4A05-AB0A-476DFED8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3F6DE-3B41-4601-AA08-C75E831A8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85F653-9647-4AA8-A74D-122684DCF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A87D7B-01DB-4325-85E9-FFBCC3AB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618049-D030-42C8-95CB-619789EA9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D913C8-5EF0-4966-8F07-D82F14F26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E854A4-5767-499E-89B0-7C061FD0D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F897C-26CA-47CA-AC54-364DA1535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568A0-475E-4A22-888D-897195160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F8FF7-5657-4F64-9F0F-0D30F4307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AC5EC-0E2D-4121-AC5C-03303F5C2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CE0B3-9759-4F23-BEE3-00E87056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9B74-7870-4259-BCAA-644752ABD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32A43-EE88-4BF9-9729-047D3C5AC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053CA-872F-4EF3-B406-C1F72B605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A36D0-5083-4BDE-8288-2E33BD01B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0244A-7FCC-4C9D-8303-EC67BAAE2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D1DC5-B12D-4D73-B8E0-C15749904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E9347-4B27-4CCE-BA13-F606429F7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8786A-9A3F-4C5D-9757-9B25D119F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4B076-CC0B-4291-8F19-274F9EC98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C1291-8328-4D93-A505-DD7163ECF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EAFFE-B6D0-49C0-937D-C2BA46297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FB55-ADFC-4049-ADA2-DD04C9B58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57BA1-B157-4214-BFB3-4996252CC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75527-27EE-4B2D-B57B-687641829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7081D-E1C9-4079-821B-12448FB7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6CC24-CEA0-4A1E-AC37-9E758951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EF9AE-E0A3-4BD4-92C8-0B498EC9E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40E2A-AFE5-44D7-AE67-A0D31728F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756CF-6210-4407-A006-79657428E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A4E75-0FB3-42EE-A978-7EDC3EEC9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328B0-139E-47F1-9774-09B310F90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35255-58A8-46E0-9F97-100BC4D0F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12D3-8682-4919-AA9A-FDF257FB2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4167A-018A-49E2-B535-DF2A03708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C7E1C-0E75-4573-9AE4-A83B4FBA8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62039-2904-47CF-B8AA-6D1D4D57B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34125-3014-4638-815C-4FF899612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F3CE9-91B9-42F8-A23D-AD0F58C57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F22D9-5B88-47BB-8895-25E7B945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7C115-C6BD-4E7F-A61C-E97B402A3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4101D-D6BD-4E3A-9EAA-D9AC9B96F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25901-92C5-4449-AE91-6421A9452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F24723-B3B9-4DAA-A150-BE1CE0C38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52A7-35C7-4696-B386-C54E8FEA4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45198D-A07A-4ED5-9CEC-9DB9D8339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4D2270-A2B2-44A5-BA0C-D18B9020F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20C61-40D3-4CAB-954B-57240A35A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6BBE0-DAA9-4EFD-90BE-7ABCC993D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A56E4-20D0-40C9-9831-D13672E10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EA185E-4FD6-49E3-A271-120576B8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CEDC3F-6F18-4F93-9BF2-90E807A9F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2EA51-FED7-440F-8703-1274AD403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F70CCA-101A-4889-9F26-4E72C2555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7708F3-B8F3-464B-9262-3D2BF7F26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C362-A3AD-47AE-91A2-13C8C3E66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626353-1FDC-4B71-9934-956221BB4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293230-8C02-4026-AC90-9246D2919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B2AAF7-3819-4A2A-B90F-F99CAF3C8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E261EB-8E49-4A46-A219-F2F73AC06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2C9DB9-8D69-4A79-943D-A1880C252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84EFEB-3043-4A6E-9FE1-25737AB1B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4E4D1E-A5C2-472A-8DF7-962D50B04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BCC634-BB71-4DF0-A15D-6901FA59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941315-E851-4570-899F-4EF682C4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0B7335-D166-45FE-8625-78FA36A44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7839-7204-4AEC-9D1F-C00C22469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F1376E-61AA-4E9B-8356-E83AB1585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90880B-EEB1-46B6-A66E-8F8CCB0E8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EF6264-D6F0-4C12-8B30-3074D5F0F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BA44A9-A495-4721-8D4F-BEE7ABB2B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5D6FFE-6BA0-4984-83A0-0F0BA67A3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4A5BBE-F2EB-4E9F-B49F-BD1955B16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A002FE-812C-41B0-A08F-F3CEF6147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E91330-03D1-4BFD-A942-52D03B699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F37643-C175-4942-91AE-E58DF08E4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1DBA7A-1AFD-4AC2-9B65-B696F3D9A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16E8-502B-4FF7-AA9C-E8AD9F5E3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49E8E8-B63F-4BD1-955C-81D663265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31167A-9F15-4489-8279-804895428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62C365-37CD-45C8-95F5-D8F8C9BFF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78635F-507C-4C48-A6EC-E8F479232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CA375C-5D32-485A-A6D8-2C6412B83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B3BD86-8DD0-473B-9A38-FBAE54017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1440B1-A20E-46C7-9264-3DE57FA22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2201E3-B36B-449D-91DA-55A77D215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DD7BC1-1781-4311-A213-68DF7A9F6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5155FA-4737-4175-955D-2D6568B3A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374C-BD22-4A2A-9B7A-C6B9E4E6E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01B8B3-DFE3-4A2D-B031-D35221A7C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D2177E-275D-404F-9916-5BACE133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DB11EC-9384-47CC-B0EA-C50CA1D2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F26424-D57B-4504-B856-C83C4D98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56D816-ADC7-4381-8BFA-89323011C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2ED9C8-9E8D-408F-87A3-E16A1C318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0308BA-A6F3-4C3F-B4C4-273A48D06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DF0688-FB42-45B6-BF3B-C5572530E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A719C1-0886-45A0-A580-CF904C655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7FC319-D2D6-4A6A-9F70-4852E2350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e70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5dff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51e10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51e10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EE1C9-CC91-4C00-B851-753843CE7B55}" type="slidenum">
              <a:rPr b="0" lang="en-US" sz="1600" spc="-1" strike="noStrike">
                <a:solidFill>
                  <a:srgbClr val="51e10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1e10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5dff0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66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e70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51e10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5dff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5dff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1e10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5dff0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66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51e10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F53AD-0A24-47D7-BFA3-5AB5A2BAD984}" type="slidenum">
              <a:rPr b="0" lang="en-US" sz="1600" spc="-1" strike="noStrike">
                <a:solidFill>
                  <a:srgbClr val="51e10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5dff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51e10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1e10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5dff0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66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51e10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907B5-13E8-4EC9-AEDE-46E62395C580}" type="slidenum">
              <a:rPr b="0" lang="en-US" sz="1600" spc="-1" strike="noStrike">
                <a:solidFill>
                  <a:srgbClr val="51e10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5dff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51e10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1e10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5dff0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66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51e10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A0380-E5B2-46E1-9397-E90BE9C39176}" type="slidenum">
              <a:rPr b="0" lang="en-US" sz="1600" spc="-1" strike="noStrike">
                <a:solidFill>
                  <a:srgbClr val="51e10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5dff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51e10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1e10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5dff0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66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51e10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AA96A-2A1A-45CB-AE21-C30855BA73EB}" type="slidenum">
              <a:rPr b="0" lang="en-US" sz="1600" spc="-1" strike="noStrike">
                <a:solidFill>
                  <a:srgbClr val="51e10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5dff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51e10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1e10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5dff0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66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51e10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DABE2-26AA-4AB9-AE9F-99FA67DE5DA6}" type="slidenum">
              <a:rPr b="0" lang="en-US" sz="1600" spc="-1" strike="noStrike">
                <a:solidFill>
                  <a:srgbClr val="51e10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e70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5dff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51e10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1e10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5dff0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66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51e10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23ABE-6A1A-4940-B7E8-7AABC79A6BC0}" type="slidenum">
              <a:rPr b="0" lang="en-US" sz="1600" spc="-1" strike="noStrike">
                <a:solidFill>
                  <a:srgbClr val="51e10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5dff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51e10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cb00c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1e10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5dff0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66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51e10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BD364-2458-473F-9880-8E89C6070635}" type="slidenum">
              <a:rPr b="0" lang="en-US" sz="1600" spc="-1" strike="noStrike">
                <a:solidFill>
                  <a:srgbClr val="51e10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cb00c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5dff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51e10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1e10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5dff0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66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51e10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8B173-8F53-4277-91D3-E5B4AFE30575}" type="slidenum">
              <a:rPr b="0" lang="en-US" sz="1600" spc="-1" strike="noStrike">
                <a:solidFill>
                  <a:srgbClr val="51e10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e70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5dff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51e10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1e10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5dff0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66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51e10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25A58-58EF-44E9-93BB-FA7FD42E87CA}" type="slidenum">
              <a:rPr b="0" lang="en-US" sz="1600" spc="-1" strike="noStrike">
                <a:solidFill>
                  <a:srgbClr val="51e10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e70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5dff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1e10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5dff0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66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8796F-8AC7-4BFF-9973-D52E18D04CB7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e70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5dff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51e10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5dff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1e10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5dff0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66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51e10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60E16-3C4A-406F-88E6-E99531F382D0}" type="slidenum">
              <a:rPr b="0" lang="en-US" sz="1600" spc="-1" strike="noStrike">
                <a:solidFill>
                  <a:srgbClr val="51e10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b00cc"/>
                </a:solidFill>
                <a:latin typeface="Georgia"/>
              </a:rPr>
              <a:t>LESSON 4.3</a:t>
            </a:r>
            <a:endParaRPr b="0" lang="en-US" sz="16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ff"/>
                </a:solidFill>
                <a:latin typeface="Georgia"/>
              </a:rPr>
              <a:t>Sines, Cosines, and Tangents</a:t>
            </a:r>
            <a:endParaRPr b="0" lang="en-US" sz="4200" spc="-1" strike="noStrike">
              <a:solidFill>
                <a:srgbClr val="51e10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(Cos </a:t>
            </a:r>
            <a:r>
              <a:rPr b="0" lang="el-GR" sz="2700" spc="-1" strike="noStrike">
                <a:solidFill>
                  <a:srgbClr val="6b3d8c"/>
                </a:solidFill>
                <a:latin typeface="Georgia"/>
              </a:rPr>
              <a:t>θ</a:t>
            </a: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 , sin </a:t>
            </a:r>
            <a:r>
              <a:rPr b="0" lang="el-GR" sz="2700" spc="-1" strike="noStrike">
                <a:solidFill>
                  <a:srgbClr val="6b3d8c"/>
                </a:solidFill>
                <a:latin typeface="Georgia"/>
              </a:rPr>
              <a:t>θ</a:t>
            </a: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) = R</a:t>
            </a:r>
            <a:r>
              <a:rPr b="0" lang="el-GR" sz="2700" spc="-1" strike="noStrike" baseline="-25000">
                <a:solidFill>
                  <a:srgbClr val="6b3d8c"/>
                </a:solidFill>
                <a:latin typeface="Georgia"/>
              </a:rPr>
              <a:t>θ</a:t>
            </a: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(1,0)     </a:t>
            </a:r>
            <a:r>
              <a:rPr b="0" lang="en-US" sz="2700" spc="-1" strike="noStrike">
                <a:solidFill>
                  <a:srgbClr val="6b3d8c"/>
                </a:solidFill>
                <a:latin typeface="Wingdings"/>
                <a:ea typeface="Wingdings"/>
              </a:rPr>
              <a:t></a:t>
            </a: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 you start at (1,0) and rotate the image </a:t>
            </a:r>
            <a:r>
              <a:rPr b="0" lang="el-GR" sz="2700" spc="-1" strike="noStrike">
                <a:solidFill>
                  <a:srgbClr val="6b3d8c"/>
                </a:solidFill>
                <a:latin typeface="Georgia"/>
              </a:rPr>
              <a:t>θ</a:t>
            </a: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 units.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Tan </a:t>
            </a:r>
            <a:r>
              <a:rPr b="0" lang="el-GR" sz="2700" spc="-1" strike="noStrike">
                <a:solidFill>
                  <a:srgbClr val="6b3d8c"/>
                </a:solidFill>
                <a:latin typeface="Georgia"/>
              </a:rPr>
              <a:t>θ</a:t>
            </a: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 = sin </a:t>
            </a:r>
            <a:r>
              <a:rPr b="0" lang="el-GR" sz="2700" spc="-1" strike="noStrike">
                <a:solidFill>
                  <a:srgbClr val="6b3d8c"/>
                </a:solidFill>
                <a:latin typeface="Georgia"/>
              </a:rPr>
              <a:t>θ</a:t>
            </a: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 / cos </a:t>
            </a:r>
            <a:r>
              <a:rPr b="0" lang="el-GR" sz="2700" spc="-1" strike="noStrike">
                <a:solidFill>
                  <a:srgbClr val="6b3d8c"/>
                </a:solidFill>
                <a:latin typeface="Georgia"/>
              </a:rPr>
              <a:t>θ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1e109"/>
                </a:solidFill>
                <a:latin typeface="Georgia"/>
              </a:rPr>
              <a:t>Example 1</a:t>
            </a: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R</a:t>
            </a:r>
            <a:r>
              <a:rPr b="0" lang="en-US" sz="2700" spc="-1" strike="noStrike" baseline="-25000">
                <a:solidFill>
                  <a:srgbClr val="6b3d8c"/>
                </a:solidFill>
                <a:latin typeface="Georgia"/>
              </a:rPr>
              <a:t>270</a:t>
            </a: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(1,0) maps (1,0) onto (0, -1)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Evaluate cos 270˚ 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Evaluate sin 270˚ 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Evaluate tan 0˚ =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Evaluate tan 270˚ =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12" name="TextBox 3"/>
          <p:cNvSpPr/>
          <p:nvPr/>
        </p:nvSpPr>
        <p:spPr>
          <a:xfrm>
            <a:off x="3587760" y="2438280"/>
            <a:ext cx="97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b3d8c"/>
                </a:solidFill>
                <a:latin typeface="Arial"/>
              </a:rPr>
              <a:t>= 0</a:t>
            </a:r>
            <a:endParaRPr b="0" lang="en-US" sz="44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613" name="TextBox 4"/>
          <p:cNvSpPr/>
          <p:nvPr/>
        </p:nvSpPr>
        <p:spPr>
          <a:xfrm>
            <a:off x="3359520" y="3352680"/>
            <a:ext cx="115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b3d8c"/>
                </a:solidFill>
                <a:latin typeface="Arial"/>
              </a:rPr>
              <a:t>= -1</a:t>
            </a:r>
            <a:endParaRPr b="0" lang="en-US" sz="44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614" name="TextBox 5"/>
          <p:cNvSpPr/>
          <p:nvPr/>
        </p:nvSpPr>
        <p:spPr>
          <a:xfrm>
            <a:off x="2977920" y="4343400"/>
            <a:ext cx="97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b3d8c"/>
                </a:solidFill>
                <a:latin typeface="Arial"/>
              </a:rPr>
              <a:t>= 0</a:t>
            </a:r>
            <a:endParaRPr b="0" lang="en-US" sz="44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615" name="TextBox 6"/>
          <p:cNvSpPr/>
          <p:nvPr/>
        </p:nvSpPr>
        <p:spPr>
          <a:xfrm>
            <a:off x="3749040" y="5334120"/>
            <a:ext cx="285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b3d8c"/>
                </a:solidFill>
                <a:latin typeface="Arial"/>
              </a:rPr>
              <a:t>undefined</a:t>
            </a:r>
            <a:endParaRPr b="0" lang="en-US" sz="4400" spc="-1" strike="noStrike">
              <a:solidFill>
                <a:srgbClr val="6b3d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1e109"/>
                </a:solidFill>
                <a:latin typeface="Georgia"/>
              </a:rPr>
              <a:t>Example 2</a:t>
            </a: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ind, to the nearest thousandth, the coordinates of the image of (1,0) under a rotation of -10</a:t>
            </a:r>
            <a:r>
              <a:rPr b="0" lang="el-GR" sz="2700" spc="-1" strike="noStrike">
                <a:solidFill>
                  <a:srgbClr val="6b3d8c"/>
                </a:solidFill>
                <a:latin typeface="Georgia"/>
              </a:rPr>
              <a:t>π</a:t>
            </a: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 /9.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R</a:t>
            </a:r>
            <a:r>
              <a:rPr b="0" lang="en-US" sz="2700" spc="-1" strike="noStrike" baseline="-25000">
                <a:solidFill>
                  <a:srgbClr val="6b3d8c"/>
                </a:solidFill>
                <a:latin typeface="Georgia"/>
              </a:rPr>
              <a:t>10</a:t>
            </a:r>
            <a:r>
              <a:rPr b="0" lang="el-GR" sz="2700" spc="-1" strike="noStrike" baseline="-25000">
                <a:solidFill>
                  <a:srgbClr val="6b3d8c"/>
                </a:solidFill>
                <a:latin typeface="Georgia"/>
              </a:rPr>
              <a:t>π</a:t>
            </a:r>
            <a:r>
              <a:rPr b="0" lang="en-US" sz="2700" spc="-1" strike="noStrike" baseline="-25000">
                <a:solidFill>
                  <a:srgbClr val="6b3d8c"/>
                </a:solidFill>
                <a:latin typeface="Georgia"/>
              </a:rPr>
              <a:t>/9</a:t>
            </a: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(1,0) = (cos -10π/9, sin -10π/9)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Calculator!</a:t>
            </a: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(-.94, .342)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Footer Placeholder 4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©Carolyn C. Wheater, 2000</a:t>
            </a:r>
            <a:endParaRPr b="0" lang="en-US" sz="12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619" name="Slide Number Placeholder 5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DA52C-8B8E-4543-9A24-FF77B0986086}" type="slidenum">
              <a:rPr b="0" lang="en-US" sz="1600" spc="-1" strike="noStrike">
                <a:solidFill>
                  <a:srgbClr val="51e10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1e109"/>
                </a:solidFill>
                <a:latin typeface="Georgia"/>
              </a:rPr>
              <a:t>All Star Trig Class</a:t>
            </a: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Use the phrase “All Star Trig Class” to remember the signs of the trig functions in different quadrants.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grpSp>
        <p:nvGrpSpPr>
          <p:cNvPr id="622" name="Group 6"/>
          <p:cNvGrpSpPr/>
          <p:nvPr/>
        </p:nvGrpSpPr>
        <p:grpSpPr>
          <a:xfrm>
            <a:off x="2057400" y="3048120"/>
            <a:ext cx="4800600" cy="3429000"/>
            <a:chOff x="2057400" y="3048120"/>
            <a:chExt cx="4800600" cy="3429000"/>
          </a:xfrm>
        </p:grpSpPr>
        <p:sp>
          <p:nvSpPr>
            <p:cNvPr id="623" name="Line 4"/>
            <p:cNvSpPr/>
            <p:nvPr/>
          </p:nvSpPr>
          <p:spPr>
            <a:xfrm>
              <a:off x="4419720" y="3048120"/>
              <a:ext cx="0" cy="3429000"/>
            </a:xfrm>
            <a:prstGeom prst="line">
              <a:avLst/>
            </a:prstGeom>
            <a:ln w="38160">
              <a:solidFill>
                <a:srgbClr val="6b3d8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b3d8c"/>
                </a:solidFill>
                <a:latin typeface="Arial"/>
              </a:endParaRPr>
            </a:p>
          </p:txBody>
        </p:sp>
        <p:sp>
          <p:nvSpPr>
            <p:cNvPr id="624" name="Line 5"/>
            <p:cNvSpPr/>
            <p:nvPr/>
          </p:nvSpPr>
          <p:spPr>
            <a:xfrm>
              <a:off x="2057400" y="4800600"/>
              <a:ext cx="4800600" cy="0"/>
            </a:xfrm>
            <a:prstGeom prst="line">
              <a:avLst/>
            </a:prstGeom>
            <a:ln w="38160">
              <a:solidFill>
                <a:srgbClr val="6b3d8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6b3d8c"/>
                </a:solidFill>
                <a:latin typeface="Arial"/>
              </a:endParaRPr>
            </a:p>
          </p:txBody>
        </p:sp>
      </p:grpSp>
      <p:sp>
        <p:nvSpPr>
          <p:cNvPr id="625" name="Text Box 7"/>
          <p:cNvSpPr/>
          <p:nvPr/>
        </p:nvSpPr>
        <p:spPr>
          <a:xfrm>
            <a:off x="5217840" y="2819520"/>
            <a:ext cx="8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All</a:t>
            </a:r>
            <a:endParaRPr b="0" lang="en-US" sz="36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626" name="Text Box 8"/>
          <p:cNvSpPr/>
          <p:nvPr/>
        </p:nvSpPr>
        <p:spPr>
          <a:xfrm>
            <a:off x="2832480" y="3352680"/>
            <a:ext cx="114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Star</a:t>
            </a:r>
            <a:endParaRPr b="0" lang="en-US" sz="36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627" name="Text Box 9"/>
          <p:cNvSpPr/>
          <p:nvPr/>
        </p:nvSpPr>
        <p:spPr>
          <a:xfrm>
            <a:off x="2622960" y="4876920"/>
            <a:ext cx="113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Trig</a:t>
            </a:r>
            <a:endParaRPr b="0" lang="en-US" sz="36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628" name="Text Box 10"/>
          <p:cNvSpPr/>
          <p:nvPr/>
        </p:nvSpPr>
        <p:spPr>
          <a:xfrm>
            <a:off x="4958640" y="5105520"/>
            <a:ext cx="136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Class</a:t>
            </a:r>
            <a:endParaRPr b="0" lang="en-US" sz="36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629" name="Text Box 11"/>
          <p:cNvSpPr/>
          <p:nvPr/>
        </p:nvSpPr>
        <p:spPr>
          <a:xfrm>
            <a:off x="4495680" y="3429000"/>
            <a:ext cx="2073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00cc"/>
                </a:solidFill>
                <a:latin typeface="Georgia"/>
              </a:rPr>
              <a:t>        </a:t>
            </a:r>
            <a:r>
              <a:rPr b="0" lang="en-US" sz="2800" spc="-1" strike="noStrike">
                <a:solidFill>
                  <a:srgbClr val="cb00cc"/>
                </a:solidFill>
                <a:latin typeface="Georgia"/>
              </a:rPr>
              <a:t>A</a:t>
            </a:r>
            <a:r>
              <a:rPr b="0" lang="en-US" sz="2800" spc="-1" strike="noStrike">
                <a:solidFill>
                  <a:srgbClr val="6b3d8c"/>
                </a:solidFill>
                <a:latin typeface="Georgia"/>
              </a:rPr>
              <a:t>ll functions are positive</a:t>
            </a:r>
            <a:endParaRPr b="0" lang="en-US" sz="2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630" name="Text Box 12"/>
          <p:cNvSpPr/>
          <p:nvPr/>
        </p:nvSpPr>
        <p:spPr>
          <a:xfrm>
            <a:off x="1905120" y="3886200"/>
            <a:ext cx="266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00cc"/>
                </a:solidFill>
                <a:latin typeface="Georgia"/>
              </a:rPr>
              <a:t>S</a:t>
            </a:r>
            <a:r>
              <a:rPr b="0" lang="en-US" sz="2800" spc="-1" strike="noStrike">
                <a:solidFill>
                  <a:srgbClr val="6b3d8c"/>
                </a:solidFill>
                <a:latin typeface="Georgia"/>
              </a:rPr>
              <a:t>ine is  </a:t>
            </a:r>
            <a:endParaRPr b="0" lang="en-US" sz="2800" spc="-1" strike="noStrike">
              <a:solidFill>
                <a:srgbClr val="6b3d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b3d8c"/>
                </a:solidFill>
                <a:latin typeface="Georgia"/>
              </a:rPr>
              <a:t>positive</a:t>
            </a:r>
            <a:endParaRPr b="0" lang="en-US" sz="2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631" name="Text Box 13"/>
          <p:cNvSpPr/>
          <p:nvPr/>
        </p:nvSpPr>
        <p:spPr>
          <a:xfrm>
            <a:off x="2057400" y="563868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00cc"/>
                </a:solidFill>
                <a:latin typeface="Georgia"/>
              </a:rPr>
              <a:t>T</a:t>
            </a:r>
            <a:r>
              <a:rPr b="0" lang="en-US" sz="2800" spc="-1" strike="noStrike">
                <a:solidFill>
                  <a:srgbClr val="6b3d8c"/>
                </a:solidFill>
                <a:latin typeface="Georgia"/>
              </a:rPr>
              <a:t>an is positive</a:t>
            </a:r>
            <a:endParaRPr b="0" lang="en-US" sz="2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632" name="Text Box 14"/>
          <p:cNvSpPr/>
          <p:nvPr/>
        </p:nvSpPr>
        <p:spPr>
          <a:xfrm>
            <a:off x="4648320" y="5638680"/>
            <a:ext cx="251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00cc"/>
                </a:solidFill>
                <a:latin typeface="Georgia"/>
              </a:rPr>
              <a:t>C</a:t>
            </a:r>
            <a:r>
              <a:rPr b="0" lang="en-US" sz="2800" spc="-1" strike="noStrike">
                <a:solidFill>
                  <a:srgbClr val="6b3d8c"/>
                </a:solidFill>
                <a:latin typeface="Georgia"/>
              </a:rPr>
              <a:t>os is  </a:t>
            </a:r>
            <a:endParaRPr b="0" lang="en-US" sz="2800" spc="-1" strike="noStrike">
              <a:solidFill>
                <a:srgbClr val="6b3d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b3d8c"/>
                </a:solidFill>
                <a:latin typeface="Georgia"/>
              </a:rPr>
              <a:t>positive</a:t>
            </a:r>
            <a:endParaRPr b="0" lang="en-US" sz="2800" spc="-1" strike="noStrike">
              <a:solidFill>
                <a:srgbClr val="6b3d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5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60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75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90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5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20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1e109"/>
                </a:solidFill>
                <a:latin typeface="Georgia"/>
              </a:rPr>
              <a:t>Example 3</a:t>
            </a: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Give the sign of each of the following: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a. Cos (-1˚)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b. Sin (-1˚) = 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c . Tan (-1˚)  = 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35" name="TextBox 3"/>
          <p:cNvSpPr/>
          <p:nvPr/>
        </p:nvSpPr>
        <p:spPr>
          <a:xfrm>
            <a:off x="2377440" y="2362320"/>
            <a:ext cx="277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b3d8c"/>
                </a:solidFill>
                <a:latin typeface="Arial"/>
              </a:rPr>
              <a:t>= positive</a:t>
            </a:r>
            <a:endParaRPr b="0" lang="en-US" sz="44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636" name="TextBox 4"/>
          <p:cNvSpPr/>
          <p:nvPr/>
        </p:nvSpPr>
        <p:spPr>
          <a:xfrm>
            <a:off x="2530800" y="3429000"/>
            <a:ext cx="293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b3d8c"/>
                </a:solidFill>
                <a:latin typeface="Arial"/>
              </a:rPr>
              <a:t>= negative</a:t>
            </a:r>
            <a:endParaRPr b="0" lang="en-US" sz="44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637" name="TextBox 5"/>
          <p:cNvSpPr/>
          <p:nvPr/>
        </p:nvSpPr>
        <p:spPr>
          <a:xfrm>
            <a:off x="2908800" y="4419720"/>
            <a:ext cx="24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b3d8c"/>
                </a:solidFill>
                <a:latin typeface="Arial"/>
              </a:rPr>
              <a:t>negative</a:t>
            </a:r>
            <a:endParaRPr b="0" lang="en-US" sz="4400" spc="-1" strike="noStrike">
              <a:solidFill>
                <a:srgbClr val="6b3d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1e109"/>
                </a:solidFill>
                <a:latin typeface="Georgia"/>
              </a:rPr>
              <a:t>Example 4</a:t>
            </a: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A large clock with rotating hour and minute hands is on a building with its center 20 feet tall.  The length of the hour hand is 1.5 feet and the length of the minute hand is 2 feet.  At 8:20, give the height off the ground of the tip of each hand.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Minute hand: 20 + 2sin(-</a:t>
            </a:r>
            <a:r>
              <a:rPr b="0" lang="el-GR" sz="2700" spc="-1" strike="noStrike">
                <a:solidFill>
                  <a:srgbClr val="6b3d8c"/>
                </a:solidFill>
                <a:latin typeface="Georgia"/>
              </a:rPr>
              <a:t>π</a:t>
            </a: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/6)  = 19 feet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Hour hand: 20 + 1.5sin(-160˚) = 19.49 feet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6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1e109"/>
                </a:solidFill>
                <a:latin typeface="Georgia"/>
              </a:rPr>
              <a:t>Homework</a:t>
            </a: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b3d8c"/>
                </a:solidFill>
                <a:latin typeface="Georgia"/>
              </a:rPr>
              <a:t>Pages 248 – 249</a:t>
            </a:r>
            <a:endParaRPr b="0" lang="en-US" sz="80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b3d8c"/>
                </a:solidFill>
                <a:latin typeface="Georgia"/>
              </a:rPr>
              <a:t>2 - 17</a:t>
            </a:r>
            <a:endParaRPr b="0" lang="en-US" sz="8000" spc="-1" strike="noStrike">
              <a:solidFill>
                <a:srgbClr val="6b3d8c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00:30:12Z</dcterms:created>
  <dc:creator>teacher</dc:creator>
  <dc:description/>
  <dc:language>en-US</dc:language>
  <cp:lastModifiedBy>teacher</cp:lastModifiedBy>
  <dcterms:modified xsi:type="dcterms:W3CDTF">2010-11-09T16:23:54Z</dcterms:modified>
  <cp:revision>2</cp:revision>
  <dc:subject/>
  <dc:title>Sines, Cosines, and Tangents</dc:title>
</cp:coreProperties>
</file>