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E878-9A13-4C8D-9BE7-F26B32F88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2DB2-9748-4B34-8FCB-8650B48F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86CF94-97CE-4F1C-A251-1E767081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A8CF33-1FC8-4712-B310-B84129EA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B54EE7-845A-4FDE-BFA8-9C8E75AC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2D40C2-739D-401A-9ED0-15A74811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EAAA02-BA7C-4BFE-88FB-C9BC510A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382650-9376-4CF1-8B4F-4E655C8E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337093-6E3E-4237-9BFF-AC761BFC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093B03-0B7F-42CB-B489-68B9831B9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91A27D-D0FF-4DEC-8FAE-04AFB40E8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B48B5B-E8EC-4107-A8F4-84D9DA15E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EDB8-5B8F-4CFB-BA64-3B0058F8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192FC4-F096-42A1-B007-B299A608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A2889E-6173-467E-A461-6CAAFC9E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AC2993-0C86-4C10-B13D-1F69B959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CFED58-97DF-4738-B33D-4D0F0A21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79A7AA-DF39-4DE3-ABF5-3E95CAAC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D2532D-FB57-4352-B201-4FF95C78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060906-345B-43EF-8C2C-FA9E9333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6BF5BC-3A9C-4907-9D40-AABB88BB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B5105A-D34B-4623-AC75-0786BF1A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E49D04-D772-4F48-8ACF-CD2AC696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8CC2-96BE-4845-BB24-999F4E5C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DFFE6B-E18D-4D69-AEE0-AA065E540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926FF-C516-42AC-AF40-C7435E23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E3C66-6F21-4BF3-BB3B-A05D2735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3771A-F4A8-499D-9B49-81401F21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6E0E8-5270-4B11-9B5E-D71BA576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5DFE7-B1D8-407D-AB26-8A055C80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AA4EA-5766-4D62-9BD5-CEE5B69E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86181-B993-42D5-A9DF-1220AFD9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7FD45-4A0E-4325-A1E5-CE4E6CD4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EA4FA-6F4E-47B0-979D-499FCECE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2453-636F-4B92-A0A6-D6ED9400D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D19A3-2EBA-43A9-95D4-C8745F23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F27B3-075B-4C02-8C44-B1FA4E1D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25E9E-8568-4AD8-81D0-F9161CEA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5AF7A3-DF96-416A-A1F2-E336E7FA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F9503A-9B3B-4537-A760-7F16999D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CC719B-A480-47E8-AD6C-81C36564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8C2E98-F103-41AA-93C7-E826594E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6D16CF-4C36-45F3-9366-AE2EE836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A0DA07-04B3-42F5-9823-46EAD001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01F94F-39A9-46B2-9452-87E7F936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B88A-ABAB-4999-BC92-345EC205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832ECB-2A03-4BAF-AC0A-053FABF5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9CEEAA-ECCE-4E57-99D2-6FCEA089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80B7E4-93B5-43B1-A920-F8C8CE6B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50DAAD-0A3F-4C7F-B950-0FB6C8A9E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E436FB-61E9-4599-972C-C379EBA4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E9BD-94DE-4F6C-98B6-02875A84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66E9-826E-45D5-8895-289EC6EE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5FDF-F8E8-45D0-90B4-7107A20B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90A6-0A5C-4419-BF18-6A03A297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D09F-30B0-4B64-B92B-25BE2FAA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5611-3332-4E07-8C36-E2E0CAA4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0E46-DE40-4063-82F3-C331A839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29BA-E0F1-4992-82DE-0CA512A4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0E2B-CAF6-4129-BB0B-25A67C9E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3EAD-28A6-450B-B42B-AE6AFDAF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BF8E-27CC-4ED0-B35C-BA222CDA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1EE88-9A35-406C-8EAD-AADA507B9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5488D-6F78-4EF0-96EB-D41DA29D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6A409-823D-423C-A657-BA8C4EB0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4E4D9-1F8E-42E4-9301-8785A42A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7A344-08EC-464D-92D5-9D75B98D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EED0-E8C5-4DB5-969B-998EDE0A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28727-1236-4303-8C63-BB65F76F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84C5E-B1BB-4EA6-A1B6-97099B20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123A1-506C-4E06-B21C-AA1688E3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63415-9117-4586-B02C-6E2CCAE7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38B7C-9AA5-4B9C-83C6-45CE96DC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E47E1-4A31-49E8-B3DD-6B37108B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C5B44-44CF-4EAC-A6AE-5EBD25BA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94D35-EFC4-47D7-B3FE-227C50BD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770FA-AD7F-479A-B73A-4ADCFB03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B5343-4272-4709-BBAF-86C9D43F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7804-5B6F-4724-BC80-269B722E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46843-CF9E-472D-8A03-6974C9D0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97B83-6485-47C2-BED7-1792BFEA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68E01-10F8-4372-B5B2-9ECDC97F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72FE5-3851-4A28-8D33-14971B40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4AA7D-E9CE-4EC2-A37C-55D393D1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1BB00-85B0-474B-884F-D03E8CEC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A7C26-751B-437E-A336-55A72582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22FCA-0693-4258-BDFE-A0B63F259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15C40-AC6E-4CD7-A281-BF73EBDD3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1FC78-0FD8-404A-B728-404BAC10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93E5-5AE8-4086-A158-AC907D1D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2A955-C9E2-4CA1-A254-F4D788EB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B68FB-7C4F-4867-B294-F7CC278A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B5595-C625-46A4-A94C-8BD93E74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420C3-1837-4678-936D-39AC8249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02D67-F8F7-4B57-B94C-17C0A9D2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7B7FC-F64E-4DC1-AE53-77621A1C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8BAD7-D7D9-41D3-A7C6-286569E2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54D66-3FEC-4B30-A415-09624BD3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C2360-614F-4F3A-B82E-A9F5C62F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9DF9F-1FDB-4FA0-BAD2-BEAE581F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1C8E-4B8E-4989-A66D-A016CDF1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3DA40-6366-4F43-BE25-2AE0B52E7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60A60-28E8-4E9C-A04D-735BC5504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45CB7-B095-4CFC-9C29-BAA30B6B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71F14-E3B5-40EF-90CD-5A7204AE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BF16F-C772-4C1F-A36A-460C865E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899BE-3AFD-4990-B2BC-B0C4A0EF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39580-1506-47DB-93C7-BE89AF2D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A05DD-9F5E-42B8-BFFC-653A5892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9D4E6-0369-4AB9-B4E4-E313F37D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C21FC-9D12-4F04-BD6B-5B8BBD29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3BA2-D638-46CF-BB77-C8ABF0B6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57C72-DB4F-4F24-91C5-68AD706C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086F8-DB72-49E8-8F33-718194AFB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7EAB3-9FFF-438F-B4B7-51D9C5C6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2EF41-679A-4A76-A20F-40BB5B439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EF0A4-F89A-4C2E-84E7-1DE58836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2EFDD-1C52-4C6A-9C11-F7FB1105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CCFE2-8B18-40A0-8487-F74104A8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20CBA-98AE-470A-8458-B025A25F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ABEC2-94D8-4BB8-8FFB-C5D3C9FD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919C1-1F96-48D5-B712-15073D98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12F7-BE79-42BD-AD4F-10C0490F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BD18B-1810-41A1-989E-3858637F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C7610-A6F8-49C3-BC20-147916DE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34B0A-551E-4276-B852-087C36B5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545C3-282A-4AEC-9CDB-D0F317E1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62B7D-B5D0-4DA5-9E31-453EAC34A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88ABE-D85C-42C6-9D6C-E555F091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56F89-8E13-43D0-A84D-3A45303E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BB19D-98F3-427E-98CF-10A627BB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F4502-181D-47A0-93FC-D1EB63E9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25118-3774-45D2-99D4-14FAE528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716F-CE65-4132-9B5F-67934CD6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46DFC-DAEF-4634-A0B3-DA14B423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31B3E-8399-482B-8375-7AE2F0FA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3E27B-10D7-4CEB-88FC-26EB8A5E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C8571-4A97-4339-A3D7-B4976CB4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61C98-8DE2-4E9D-8EB4-47EE54A8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003BA-9E18-4046-AE78-C9BDA0C49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C459F-ED7A-4FBF-A38F-7DFD3CE8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AA2549-D46E-4B1A-BFD8-BC1C00D2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A6FFF4-2033-4C82-B143-5B0A3ADB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A7D150-5E79-4E81-8177-817213AD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3C30-6BFB-4B3C-8E1F-931F1C1BFCE2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FA36-E4DA-4A6E-9888-F34B59EFC4AF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1E42-E5C6-432A-973E-72A8D6809FBA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B344-337B-4907-91CB-3BC2F7AC6DA1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662F-FA8E-406D-B584-38A639B036B6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24A9-4B4E-4269-8D4F-CF30BC942234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038C-4B08-4C8D-9A1B-AE6E8D6460F9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cb00c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74E0-CB53-432B-9429-186898EFAEA0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cb00c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46CB-2510-43F9-BA78-FE2227C67D47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CBA5-AA6A-480A-9970-96DFD604286E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2015-5E41-419F-8677-34459EC95503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B2C0-A4AD-4803-92F7-7D0AB23555CD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b00cc"/>
                </a:solidFill>
                <a:latin typeface="Georgia"/>
              </a:rPr>
              <a:t>LESSON 4.3</a:t>
            </a:r>
            <a:endParaRPr b="0" lang="en-US" sz="16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ff"/>
                </a:solidFill>
                <a:latin typeface="Georgia"/>
              </a:rPr>
              <a:t>Sines, Cosines, and Tangents</a:t>
            </a:r>
            <a:endParaRPr b="0" lang="en-US" sz="4200" spc="-1" strike="noStrike">
              <a:solidFill>
                <a:srgbClr val="51e10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(Cos 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θ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, sin 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θ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) = R</a:t>
            </a:r>
            <a:r>
              <a:rPr b="0" lang="el-GR" sz="2700" spc="-1" strike="noStrike" baseline="-25000">
                <a:solidFill>
                  <a:srgbClr val="6b3d8c"/>
                </a:solidFill>
                <a:latin typeface="Georgia"/>
              </a:rPr>
              <a:t>θ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(1,0)     </a:t>
            </a:r>
            <a:r>
              <a:rPr b="0" lang="en-US" sz="2700" spc="-1" strike="noStrike">
                <a:solidFill>
                  <a:srgbClr val="6b3d8c"/>
                </a:solidFill>
                <a:latin typeface="Wingdings"/>
                <a:ea typeface="Wingdings"/>
              </a:rPr>
              <a:t>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you start at (1,0) and rotate the image 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θ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units.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an 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θ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= sin 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θ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/ cos 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θ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Example 1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R</a:t>
            </a:r>
            <a:r>
              <a:rPr b="0" lang="en-US" sz="2700" spc="-1" strike="noStrike" baseline="-25000">
                <a:solidFill>
                  <a:srgbClr val="6b3d8c"/>
                </a:solidFill>
                <a:latin typeface="Georgia"/>
              </a:rPr>
              <a:t>270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(1,0) maps (1,0) onto (0, -1)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Evaluate cos 270˚ 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Evaluate sin 270˚ 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Evaluate tan 0˚ =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Evaluate tan 270˚ =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12" name="TextBox 3"/>
          <p:cNvSpPr/>
          <p:nvPr/>
        </p:nvSpPr>
        <p:spPr>
          <a:xfrm>
            <a:off x="3587760" y="2438280"/>
            <a:ext cx="9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3d8c"/>
                </a:solidFill>
                <a:latin typeface="Arial"/>
              </a:rPr>
              <a:t>= 0</a:t>
            </a:r>
            <a:endParaRPr b="0" lang="en-US" sz="44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13" name="TextBox 4"/>
          <p:cNvSpPr/>
          <p:nvPr/>
        </p:nvSpPr>
        <p:spPr>
          <a:xfrm>
            <a:off x="3359520" y="3352680"/>
            <a:ext cx="115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3d8c"/>
                </a:solidFill>
                <a:latin typeface="Arial"/>
              </a:rPr>
              <a:t>= -1</a:t>
            </a:r>
            <a:endParaRPr b="0" lang="en-US" sz="44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14" name="TextBox 5"/>
          <p:cNvSpPr/>
          <p:nvPr/>
        </p:nvSpPr>
        <p:spPr>
          <a:xfrm>
            <a:off x="2977920" y="4343400"/>
            <a:ext cx="9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3d8c"/>
                </a:solidFill>
                <a:latin typeface="Arial"/>
              </a:rPr>
              <a:t>= 0</a:t>
            </a:r>
            <a:endParaRPr b="0" lang="en-US" sz="44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15" name="TextBox 6"/>
          <p:cNvSpPr/>
          <p:nvPr/>
        </p:nvSpPr>
        <p:spPr>
          <a:xfrm>
            <a:off x="3749040" y="5334120"/>
            <a:ext cx="285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3d8c"/>
                </a:solidFill>
                <a:latin typeface="Arial"/>
              </a:rPr>
              <a:t>undefined</a:t>
            </a:r>
            <a:endParaRPr b="0" lang="en-US" sz="44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Example 2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nd, to the nearest thousandth, the coordinates of the image of (1,0) under a rotation of -10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/9.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R</a:t>
            </a:r>
            <a:r>
              <a:rPr b="0" lang="en-US" sz="2700" spc="-1" strike="noStrike" baseline="-25000">
                <a:solidFill>
                  <a:srgbClr val="6b3d8c"/>
                </a:solidFill>
                <a:latin typeface="Georgia"/>
              </a:rPr>
              <a:t>10</a:t>
            </a:r>
            <a:r>
              <a:rPr b="0" lang="el-GR" sz="2700" spc="-1" strike="noStrike" baseline="-25000">
                <a:solidFill>
                  <a:srgbClr val="6b3d8c"/>
                </a:solidFill>
                <a:latin typeface="Georgia"/>
              </a:rPr>
              <a:t>π</a:t>
            </a:r>
            <a:r>
              <a:rPr b="0" lang="en-US" sz="2700" spc="-1" strike="noStrike" baseline="-25000">
                <a:solidFill>
                  <a:srgbClr val="6b3d8c"/>
                </a:solidFill>
                <a:latin typeface="Georgia"/>
              </a:rPr>
              <a:t>/9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(1,0) = (cos -10π/9, sin -10π/9)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alculator!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(-.94, .342)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©Carolyn C. Wheater, 2000</a:t>
            </a:r>
            <a:endParaRPr b="0" lang="en-US" sz="12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19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5E12-FAB6-432C-AE2A-0076EE7C446A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All Star Trig Class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Use the phrase “All Star Trig Class” to remember the signs of the trig functions in different quadrants.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grpSp>
        <p:nvGrpSpPr>
          <p:cNvPr id="622" name="Group 6"/>
          <p:cNvGrpSpPr/>
          <p:nvPr/>
        </p:nvGrpSpPr>
        <p:grpSpPr>
          <a:xfrm>
            <a:off x="2057400" y="3048120"/>
            <a:ext cx="4800600" cy="3429000"/>
            <a:chOff x="2057400" y="3048120"/>
            <a:chExt cx="4800600" cy="3429000"/>
          </a:xfrm>
        </p:grpSpPr>
        <p:sp>
          <p:nvSpPr>
            <p:cNvPr id="623" name="Line 4"/>
            <p:cNvSpPr/>
            <p:nvPr/>
          </p:nvSpPr>
          <p:spPr>
            <a:xfrm>
              <a:off x="4419720" y="3048120"/>
              <a:ext cx="0" cy="3429000"/>
            </a:xfrm>
            <a:prstGeom prst="line">
              <a:avLst/>
            </a:prstGeom>
            <a:ln w="38160">
              <a:solidFill>
                <a:srgbClr val="6b3d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b3d8c"/>
                </a:solidFill>
                <a:latin typeface="Arial"/>
              </a:endParaRPr>
            </a:p>
          </p:txBody>
        </p:sp>
        <p:sp>
          <p:nvSpPr>
            <p:cNvPr id="624" name="Line 5"/>
            <p:cNvSpPr/>
            <p:nvPr/>
          </p:nvSpPr>
          <p:spPr>
            <a:xfrm>
              <a:off x="2057400" y="4800600"/>
              <a:ext cx="4800600" cy="0"/>
            </a:xfrm>
            <a:prstGeom prst="line">
              <a:avLst/>
            </a:prstGeom>
            <a:ln w="38160">
              <a:solidFill>
                <a:srgbClr val="6b3d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6b3d8c"/>
                </a:solidFill>
                <a:latin typeface="Arial"/>
              </a:endParaRPr>
            </a:p>
          </p:txBody>
        </p:sp>
      </p:grpSp>
      <p:sp>
        <p:nvSpPr>
          <p:cNvPr id="625" name="Text Box 7"/>
          <p:cNvSpPr/>
          <p:nvPr/>
        </p:nvSpPr>
        <p:spPr>
          <a:xfrm>
            <a:off x="5217840" y="281952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All</a:t>
            </a:r>
            <a:endParaRPr b="0" lang="en-US" sz="36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26" name="Text Box 8"/>
          <p:cNvSpPr/>
          <p:nvPr/>
        </p:nvSpPr>
        <p:spPr>
          <a:xfrm>
            <a:off x="2832480" y="3352680"/>
            <a:ext cx="11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Star</a:t>
            </a:r>
            <a:endParaRPr b="0" lang="en-US" sz="36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27" name="Text Box 9"/>
          <p:cNvSpPr/>
          <p:nvPr/>
        </p:nvSpPr>
        <p:spPr>
          <a:xfrm>
            <a:off x="2622960" y="4876920"/>
            <a:ext cx="113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Trig</a:t>
            </a:r>
            <a:endParaRPr b="0" lang="en-US" sz="36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28" name="Text Box 10"/>
          <p:cNvSpPr/>
          <p:nvPr/>
        </p:nvSpPr>
        <p:spPr>
          <a:xfrm>
            <a:off x="4958640" y="51055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Class</a:t>
            </a:r>
            <a:endParaRPr b="0" lang="en-US" sz="36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29" name="Text Box 11"/>
          <p:cNvSpPr/>
          <p:nvPr/>
        </p:nvSpPr>
        <p:spPr>
          <a:xfrm>
            <a:off x="4495680" y="3429000"/>
            <a:ext cx="2073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0cc"/>
                </a:solidFill>
                <a:latin typeface="Georgia"/>
              </a:rPr>
              <a:t>        </a:t>
            </a:r>
            <a:r>
              <a:rPr b="0" lang="en-US" sz="2800" spc="-1" strike="noStrike">
                <a:solidFill>
                  <a:srgbClr val="cb00cc"/>
                </a:solidFill>
                <a:latin typeface="Georgia"/>
              </a:rPr>
              <a:t>A</a:t>
            </a:r>
            <a:r>
              <a:rPr b="0" lang="en-US" sz="2800" spc="-1" strike="noStrike">
                <a:solidFill>
                  <a:srgbClr val="6b3d8c"/>
                </a:solidFill>
                <a:latin typeface="Georgia"/>
              </a:rPr>
              <a:t>ll functions are positive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30" name="Text Box 12"/>
          <p:cNvSpPr/>
          <p:nvPr/>
        </p:nvSpPr>
        <p:spPr>
          <a:xfrm>
            <a:off x="1905120" y="388620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0cc"/>
                </a:solidFill>
                <a:latin typeface="Georgia"/>
              </a:rPr>
              <a:t>S</a:t>
            </a:r>
            <a:r>
              <a:rPr b="0" lang="en-US" sz="2800" spc="-1" strike="noStrike">
                <a:solidFill>
                  <a:srgbClr val="6b3d8c"/>
                </a:solidFill>
                <a:latin typeface="Georgia"/>
              </a:rPr>
              <a:t>ine is  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3d8c"/>
                </a:solidFill>
                <a:latin typeface="Georgia"/>
              </a:rPr>
              <a:t>positive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31" name="Text Box 13"/>
          <p:cNvSpPr/>
          <p:nvPr/>
        </p:nvSpPr>
        <p:spPr>
          <a:xfrm>
            <a:off x="2057400" y="563868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0cc"/>
                </a:solidFill>
                <a:latin typeface="Georgia"/>
              </a:rPr>
              <a:t>T</a:t>
            </a:r>
            <a:r>
              <a:rPr b="0" lang="en-US" sz="2800" spc="-1" strike="noStrike">
                <a:solidFill>
                  <a:srgbClr val="6b3d8c"/>
                </a:solidFill>
                <a:latin typeface="Georgia"/>
              </a:rPr>
              <a:t>an is positive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32" name="Text Box 14"/>
          <p:cNvSpPr/>
          <p:nvPr/>
        </p:nvSpPr>
        <p:spPr>
          <a:xfrm>
            <a:off x="4648320" y="563868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0cc"/>
                </a:solidFill>
                <a:latin typeface="Georgia"/>
              </a:rPr>
              <a:t>C</a:t>
            </a:r>
            <a:r>
              <a:rPr b="0" lang="en-US" sz="2800" spc="-1" strike="noStrike">
                <a:solidFill>
                  <a:srgbClr val="6b3d8c"/>
                </a:solidFill>
                <a:latin typeface="Georgia"/>
              </a:rPr>
              <a:t>os is  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3d8c"/>
                </a:solidFill>
                <a:latin typeface="Georgia"/>
              </a:rPr>
              <a:t>positive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9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Example 3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Give the sign of each of the following: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a. Cos (-1˚)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b. Sin (-1˚) = 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 . Tan (-1˚)  = 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35" name="TextBox 3"/>
          <p:cNvSpPr/>
          <p:nvPr/>
        </p:nvSpPr>
        <p:spPr>
          <a:xfrm>
            <a:off x="2377440" y="2362320"/>
            <a:ext cx="277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3d8c"/>
                </a:solidFill>
                <a:latin typeface="Arial"/>
              </a:rPr>
              <a:t>= positive</a:t>
            </a:r>
            <a:endParaRPr b="0" lang="en-US" sz="44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36" name="TextBox 4"/>
          <p:cNvSpPr/>
          <p:nvPr/>
        </p:nvSpPr>
        <p:spPr>
          <a:xfrm>
            <a:off x="2530800" y="3429000"/>
            <a:ext cx="293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3d8c"/>
                </a:solidFill>
                <a:latin typeface="Arial"/>
              </a:rPr>
              <a:t>= negative</a:t>
            </a:r>
            <a:endParaRPr b="0" lang="en-US" sz="44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37" name="TextBox 5"/>
          <p:cNvSpPr/>
          <p:nvPr/>
        </p:nvSpPr>
        <p:spPr>
          <a:xfrm>
            <a:off x="2908800" y="4419720"/>
            <a:ext cx="24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3d8c"/>
                </a:solidFill>
                <a:latin typeface="Arial"/>
              </a:rPr>
              <a:t>negative</a:t>
            </a:r>
            <a:endParaRPr b="0" lang="en-US" sz="44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Example 4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A large clock with rotating hour and minute hands is on a building with its center 20 feet tall.  The length of the hour hand is 1.5 feet and the length of the minute hand is 2 feet.  At 8:20, give the height off the ground of the tip of each hand.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Minute hand: 20 + 2sin(-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/6)  = 19 fee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Hour hand: 20 + 1.5sin(-160˚) = 19.49 fee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Homework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b3d8c"/>
                </a:solidFill>
                <a:latin typeface="Georgia"/>
              </a:rPr>
              <a:t>Pages 248 – 249</a:t>
            </a:r>
            <a:endParaRPr b="0" lang="en-US" sz="80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b3d8c"/>
                </a:solidFill>
                <a:latin typeface="Georgia"/>
              </a:rPr>
              <a:t>2 - 17</a:t>
            </a:r>
            <a:endParaRPr b="0" lang="en-US" sz="8000" spc="-1" strike="noStrike">
              <a:solidFill>
                <a:srgbClr val="6b3d8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0:30:12Z</dcterms:created>
  <dc:creator>teacher</dc:creator>
  <dc:description/>
  <dc:language>en-US</dc:language>
  <cp:lastModifiedBy>teacher</cp:lastModifiedBy>
  <dcterms:modified xsi:type="dcterms:W3CDTF">2010-11-09T16:23:54Z</dcterms:modified>
  <cp:revision>2</cp:revision>
  <dc:subject/>
  <dc:title>Sines, Cosines, and Tangents</dc:title>
</cp:coreProperties>
</file>