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0A585-9F9C-4D82-835D-28978EF29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F2AD7-0CEE-4C45-A729-BF38FF24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5BB22-665F-43FB-B6C2-CFE138BEE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647AC-E9CB-4B51-8BBB-36AE242F2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90907-24C6-446D-AE41-3F33095A9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300E3-8A96-487A-A915-8D438C85F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05105-163D-48D5-BE5C-6DBF5C961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EDED2-8198-420B-91A1-946A2334F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5A492-F2F5-4B01-B090-A5434AB85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4870C-0F1B-4727-8FFE-F99658EA1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44C1C-3FBA-4C73-BC0B-F539400D2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4247E-BEFC-4594-AF07-B08754C3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20A19-33D6-47D4-8248-3CF7B00A1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1F82A-7AD5-4506-9826-636E7BD33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F1D54-168A-4D21-BED2-3A652A749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7F7B2-F929-4580-A0EF-F1FA6DF4B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1F31FD-D546-4A76-9139-BEDFC2391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B1D842-708C-4DB7-8734-B6485D2706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2C8BD-56CE-4408-92F6-E9DC5B413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600F2-9BE3-456E-8D7A-103F02448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1FEB67-208F-4F27-A01C-F8DE42131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5D3CBF-5FA4-4C0C-BA5E-F3C4F23CEA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CB54-48AB-4A5A-9F43-9B3C1FE4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4D4F4-FE43-49D8-8EA2-64A9C2042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A0A2E-87DB-47DA-9DA1-BA675BB89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6D8B5-190F-4B94-8202-36731A2C1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88792-E787-45C9-9588-081F64F9A4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4FC1C2-5F69-48FB-9E09-F7A187854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6A5732-56A2-4DD9-B399-3C8C0F136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ABC549-90BB-43DC-A4EF-996C31FD32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1479A-0886-439F-B2ED-E04506ECE5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909D0-5EB8-477B-B196-D6D8BC5A4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267B94-23C9-44A8-B40D-4AB96A7387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B3CCC-2E99-4C76-90EA-70832F6F7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324A2-5BD3-464C-AFBB-7615E4936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8C6353-2A6B-4108-AE43-DE6143349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1118A-436C-4EBF-8821-4A67AA4E4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26D871-23AF-49E2-A55A-A4D0993B0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23FF9-6BE9-40E5-B952-C10CCFFB9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C0C96-733C-4444-A99B-753CD3EF50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EDCBA-92C7-477D-B369-5D5D5EDCF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441F0C-31B1-417A-9C46-BC32CB0AAE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E87243-E30F-4653-8253-D10852B7D4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BEBA44-BC5A-4F34-9C0B-8A41C268A9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C73C9-94DD-471A-9609-A004E7725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739002-964B-4E06-8E59-B0847F202B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A6253-C90B-4AD6-8989-A022FDA33E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BBAFF-B25B-485E-B21E-95B4BA3439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9A897-45A6-49C7-8D61-375E3679A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A2DD7-A7C2-4EBF-82BA-49CEDC3171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61B36-649E-4B1B-8381-742530B62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13A6C-6DA5-461C-8AE4-8E38D333A6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CB38A-DB3E-465F-A838-5BB0F0DA0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9BE478-91B7-4ADB-8938-7F68668001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9822EE-ABD1-48C4-805A-D02E323954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510A6-1A16-4149-98C5-5419890BD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FC61C2-9B9E-4BA4-AF43-437E9B9375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FDFC-74DB-4B24-94D5-A1A238538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84FF-4A5B-4D8D-9E65-779CAF49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0A35C-EDC6-43EA-80DB-2C3E180F7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9482-A9C3-42EC-A62E-D8BC3A9EBD7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4C6A-B2B1-425E-8A15-5C1CDE6FD7A8}"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26786-A326-437C-9F04-AEF260AE9C9A}"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3B54-8F64-4B6D-9E3D-BDE44BDCC64F}"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3C6D-48ED-48A0-8F3D-3E01D7015866}"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4.2</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133200" y="-19080"/>
            <a:ext cx="7493040" cy="725400"/>
          </a:xfrm>
          <a:prstGeom prst="rect">
            <a:avLst/>
          </a:prstGeom>
          <a:ln w="0">
            <a:noFill/>
          </a:ln>
        </p:spPr>
      </p:pic>
      <p:sp>
        <p:nvSpPr>
          <p:cNvPr id="223" name=""/>
          <p:cNvSpPr txBox="1"/>
          <p:nvPr/>
        </p:nvSpPr>
        <p:spPr>
          <a:xfrm>
            <a:off x="457200" y="685440"/>
            <a:ext cx="7238880" cy="5770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Arc Length Formula:  If s is the length of the arc of a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S = r</a:t>
            </a:r>
            <a:r>
              <a:rPr b="1" lang="el-GR" sz="4300" spc="-1" strike="noStrike">
                <a:solidFill>
                  <a:srgbClr val="000000"/>
                </a:solidFill>
                <a:latin typeface="Trebuchet MS"/>
              </a:rPr>
              <a:t>θ</a:t>
            </a:r>
            <a:endParaRPr b="0" lang="en-US" sz="43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Sector Area Formul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is the area of the sector formed by the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A = 1/2 </a:t>
            </a:r>
            <a:r>
              <a:rPr b="1" lang="el-GR" sz="4300" spc="-1" strike="noStrike">
                <a:solidFill>
                  <a:srgbClr val="000000"/>
                </a:solidFill>
                <a:latin typeface="Trebuchet MS"/>
              </a:rPr>
              <a:t>θ</a:t>
            </a:r>
            <a:r>
              <a:rPr b="1" lang="en-US" sz="4300" spc="-1" strike="noStrike">
                <a:solidFill>
                  <a:srgbClr val="000000"/>
                </a:solidFill>
                <a:latin typeface="Trebuchet MS"/>
              </a:rPr>
              <a:t> r</a:t>
            </a:r>
            <a:r>
              <a:rPr b="1" lang="en-US" sz="4300" spc="-1" strike="noStrike" baseline="30000">
                <a:solidFill>
                  <a:srgbClr val="000000"/>
                </a:solidFill>
                <a:latin typeface="Trebuchet MS"/>
              </a:rPr>
              <a:t>2</a:t>
            </a:r>
            <a:endParaRPr b="0" lang="en-US" sz="43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7" dur="500"/>
                                        <p:tgtEl>
                                          <p:spTgt spid="22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0" dur="500"/>
                                        <p:tgtEl>
                                          <p:spTgt spid="223">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15" dur="500"/>
                                        <p:tgtEl>
                                          <p:spTgt spid="223">
                                            <p:txEl>
                                              <p:pRg st="4" end="4"/>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18" dur="500"/>
                                        <p:tgtEl>
                                          <p:spTgt spid="223">
                                            <p:txEl>
                                              <p:pRg st="5" end="5"/>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21"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60480" y="-19080"/>
            <a:ext cx="7492680" cy="725400"/>
          </a:xfrm>
          <a:prstGeom prst="rect">
            <a:avLst/>
          </a:prstGeom>
          <a:ln w="0">
            <a:noFill/>
          </a:ln>
        </p:spPr>
      </p:pic>
      <p:sp>
        <p:nvSpPr>
          <p:cNvPr id="225"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length of an arc of a central angle with measure </a:t>
            </a:r>
            <a:r>
              <a:rPr b="0" lang="el-GR" sz="4000" spc="-1" strike="noStrike">
                <a:solidFill>
                  <a:srgbClr val="000000"/>
                </a:solidFill>
                <a:latin typeface="Trebuchet MS"/>
              </a:rPr>
              <a:t>π</a:t>
            </a:r>
            <a:r>
              <a:rPr b="0" lang="en-US" sz="4000" spc="-1" strike="noStrike">
                <a:solidFill>
                  <a:srgbClr val="000000"/>
                </a:solidFill>
                <a:latin typeface="Trebuchet MS"/>
              </a:rPr>
              <a:t>/3 in a circle with radius 5 cm.</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r</a:t>
            </a:r>
            <a:r>
              <a:rPr b="0" lang="el-GR" sz="4000" spc="-1" strike="noStrike">
                <a:solidFill>
                  <a:srgbClr val="000000"/>
                </a:solidFill>
                <a:latin typeface="Trebuchet MS"/>
              </a:rPr>
              <a:t>θ</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 * </a:t>
            </a:r>
            <a:r>
              <a:rPr b="0" lang="el-GR" sz="4000" spc="-1" strike="noStrike">
                <a:solidFill>
                  <a:srgbClr val="000000"/>
                </a:solidFill>
                <a:latin typeface="Trebuchet MS"/>
              </a:rPr>
              <a:t>π</a:t>
            </a:r>
            <a:r>
              <a:rPr b="0" lang="en-US" sz="4000" spc="-1" strike="noStrike">
                <a:solidFill>
                  <a:srgbClr val="000000"/>
                </a:solidFill>
                <a:latin typeface="Trebuchet MS"/>
              </a:rPr>
              <a:t>/3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a:t>
            </a:r>
            <a:r>
              <a:rPr b="0" lang="el-GR" sz="4000" spc="-1" strike="noStrike">
                <a:solidFill>
                  <a:srgbClr val="000000"/>
                </a:solidFill>
                <a:latin typeface="Trebuchet MS"/>
              </a:rPr>
              <a:t>π</a:t>
            </a:r>
            <a:r>
              <a:rPr b="0" lang="en-US" sz="4000" spc="-1" strike="noStrike">
                <a:solidFill>
                  <a:srgbClr val="000000"/>
                </a:solidFill>
                <a:latin typeface="Trebuchet MS"/>
              </a:rPr>
              <a:t>/3 = 5.24 cm </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8" dur="2000"/>
                                        <p:tgtEl>
                                          <p:spTgt spid="225">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 dur="2000"/>
                                        <p:tgtEl>
                                          <p:spTgt spid="225">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38" dur="2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480" y="-92160"/>
            <a:ext cx="7492680" cy="725400"/>
          </a:xfrm>
          <a:prstGeom prst="rect">
            <a:avLst/>
          </a:prstGeom>
          <a:ln w="0">
            <a:noFill/>
          </a:ln>
        </p:spPr>
      </p:pic>
      <p:sp>
        <p:nvSpPr>
          <p:cNvPr id="22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area of a 27˚sector of a circle with radius 10 feet.</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 1/2 </a:t>
            </a:r>
            <a:r>
              <a:rPr b="0" lang="el-GR" sz="4000" spc="-1" strike="noStrike">
                <a:solidFill>
                  <a:srgbClr val="000000"/>
                </a:solidFill>
                <a:latin typeface="Trebuchet MS"/>
              </a:rPr>
              <a:t>θ</a:t>
            </a:r>
            <a:r>
              <a:rPr b="0" lang="en-US" sz="4000" spc="-1" strike="noStrike">
                <a:solidFill>
                  <a:srgbClr val="000000"/>
                </a:solidFill>
                <a:latin typeface="Trebuchet MS"/>
              </a:rPr>
              <a:t> r</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27˚ = 27</a:t>
            </a:r>
            <a:r>
              <a:rPr b="0" lang="el-GR" sz="4000" spc="-1" strike="noStrike">
                <a:solidFill>
                  <a:srgbClr val="000000"/>
                </a:solidFill>
                <a:latin typeface="Trebuchet MS"/>
              </a:rPr>
              <a:t> π </a:t>
            </a:r>
            <a:r>
              <a:rPr b="0" lang="en-US" sz="4000" spc="-1" strike="noStrike">
                <a:solidFill>
                  <a:srgbClr val="000000"/>
                </a:solidFill>
                <a:latin typeface="Trebuchet MS"/>
              </a:rPr>
              <a:t>/180 = 3</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½ *  3</a:t>
            </a:r>
            <a:r>
              <a:rPr b="0" lang="el-GR" sz="4000" spc="-1" strike="noStrike">
                <a:solidFill>
                  <a:srgbClr val="000000"/>
                </a:solidFill>
                <a:latin typeface="Trebuchet MS"/>
              </a:rPr>
              <a:t>π</a:t>
            </a:r>
            <a:r>
              <a:rPr b="0" lang="en-US" sz="4000" spc="-1" strike="noStrike">
                <a:solidFill>
                  <a:srgbClr val="000000"/>
                </a:solidFill>
                <a:latin typeface="Trebuchet MS"/>
              </a:rPr>
              <a:t>/20 * 10</a:t>
            </a:r>
            <a:r>
              <a:rPr b="0" lang="en-US" sz="4000" spc="-1" strike="noStrike" baseline="30000">
                <a:solidFill>
                  <a:srgbClr val="000000"/>
                </a:solidFill>
                <a:latin typeface="Trebuchet MS"/>
              </a:rPr>
              <a:t>2</a:t>
            </a:r>
            <a:r>
              <a:rPr b="0" lang="en-US" sz="4000" spc="-1" strike="noStrike">
                <a:solidFill>
                  <a:srgbClr val="000000"/>
                </a:solidFill>
                <a:latin typeface="Trebuchet MS"/>
              </a:rPr>
              <a:t>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150</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7.5</a:t>
            </a:r>
            <a:r>
              <a:rPr b="0" lang="el-GR" sz="4000" spc="-1" strike="noStrike">
                <a:solidFill>
                  <a:srgbClr val="000000"/>
                </a:solidFill>
                <a:latin typeface="Trebuchet MS"/>
              </a:rPr>
              <a:t>π</a:t>
            </a:r>
            <a:r>
              <a:rPr b="0" lang="en-US" sz="4000" spc="-1" strike="noStrike">
                <a:solidFill>
                  <a:srgbClr val="000000"/>
                </a:solidFill>
                <a:latin typeface="Trebuchet MS"/>
              </a:rPr>
              <a:t> ft</a:t>
            </a:r>
            <a:r>
              <a:rPr b="0" lang="en-US" sz="4000" spc="-1" strike="noStrike" baseline="30000">
                <a:solidFill>
                  <a:srgbClr val="000000"/>
                </a:solidFill>
                <a:latin typeface="Trebuchet MS"/>
              </a:rPr>
              <a:t>2 </a:t>
            </a:r>
            <a:r>
              <a:rPr b="0" lang="en-US" sz="4000" spc="-1" strike="noStrike">
                <a:solidFill>
                  <a:srgbClr val="000000"/>
                </a:solidFill>
                <a:latin typeface="Trebuchet MS"/>
              </a:rPr>
              <a:t>= 23.56 ft</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45" dur="2000"/>
                                        <p:tgtEl>
                                          <p:spTgt spid="227">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50" dur="2000"/>
                                        <p:tgtEl>
                                          <p:spTgt spid="22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55" dur="2000"/>
                                        <p:tgtEl>
                                          <p:spTgt spid="22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7">
                                            <p:txEl>
                                              <p:pRg st="4" end="4"/>
                                            </p:txEl>
                                          </p:spTgt>
                                        </p:tgtEl>
                                        <p:attrNameLst>
                                          <p:attrName>style.visibility</p:attrName>
                                        </p:attrNameLst>
                                      </p:cBhvr>
                                      <p:to>
                                        <p:strVal val="visible"/>
                                      </p:to>
                                    </p:set>
                                    <p:animEffect filter="fade" transition="in">
                                      <p:cBhvr additive="repl">
                                        <p:cTn id="60" dur="2000"/>
                                        <p:tgtEl>
                                          <p:spTgt spid="22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27">
                                            <p:txEl>
                                              <p:pRg st="5" end="5"/>
                                            </p:txEl>
                                          </p:spTgt>
                                        </p:tgtEl>
                                        <p:attrNameLst>
                                          <p:attrName>style.visibility</p:attrName>
                                        </p:attrNameLst>
                                      </p:cBhvr>
                                      <p:to>
                                        <p:strVal val="visible"/>
                                      </p:to>
                                    </p:set>
                                    <p:animEffect filter="fade" transition="in">
                                      <p:cBhvr additive="repl">
                                        <p:cTn id="65" dur="2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9080" y="-19080"/>
            <a:ext cx="7493040" cy="725400"/>
          </a:xfrm>
          <a:prstGeom prst="rect">
            <a:avLst/>
          </a:prstGeom>
          <a:ln w="0">
            <a:noFill/>
          </a:ln>
        </p:spPr>
      </p:pic>
      <p:sp>
        <p:nvSpPr>
          <p:cNvPr id="229" name=""/>
          <p:cNvSpPr txBox="1"/>
          <p:nvPr/>
        </p:nvSpPr>
        <p:spPr>
          <a:xfrm>
            <a:off x="0" y="838080"/>
            <a:ext cx="8153280" cy="56181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arth travels around the sun in an elliptical orbit, but one that is nearly circular with radius 93,000,000 miles.  Using the circular approximation, about how far does the Earth travel in a single day?  (use 365.25 days a yr)</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r</a:t>
            </a:r>
            <a:r>
              <a:rPr b="0" lang="el-GR" sz="3600" spc="-1" strike="noStrike">
                <a:solidFill>
                  <a:srgbClr val="000000"/>
                </a:solidFill>
                <a:latin typeface="Trebuchet MS"/>
              </a:rPr>
              <a:t>θ</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rebuchet MS"/>
              </a:rPr>
              <a:t>θ </a:t>
            </a:r>
            <a:r>
              <a:rPr b="0" lang="en-US" sz="3600" spc="-1" strike="noStrike">
                <a:solidFill>
                  <a:srgbClr val="000000"/>
                </a:solidFill>
                <a:latin typeface="Trebuchet MS"/>
              </a:rPr>
              <a:t>= 93000000 * 2</a:t>
            </a:r>
            <a:r>
              <a:rPr b="0" lang="el-GR" sz="3600" spc="-1" strike="noStrike">
                <a:solidFill>
                  <a:srgbClr val="000000"/>
                </a:solidFill>
                <a:latin typeface="Trebuchet MS"/>
              </a:rPr>
              <a:t>π</a:t>
            </a:r>
            <a:r>
              <a:rPr b="0" lang="en-US" sz="3600" spc="-1" strike="noStrike">
                <a:solidFill>
                  <a:srgbClr val="000000"/>
                </a:solidFill>
                <a:latin typeface="Trebuchet MS"/>
              </a:rPr>
              <a:t>/365.25</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1599782.76 ≈ 1,600,000 miles</a:t>
            </a:r>
            <a:endParaRPr b="0" lang="en-US" sz="3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 dur="2000"/>
                                        <p:tgtEl>
                                          <p:spTgt spid="229">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7" dur="2000"/>
                                        <p:tgtEl>
                                          <p:spTgt spid="229">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2"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Page 242 </a:t>
            </a:r>
            <a:endParaRPr b="0" lang="en-US" sz="88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1 – 4, 11 - 15</a:t>
            </a:r>
            <a:endParaRPr b="0" lang="en-US" sz="8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40:39Z</dcterms:created>
  <dc:creator>teacher</dc:creator>
  <dc:description/>
  <dc:language>en-US</dc:language>
  <cp:lastModifiedBy>teacher</cp:lastModifiedBy>
  <dcterms:modified xsi:type="dcterms:W3CDTF">2010-11-08T15:06:42Z</dcterms:modified>
  <cp:revision>2</cp:revision>
  <dc:subject/>
  <dc:title>Lengths of Arcs and Areas of Sectors</dc:title>
</cp:coreProperties>
</file>