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248-A5B8-49D7-B529-A54CA5A8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F3B-F2A5-48FD-BD8A-C34BE17A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D38-79D0-4484-8AA0-F25FEAEE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894E-68A9-4681-AD3C-F0595F74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903A-F292-453D-827A-5B93940E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4E9D-0B5A-4922-8C06-89EAFDCC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FF8A-BAD4-4B42-B8FF-C090A920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E851-262C-4A23-81ED-D2349C7B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F6AD-CD0F-4FB3-AD76-0C4E78FC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635A-10C5-4E81-9FFF-DF13770A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C97B-3188-4E99-8297-93D147C7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615-DB77-4D43-B406-35E751FF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F495-4FFB-4DD6-B921-436D9E24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4987-A191-4A69-97F2-D3F3F2D2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DACD-9740-4D63-A13A-631225C2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9190-1658-48FE-B6CB-1569893F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DA4C-19C2-4125-867E-0A715442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B9667-9AD9-401C-B29F-CD2AB9EB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4EF85-28F6-441C-AE11-9FC9A595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D80D7-B3E2-4588-B5AB-EEDE54D7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94779-F39E-4DF7-9EE1-BECF372C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E82A9-8411-4B33-AED6-DFD02619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087-E44E-463A-BB75-D3235F8A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187AB-DF40-43D6-92A4-D863E851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0D5F8-CD1D-406D-8FD1-06B8BF3C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598A0-3C59-4F68-8698-A312291F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B4F55-409A-42C5-A6BE-A448407D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ED812-113D-4E06-B154-483C056A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DD7EE-8221-41A9-B164-851722AF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01324-FA8C-4661-8F4D-843E5D63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A4F53-6E9F-4ED3-8243-9C191421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4D44F-1BDF-4158-AA9C-037F55DA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CF55F-D09F-4A39-8210-90F19F87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D7E-697F-405A-8CC8-F5E0EFAE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A74B6-AFE6-437A-BE7B-5A64BAA7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E6F6C-0C01-4AB0-B922-BE54B7B5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AD90C-5D8C-4E34-91A8-E45ED642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319D3-3657-44B5-A487-B2CECD42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FA207-69E7-4796-B686-9E5A6618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F755E-C39C-4DA3-80AD-308C62D0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42803-F024-4103-9F86-FE3D7B33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9A025-5251-4E81-8627-C138A43D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80DB4-29D0-4A78-9D1C-FBAECE8E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FC85F-CA2E-40BE-A2D4-5E41613E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FB5-52C3-4C85-BB8A-31B7189A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B3730-5519-45BB-8F2F-4DB316E9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87705-9255-4F0F-8715-53C0D62B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3E831-AE2B-4334-873B-713A9384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937FB-AB92-4AAC-ABD0-2E262C36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4D96E-AF0A-4118-98F0-F426E6DA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5E55B-DA42-4566-9CC2-B6F9E1EC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A0423-7582-42A5-9E6D-59C692E3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C1FE8-CFA1-4093-B286-C09F00B5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563C7-5401-4912-8AE6-1A4DE861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A8CD2-4945-4DA6-9C66-D489811A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7E8-BD82-4499-AB8F-ACAA5AE7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14C13-F921-4F2F-B49B-1753E2F6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058B4-AA18-4079-B7BD-919C02F8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B5BBE-2E3E-44CF-A91A-3912DE0E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D42BE-798D-4109-A998-5C062D30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187A3-CB0C-490E-97DA-2E157491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07198-77F2-42D9-9934-286B9C5A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D73D3-0E07-4787-AC09-228A4526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BB76B-2DC9-4228-9A00-A7A940E9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D9C65-70AC-4005-8D5E-20A629B5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E2E55-5CBC-43EA-B773-73ED30BB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20F-24ED-47AC-95BE-37501335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DB1F7-BCC1-4DAB-B625-720D8F86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7F756-C7A4-474C-9D65-0533C77A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EE59C-6EB0-405C-9142-33580987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95E-D5AB-4309-B75A-71067A0F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98DB-3C6E-42C6-91D8-7335A542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8439-BBBA-4614-8C9B-59EE5C5C3BD2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9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3281-B141-45DC-AD70-43565BEE488A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8B56-58F4-45FD-9B43-2364D420CB95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99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99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ccff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99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09A4-9E23-4BED-8D4F-3CFB46188367}" type="slidenum">
              <a:rPr b="0" lang="en-US" sz="1100" spc="-1" strike="noStrike">
                <a:solidFill>
                  <a:srgbClr val="cc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62FD-F4A1-4DB7-B1E3-7329BB156F04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66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d092a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d092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d092a7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cc66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99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60BD-6E2F-4EEF-A948-F2D67D826BF1}" type="slidenum">
              <a:rPr b="0" lang="en-US" sz="1100" spc="-1" strike="noStrike">
                <a:solidFill>
                  <a:srgbClr val="0099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esson 2.4</a:t>
            </a:r>
            <a:endParaRPr b="0" lang="en-US" sz="22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-244440" y="-6480"/>
            <a:ext cx="7493040" cy="944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0" y="121932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Prove that the graph of y = x + 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3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+ 2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5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s symmetric to the origin.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To prove, plug in –x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baseline="30000">
                <a:solidFill>
                  <a:srgbClr val="290029"/>
                </a:solidFill>
                <a:latin typeface="Trebuchet MS"/>
              </a:rPr>
              <a:t>-</a:t>
            </a:r>
            <a:r>
              <a:rPr b="1" lang="en-US" sz="2900" spc="-1" strike="noStrike">
                <a:solidFill>
                  <a:srgbClr val="290029"/>
                </a:solidFill>
                <a:latin typeface="Trebuchet MS"/>
              </a:rPr>
              <a:t> if the equation is completely opposite – odd</a:t>
            </a:r>
            <a:endParaRPr b="0" lang="en-US" sz="2900" spc="-1" strike="noStrike">
              <a:solidFill>
                <a:srgbClr val="d58cff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d092a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290029"/>
                </a:solidFill>
                <a:latin typeface="Trebuchet MS"/>
              </a:rPr>
              <a:t>if the equation is exactly the same - even</a:t>
            </a:r>
            <a:endParaRPr b="0" lang="en-US" sz="2900" spc="-1" strike="noStrike">
              <a:solidFill>
                <a:srgbClr val="d58c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y = (-x) + (-x)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3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+ 2(-x)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5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y = -x – 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3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– 2x</a:t>
            </a:r>
            <a:r>
              <a:rPr b="1" lang="en-US" sz="3200" spc="-1" strike="noStrike" baseline="30000">
                <a:solidFill>
                  <a:srgbClr val="290029"/>
                </a:solidFill>
                <a:latin typeface="Trebuchet MS"/>
              </a:rPr>
              <a:t>5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Since exactly the opposite – odd!!!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rebuchet MS"/>
              </a:rPr>
              <a:t>Pages 102 – 103</a:t>
            </a:r>
            <a:endParaRPr b="0" lang="en-US" sz="80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Trebuchet MS"/>
              </a:rPr>
              <a:t>2 – 28 evens!</a:t>
            </a:r>
            <a:endParaRPr b="0" lang="en-US" sz="80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Describe the end behavior of a function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Analyze a function from its graph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End behavior: A description of what happens to the values f(x) of a function f as x </a:t>
            </a:r>
            <a:r>
              <a:rPr b="0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rebuchet MS"/>
              </a:rPr>
              <a:t>∞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and as  x </a:t>
            </a:r>
            <a:r>
              <a:rPr b="0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-</a:t>
            </a:r>
            <a:r>
              <a:rPr b="1" lang="en-US" sz="3200" spc="-1" strike="noStrike">
                <a:solidFill>
                  <a:srgbClr val="660066"/>
                </a:solidFill>
                <a:latin typeface="Trebuchet MS"/>
              </a:rPr>
              <a:t>∞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Asymptote: a line that the graph of a function y = f(x) approaches as the variable x approaches a fixed value or increases or decreases without bound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696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The behavior of a function as x </a:t>
            </a:r>
            <a:r>
              <a:rPr b="1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∞ 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or as      x </a:t>
            </a:r>
            <a:r>
              <a:rPr b="1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 -∞ falls into 1 of 3 categories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1. Values approach real number L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2. The values of f(x) increase or decrease without bound; that is f(x) </a:t>
            </a:r>
            <a:r>
              <a:rPr b="1" lang="en-US" sz="26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rebuchet MS"/>
              </a:rPr>
              <a:t>∞</a:t>
            </a:r>
            <a:r>
              <a:rPr b="1" lang="en-US" sz="2800" spc="-1" strike="noStrike">
                <a:solidFill>
                  <a:srgbClr val="660066"/>
                </a:solidFill>
                <a:latin typeface="Trebuchet MS"/>
              </a:rPr>
              <a:t> or f(x) </a:t>
            </a:r>
            <a:r>
              <a:rPr b="1" lang="en-US" sz="28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660066"/>
                </a:solidFill>
                <a:latin typeface="Trebuchet MS"/>
              </a:rPr>
              <a:t> - </a:t>
            </a:r>
            <a:r>
              <a:rPr b="1" lang="en-US" sz="4000" spc="-1" strike="noStrike">
                <a:solidFill>
                  <a:srgbClr val="660066"/>
                </a:solidFill>
                <a:latin typeface="Trebuchet MS"/>
              </a:rPr>
              <a:t>∞</a:t>
            </a:r>
            <a:endParaRPr b="0" lang="en-US" sz="40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Trebuchet MS"/>
              </a:rPr>
              <a:t>3. The values of f(x) follow neither 1 or 2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-212760" y="35388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= </a:t>
            </a:r>
            <a:r>
              <a:rPr b="1" lang="en-US" sz="11500" spc="-1" strike="noStrike">
                <a:solidFill>
                  <a:srgbClr val="660066"/>
                </a:solidFill>
                <a:latin typeface="Trebuchet MS"/>
              </a:rPr>
              <a:t>∞</a:t>
            </a:r>
            <a:r>
              <a:rPr b="0" lang="en-US" sz="4400" spc="-1" strike="noStrike">
                <a:solidFill>
                  <a:srgbClr val="cc66f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= </a:t>
            </a:r>
            <a:r>
              <a:rPr b="1" lang="en-US" sz="6600" spc="-1" strike="noStrike">
                <a:solidFill>
                  <a:srgbClr val="660066"/>
                </a:solidFill>
                <a:latin typeface="Trebuchet MS"/>
              </a:rPr>
              <a:t>0</a:t>
            </a:r>
            <a:endParaRPr b="0" lang="en-US" sz="6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rebuchet MS"/>
              </a:rPr>
              <a:t>Write the line of the horizontal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 asymptote.</a:t>
            </a:r>
            <a:endParaRPr b="0" lang="en-US" sz="24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rebuchet MS"/>
              </a:rPr>
              <a:t>y = 0</a:t>
            </a:r>
            <a:endParaRPr b="0" lang="en-US" sz="2400" spc="-1" strike="noStrike">
              <a:solidFill>
                <a:srgbClr val="cc66ff"/>
              </a:solidFill>
              <a:latin typeface="Trebuchet MS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75" name="Picture 1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1905120" cy="11365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0" y="809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2322360" cy="11811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4"/>
          <a:srcRect l="22655" t="6250" r="55472" b="70989"/>
          <a:stretch/>
        </p:blipFill>
        <p:spPr>
          <a:xfrm>
            <a:off x="4267080" y="990720"/>
            <a:ext cx="4876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133200" y="-6480"/>
            <a:ext cx="7493040" cy="792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8377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ff"/>
                </a:solidFill>
                <a:latin typeface="Trebuchet MS"/>
              </a:rPr>
              <a:t>For example, cosine and sine functions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5391000" cy="33148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3"/>
          <a:stretch/>
        </p:blipFill>
        <p:spPr>
          <a:xfrm>
            <a:off x="685800" y="5029200"/>
            <a:ext cx="2467080" cy="8002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5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3534120" y="502920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DNE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89" name="Picture 6" descr=""/>
          <p:cNvPicPr/>
          <p:nvPr/>
        </p:nvPicPr>
        <p:blipFill>
          <a:blip r:embed="rId4"/>
          <a:stretch/>
        </p:blipFill>
        <p:spPr>
          <a:xfrm>
            <a:off x="762120" y="5981760"/>
            <a:ext cx="2438280" cy="8762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8"/>
          <p:cNvSpPr/>
          <p:nvPr/>
        </p:nvSpPr>
        <p:spPr>
          <a:xfrm>
            <a:off x="0" y="102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3686760" y="601992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DNE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ff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Probability of rolling an 8 with two dice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As the limit approaches </a:t>
            </a:r>
            <a:r>
              <a:rPr b="1" lang="en-US" sz="3600" spc="-1" strike="noStrike">
                <a:solidFill>
                  <a:srgbClr val="660066"/>
                </a:solidFill>
                <a:latin typeface="Trebuchet MS"/>
              </a:rPr>
              <a:t>∞, </a:t>
            </a:r>
            <a:r>
              <a:rPr b="0" lang="en-US" sz="2600" spc="-1" strike="noStrike">
                <a:solidFill>
                  <a:srgbClr val="660066"/>
                </a:solidFill>
                <a:latin typeface="Trebuchet MS"/>
              </a:rPr>
              <a:t>it is approaching its theoretical probability, (14%).</a:t>
            </a:r>
            <a:endParaRPr b="0" lang="en-US" sz="2600" spc="-1" strike="noStrike">
              <a:solidFill>
                <a:srgbClr val="cc66ff"/>
              </a:solidFill>
              <a:latin typeface="Trebuchet MS"/>
            </a:endParaRPr>
          </a:p>
        </p:txBody>
      </p:sp>
      <p:pic>
        <p:nvPicPr>
          <p:cNvPr id="294" name="Content Placeholder 3" descr="Picture1.gif"/>
          <p:cNvPicPr/>
          <p:nvPr/>
        </p:nvPicPr>
        <p:blipFill>
          <a:blip r:embed="rId2"/>
          <a:stretch/>
        </p:blipFill>
        <p:spPr>
          <a:xfrm>
            <a:off x="1219320" y="3340080"/>
            <a:ext cx="536724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-6480" y="-23760"/>
            <a:ext cx="7871040" cy="11761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A function 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f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s an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even function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f 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for all values of 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x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 in the domain of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f.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Example:                             </a:t>
            </a: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is </a:t>
            </a:r>
            <a:r>
              <a:rPr b="1" i="1" lang="en-US" sz="3200" spc="-1" strike="noStrike">
                <a:solidFill>
                  <a:srgbClr val="290029"/>
                </a:solidFill>
                <a:latin typeface="Trebuchet MS"/>
              </a:rPr>
              <a:t>even 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0029"/>
                </a:solidFill>
                <a:latin typeface="Trebuchet MS"/>
              </a:rPr>
              <a:t>because </a:t>
            </a:r>
            <a:endParaRPr b="0" lang="en-US" sz="3200" spc="-1" strike="noStrike">
              <a:solidFill>
                <a:srgbClr val="cc66ff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2514600" y="3581280"/>
                <a:ext cx="2209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2514600" y="4495680"/>
                <a:ext cx="1824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4"/>
              <p:cNvSpPr txBox="1"/>
              <p:nvPr/>
            </p:nvSpPr>
            <p:spPr>
              <a:xfrm>
                <a:off x="1247760" y="5181480"/>
                <a:ext cx="4761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Arial"/>
              </a:rPr>
              <a:t>Odd functions – symmetric to the origin!</a:t>
            </a:r>
            <a:endParaRPr b="0" lang="en-US" sz="44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A function 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f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 is an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odd 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function if 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for all values of 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 in the domain of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f.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Example:                           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is </a:t>
            </a:r>
            <a:r>
              <a:rPr b="1" i="1" lang="en-US" sz="3600" spc="-1" strike="noStrike">
                <a:solidFill>
                  <a:srgbClr val="290029"/>
                </a:solidFill>
                <a:latin typeface="Arial"/>
              </a:rPr>
              <a:t>odd </a:t>
            </a:r>
            <a:r>
              <a:rPr b="1" lang="en-US" sz="3600" spc="-1" strike="noStrike">
                <a:solidFill>
                  <a:srgbClr val="290029"/>
                </a:solidFill>
                <a:latin typeface="Arial"/>
              </a:rPr>
              <a:t>because </a:t>
            </a:r>
            <a:endParaRPr b="0" lang="en-US" sz="3600" spc="-1" strike="noStrike">
              <a:solidFill>
                <a:srgbClr val="cc66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2"/>
              <p:cNvSpPr txBox="1"/>
              <p:nvPr/>
            </p:nvSpPr>
            <p:spPr>
              <a:xfrm>
                <a:off x="2971800" y="2362320"/>
                <a:ext cx="24354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2743200" y="4267080"/>
                <a:ext cx="2390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0" y="5486400"/>
                <a:ext cx="83836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4:03:08Z</dcterms:created>
  <dc:creator>teacher</dc:creator>
  <dc:description/>
  <dc:language>en-US</dc:language>
  <cp:lastModifiedBy>lockwood laura</cp:lastModifiedBy>
  <dcterms:modified xsi:type="dcterms:W3CDTF">2013-09-19T17:23:27Z</dcterms:modified>
  <cp:revision>12</cp:revision>
  <dc:subject/>
  <dc:title>End Behavior of Functions</dc:title>
</cp:coreProperties>
</file>