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642-1F9F-4405-B58B-2F8729FE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738-64C4-49A0-B017-1239C468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5AF-B49E-40CD-A62C-3D453C88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D1C-F778-4416-8D2F-EB9A71F9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D0DC-0509-4EA3-8D60-7243292F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7F46-9836-4689-ADAB-C57ED27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DB62-F605-49E8-8B9D-41B1DEE1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5225-CBC3-481B-B9A4-D4D0436F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5645-A24F-4225-B4DC-DB20EBFD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51B9-DAA6-4E81-A107-147DA784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7F07-D7C2-4C68-A044-CB7F42D4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9B7-9407-42FA-98EB-2AD78D83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3278-DB35-47B3-8B16-63C03C50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2401-5DD2-4D6C-B4AE-78D6FC36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E353-C81F-428D-A587-3D86087E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6F98-EC42-4B86-A198-CA8295C7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82E3-48A3-4C88-B176-0F62C66E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C860C-15A2-4A85-9180-CAE0D372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D2200-D5A4-469E-A0AD-CB09FB91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087A4-6C2A-4F4F-BD8E-16F1B91C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35163-ADD9-4760-9105-2C20C27D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0CE1-E1BA-44B3-AD0A-A0E30798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690-3587-419A-B37A-28B242A0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58527-2BC7-411A-BD2A-530F6FD3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CAF7-ED49-4B3A-ACFF-0D6B33A3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7404-4AA6-43FB-9FB4-85681C1B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B2A8D-B86A-46C7-A2F3-D9357035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BEC0-3FA8-44AC-9B2D-E3FC8665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426A8-FDB6-42F4-9634-5BDBE45E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2EBA-B4AE-4F5A-9FB4-6B839271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99D21-748E-4008-AC98-96317917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DAFF7-4917-4899-8840-9A2B7A07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D213D-83DA-4719-9F51-B43F7617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5C6-93D8-46CD-800F-BD66BB37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FC228-A300-42F9-9724-64C8B26F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AD37-D7AE-4261-AB3E-4141F98F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F00D4-562B-492D-BDFC-871A6DF9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F8916-446B-4C7E-A8F1-26E293E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AEA14-0D17-4134-BC94-700E010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3D29D-DF6F-4C91-BE53-68E54683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BB2A0-F4CA-4171-B748-39DD54EA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DC59-3E97-4D2F-81F5-337599F2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E7BA-0D95-45F4-9755-51F9B890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1E7E0-4B0A-4678-89AE-2C9DF3B9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0747-082C-44E2-9448-875CB49C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46ABC-137F-4DFE-A97E-FB32FB29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E130E-1C35-4B90-870F-CF0D50F2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62BE9-B66E-43C6-BBF7-B441B561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FAB94-B1D2-4D8A-B487-FD6D681A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A7396-B57F-49F9-AED8-58E06219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8E25A-3135-4C59-B5ED-96E6D2DC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6C6D8-E639-4BF4-A95E-AD80C5C7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E7B6-A034-4981-B19F-C6D9D962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BD638-109C-467B-BE68-4B6D3F15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26DD8-FB40-4776-89E4-49834914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417-7CA8-494F-A557-ACC4F7CA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6BF1E-828C-4EC5-B428-95A31F17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9B0D7-FA91-49FF-89D8-61394D85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97CC4-1EF0-4BED-9204-98C00F80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375EB-4479-417C-845B-26CE783C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94187-B08D-4A59-9A3A-DC547D5D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A1AEF-4BAC-455A-AF60-DFD3AFD3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26976-486F-4BBC-80BE-98AE7F26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9CCCE-B85F-45A4-8304-6A7F943B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7585E-0DBA-4250-B7AD-B55B07DC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E6F64-6CF6-42F1-955C-62ABED51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975-FE0C-4A2E-BE02-B15172BC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2562A-31E8-442B-98CE-F1CC58CD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58FAD-BE77-4D5E-A5EB-BB28D6FF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13CE2-0A7D-4E74-AF5B-D321E3BF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1B8-FC3C-406D-A205-43C1AAA8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51A-AC86-49B9-A557-8110FF50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D825-83C4-4DB4-90C6-CED52D1CACBB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9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E67C-B7C5-404D-BB00-A0EF978A62DB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595D-4EE8-4045-BE9F-C6E5218A3042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9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99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ff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ED6D-C9E0-4B88-B800-46142C2A79D5}" type="slidenum">
              <a:rPr b="0" lang="en-US" sz="1100" spc="-1" strike="noStrike">
                <a:solidFill>
                  <a:srgbClr val="cc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94EB-03CD-48DB-8B77-20FDA5A8C1F2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1244-866D-4B2A-950A-C15EAE8C964B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2.4</a:t>
            </a:r>
            <a:endParaRPr b="0" lang="en-US" sz="22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-244440" y="-6480"/>
            <a:ext cx="7493040" cy="944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0" y="121932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Prove that the graph of y = x + 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+ 2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s symmetric to the origin.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To prove, plug in –x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baseline="30000">
                <a:solidFill>
                  <a:srgbClr val="290029"/>
                </a:solidFill>
                <a:latin typeface="Trebuchet MS"/>
              </a:rPr>
              <a:t>-</a:t>
            </a:r>
            <a:r>
              <a:rPr b="1" lang="en-US" sz="2900" spc="-1" strike="noStrike">
                <a:solidFill>
                  <a:srgbClr val="290029"/>
                </a:solidFill>
                <a:latin typeface="Trebuchet MS"/>
              </a:rPr>
              <a:t> if the equation is completely opposite – odd</a:t>
            </a:r>
            <a:endParaRPr b="0" lang="en-US" sz="2900" spc="-1" strike="noStrike">
              <a:solidFill>
                <a:srgbClr val="d58cf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90029"/>
                </a:solidFill>
                <a:latin typeface="Trebuchet MS"/>
              </a:rPr>
              <a:t>if the equation is exactly the same - even</a:t>
            </a:r>
            <a:endParaRPr b="0" lang="en-US" sz="2900" spc="-1" strike="noStrike">
              <a:solidFill>
                <a:srgbClr val="d58c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y = (-x) + (-x)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+ 2(-x)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y = -x – 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– 2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Since exactly the opposite – odd!!!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rebuchet MS"/>
              </a:rPr>
              <a:t>Pages 102 – 103</a:t>
            </a:r>
            <a:endParaRPr b="0" lang="en-US" sz="80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rebuchet MS"/>
              </a:rPr>
              <a:t>2 – 28 evens!</a:t>
            </a:r>
            <a:endParaRPr b="0" lang="en-US" sz="80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Describe the end behavior of a function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Analyze a function from its graph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End behavior: A description of what happens to the values f(x) of a function f as x </a:t>
            </a:r>
            <a:r>
              <a:rPr b="0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and as  x </a:t>
            </a:r>
            <a:r>
              <a:rPr b="0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-</a:t>
            </a:r>
            <a:r>
              <a:rPr b="1" lang="en-US" sz="3200" spc="-1" strike="noStrike">
                <a:solidFill>
                  <a:srgbClr val="660066"/>
                </a:solidFill>
                <a:latin typeface="Trebuchet MS"/>
              </a:rPr>
              <a:t>∞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Asymptote: a line that the graph of a function y = f(x) approaches as the variable x approaches a fixed value or increases or decreases without bound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The behavior of a function as x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∞ 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or as      x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-∞ falls into 1 of 3 categories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1. Values approach real number 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2. The values of f(x) increase or decrease without bound; that is f(x)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1" lang="en-US" sz="2800" spc="-1" strike="noStrike">
                <a:solidFill>
                  <a:srgbClr val="660066"/>
                </a:solidFill>
                <a:latin typeface="Trebuchet MS"/>
              </a:rPr>
              <a:t> or f(x) </a:t>
            </a:r>
            <a:r>
              <a:rPr b="1" lang="en-US" sz="2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660066"/>
                </a:solidFill>
                <a:latin typeface="Trebuchet MS"/>
              </a:rPr>
              <a:t> - </a:t>
            </a:r>
            <a:r>
              <a:rPr b="1" lang="en-US" sz="4000" spc="-1" strike="noStrike">
                <a:solidFill>
                  <a:srgbClr val="660066"/>
                </a:solidFill>
                <a:latin typeface="Trebuchet MS"/>
              </a:rPr>
              <a:t>∞</a:t>
            </a:r>
            <a:endParaRPr b="0" lang="en-US" sz="40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3. The values of f(x) follow neither 1 or 2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-212760" y="35388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= </a:t>
            </a:r>
            <a:r>
              <a:rPr b="1" lang="en-US" sz="115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0" lang="en-US" sz="4400" spc="-1" strike="noStrike">
                <a:solidFill>
                  <a:srgbClr val="cc66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= </a:t>
            </a:r>
            <a:r>
              <a:rPr b="1" lang="en-US" sz="6600" spc="-1" strike="noStrike">
                <a:solidFill>
                  <a:srgbClr val="660066"/>
                </a:solidFill>
                <a:latin typeface="Trebuchet MS"/>
              </a:rPr>
              <a:t>0</a:t>
            </a:r>
            <a:endParaRPr b="0" lang="en-US" sz="6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rebuchet MS"/>
              </a:rPr>
              <a:t>Write the line of the horizontal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 asymptote.</a:t>
            </a:r>
            <a:endParaRPr b="0" lang="en-US" sz="24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y = 0</a:t>
            </a:r>
            <a:endParaRPr b="0" lang="en-US" sz="24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1905120" cy="1136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0" y="809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322360" cy="11811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4"/>
          <a:srcRect l="22655" t="6250" r="55472" b="70989"/>
          <a:stretch/>
        </p:blipFill>
        <p:spPr>
          <a:xfrm>
            <a:off x="4267080" y="990720"/>
            <a:ext cx="4876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7493040" cy="792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8377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r example, cosine and sine functions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5391000" cy="3314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2467080" cy="8002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3534120" y="502920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DNE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4"/>
          <a:stretch/>
        </p:blipFill>
        <p:spPr>
          <a:xfrm>
            <a:off x="762120" y="5981760"/>
            <a:ext cx="2438280" cy="8762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3686760" y="60199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DNE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Probability of rolling an 8 with two dice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As the limit approaches </a:t>
            </a: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∞, 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it is approaching its theoretical probability, (14%)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pic>
        <p:nvPicPr>
          <p:cNvPr id="294" name="Content Placeholder 3" descr="Picture1.gif"/>
          <p:cNvPicPr/>
          <p:nvPr/>
        </p:nvPicPr>
        <p:blipFill>
          <a:blip r:embed="rId2"/>
          <a:stretch/>
        </p:blipFill>
        <p:spPr>
          <a:xfrm>
            <a:off x="1219320" y="3340080"/>
            <a:ext cx="53672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-6480" y="-23760"/>
            <a:ext cx="7871040" cy="11761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A function 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f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s an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ven function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f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for all values of 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x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n the domain of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f.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xample:                             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is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ven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because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2514600" y="3581280"/>
                <a:ext cx="2209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2514600" y="4495680"/>
                <a:ext cx="182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1247760" y="5181480"/>
                <a:ext cx="4761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Odd functions – symmetric to the origin!</a:t>
            </a:r>
            <a:endParaRPr b="0" lang="en-US" sz="44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A function 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f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 is an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odd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function if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for all values of 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 in the domain of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Example:                          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odd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because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2971800" y="2362320"/>
                <a:ext cx="24354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2743200" y="4267080"/>
                <a:ext cx="239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0" y="5486400"/>
                <a:ext cx="83836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4:03:08Z</dcterms:created>
  <dc:creator>teacher</dc:creator>
  <dc:description/>
  <dc:language>en-US</dc:language>
  <cp:lastModifiedBy>lockwood laura</cp:lastModifiedBy>
  <dcterms:modified xsi:type="dcterms:W3CDTF">2013-09-19T17:23:27Z</dcterms:modified>
  <cp:revision>12</cp:revision>
  <dc:subject/>
  <dc:title>End Behavior of Functions</dc:title>
</cp:coreProperties>
</file>