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10E-62F6-483B-A3C9-DEA25B11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DD7-F7FA-48CE-919F-5FAFFDE6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192-8447-429D-9CCD-00E1E7B0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C56-D677-40F9-86A4-99C47106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77F9-109D-476F-B046-00E5E3B8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FDC1-ED97-4209-ADCB-998CF688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BB80-BDC4-4DD9-A8CB-81170BC2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B2A3-4C0F-4966-BF84-0DD7E20B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32EE-224F-4555-A797-393D8C98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260C-AA8B-4845-B5F9-1D59EC1A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8A53-C93A-4D98-ADF6-085FD9BE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367-91E0-4F77-ABCE-23FE7C9D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4CD1-9016-4D18-8D7B-4E6D878C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7E91-84AE-44B0-B3DB-653DFD4D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F521-EDDD-420B-B15C-EB9E8FE2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E615-D41E-491A-9FB8-3F6FEBDA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E3A8-CD63-4638-A577-076CEAEE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687C-D6DB-4983-892D-439B9D3A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48E3-C060-4558-8DCD-99BB9FA5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F9CE-BA6D-4EA8-91BB-9D925570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00FA-EDC4-4C63-8680-00EB56E9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C89E-9318-4308-AA13-23854896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165-A7CB-45AB-B262-97139F5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EED2-37AE-458B-97CA-6AFC7DF8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7551-6455-47E2-BFF0-183030BD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664EB-52AF-4AD5-8F72-AA2E07F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B7F5-C8D5-4B38-BE3F-6F121614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A15E-66EA-422F-8BEA-658331AA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1772-6FFA-4C24-89EA-0B4CCEBC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19C3-CCF7-4014-A61C-EDC9284A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2609-7404-4466-8AB3-30DA6151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FC69-16AA-4201-A1C9-A6593230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67403-CF9D-4814-85D1-A70409AC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513-3CBD-456F-8EE2-1DC6BED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E91B-5EF8-401C-AB83-BE4A41C7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8B5B-0A86-4949-A8CC-B0A1332F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4702-72C9-4674-A0BE-805095A7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7FCC-6B99-494F-8A59-C5DCAC1C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77D1-8349-4253-9E5F-16FE51D0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F35A-3351-4B06-84F7-3F078587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39C2-D7CF-44F0-8DBE-11E54ABB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59643-9B0D-4A84-A941-9AE0A443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301C-C7D5-41DF-B90A-D108F908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92A49-C373-4290-A092-A91E7737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FA6-5E7D-4D01-AB82-C692B2EE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9A15-5B6C-49F9-90F8-B42A37AB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BA8D-0802-4F81-A71E-C61EF1BA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216D-F862-4E3B-8EBD-14E4E51A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1E6EB-1E80-4A31-A6E4-B9469C6A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61D45-99AE-4C40-B171-B03D5B6E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7F11B-EBAD-43CE-A2EF-E99649D4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7BDD1-A0B6-4B86-AB34-AE0A49D7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1809-6F18-4079-8F0D-DD4E3D6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C47E7-45AF-44E3-B3A4-80DD4D2A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98C72-E431-42BD-861B-97B38B12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BB5-40A6-4C2F-B577-CD5FA8E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6A6A-6D50-4D2E-9275-6D3885E4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79D1F-D43A-4FA3-B455-BD270AC0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9C8CE-3B0F-46DF-8799-A695BBC5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D6B11-4908-4DAB-A330-292F32FE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17CA7-7178-433B-A73A-305F8B8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289E8-03A0-4F52-82C8-4A07794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E4AA-AA04-4DBE-A01B-22169B0C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927CA-1EDA-4BCB-8D98-D1212F8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9F518-51C2-4B82-8A95-18074222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9486C-B616-411C-9146-04203A62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879-CDA3-4A9E-AB82-D5995F89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94EF8-0E38-4F61-9533-6F5E3236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CB386-B09C-4275-B75D-ABEAD6F3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075F6-358F-461F-B73E-7303CE46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101-1F84-4DFA-A16C-99896168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D1F-AF6E-4DF2-B300-2767A6CD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FB1F-16E8-46A4-B738-2AEF651623E0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9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2D82-EFC1-4BC0-8DD7-E548AD58CB60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AFCA-AE61-47C9-89FC-9FAB3F478804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9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ff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D3D4-6590-486D-852F-81E61A7D9D55}" type="slidenum">
              <a:rPr b="0" lang="en-US" sz="1100" spc="-1" strike="noStrike">
                <a:solidFill>
                  <a:srgbClr val="cc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8B7D-AB88-4487-A815-8CF6E7696C49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5EBF-FEB2-4E3B-AF80-D9809B5B8875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4</a:t>
            </a:r>
            <a:endParaRPr b="0" lang="en-US" sz="2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-244440" y="-6480"/>
            <a:ext cx="7493040" cy="944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21932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Prove that the graph of y = x +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symmetric to the origin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To prove, plug in –x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baseline="30000">
                <a:solidFill>
                  <a:srgbClr val="290029"/>
                </a:solidFill>
                <a:latin typeface="Trebuchet MS"/>
              </a:rPr>
              <a:t>-</a:t>
            </a: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 if the equation is completely opposite – odd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if the equation is exactly the same - even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(-x) + 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-x –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–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Since exactly the opposite – odd!!!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Pages 102 – 103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2 – 28 evens!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Describe the end behavior of a function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Analyze a function from its graph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End behavior: A description of what happens to the values f(x) of a function f as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and as 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-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ymptote: a line that the graph of a function y = f(x) approaches as the variable x approaches a fixed value or increases or decreases without bound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The behavior of a function as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 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or as     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-∞ falls into 1 of 3 categories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1. Values approach real number 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2. The values of f(x) increase or decrease without bound; that is f(x)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or f(x) </a:t>
            </a:r>
            <a:r>
              <a:rPr b="1" lang="en-US" sz="2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-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40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3. The values of f(x) follow neither 1 or 2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-212760" y="35388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115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4400" spc="-1" strike="noStrike">
                <a:solidFill>
                  <a:srgbClr val="cc66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6600" spc="-1" strike="noStrike">
                <a:solidFill>
                  <a:srgbClr val="660066"/>
                </a:solidFill>
                <a:latin typeface="Trebuchet MS"/>
              </a:rPr>
              <a:t>0</a:t>
            </a: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rebuchet MS"/>
              </a:rPr>
              <a:t>Write the line of the horizontal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 asymptote.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y = 0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905120" cy="1136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0" y="809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322360" cy="1181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4"/>
          <a:srcRect l="22655" t="6250" r="55472" b="70989"/>
          <a:stretch/>
        </p:blipFill>
        <p:spPr>
          <a:xfrm>
            <a:off x="4267080" y="9907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7493040" cy="792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8377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r example, cosine and sine functions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5391000" cy="3314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2467080" cy="8002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3534120" y="50292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4"/>
          <a:stretch/>
        </p:blipFill>
        <p:spPr>
          <a:xfrm>
            <a:off x="762120" y="5981760"/>
            <a:ext cx="2438280" cy="876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686760" y="60199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Probability of rolling an 8 with two dice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 the limit approaches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,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it is approaching its theoretical probability, (14%)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94" name="Content Placeholder 3" descr="Picture1.gif"/>
          <p:cNvPicPr/>
          <p:nvPr/>
        </p:nvPicPr>
        <p:blipFill>
          <a:blip r:embed="rId2"/>
          <a:stretch/>
        </p:blipFill>
        <p:spPr>
          <a:xfrm>
            <a:off x="1219320" y="3340080"/>
            <a:ext cx="53672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7871040" cy="11761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A function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an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function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f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for all values of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x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n the domain of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xample:                            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is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because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514600" y="35812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2514600" y="4495680"/>
                <a:ext cx="182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247760" y="5181480"/>
                <a:ext cx="4761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Odd functions – symmetric to the origin!</a:t>
            </a:r>
            <a:endParaRPr b="0" lang="en-US" sz="44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A function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s an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unction if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or all values of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n the domain of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Example:                          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because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971800" y="2362320"/>
                <a:ext cx="2435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2743200" y="4267080"/>
                <a:ext cx="239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0" y="5486400"/>
                <a:ext cx="83836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03:08Z</dcterms:created>
  <dc:creator>teacher</dc:creator>
  <dc:description/>
  <dc:language>en-US</dc:language>
  <cp:lastModifiedBy>lockwood laura</cp:lastModifiedBy>
  <dcterms:modified xsi:type="dcterms:W3CDTF">2013-09-19T17:23:27Z</dcterms:modified>
  <cp:revision>12</cp:revision>
  <dc:subject/>
  <dc:title>End Behavior of Functions</dc:title>
</cp:coreProperties>
</file>