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D33E-0B41-450E-BF55-358D6335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2D9-F9AC-491A-AD1B-F26C324E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0B2A-3938-4C17-8621-D0D45FFC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524-E080-4EC5-AD9C-EF99129F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BA1E-E61A-4403-A96B-8F097C4F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8DEE-D40D-48D5-B2FB-6A17FA4D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72E8-8247-4A0A-927A-7B99F8F6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0748-7FC8-4EBA-AF47-E1483016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0F0B-6B23-4B84-A456-662F7821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F7E3-9695-403E-A8F3-9C455184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A8B8-B87B-4BA0-AA97-15D1D21B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6CA3-7AC7-4513-89BB-97D849D5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AC54-D9FF-41D8-92A5-7B577F0B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0C20-E5E8-44DE-BBD0-9493D132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FFF6-7867-4287-BD36-5D15BAE6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4F5D-E4FE-475D-B81C-2990DFC2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6965-C454-4307-9AD4-023583D7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288DB-29CD-4838-B861-1D973899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89948-8DA2-453A-A60B-02591AF4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0A15B-FACC-4746-9B2D-2A335034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454E0-BFCE-416A-8F94-D41536CE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5D396-6604-4A81-9761-A19D43A8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5AC-3450-439D-AC0D-7823F936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519D4-C809-4967-B371-B43979D0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37BB9-95CE-4218-B17D-892F9BC5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6898E-D5A3-4503-9A73-2BA388BC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C303D-BFDB-4837-9656-819994DD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7F9F8-518C-48B1-8AB8-5D25BCD0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E6081-F0F9-4F16-B01B-8901D9B2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4848F-6DD6-4076-B56D-220FD4DD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70850-5609-4AAE-AF08-F1E592ED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9B083-6793-4683-8AE9-5EF6CF57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EF4A1-97B6-4168-A730-8FBCA44E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710-C3D5-436A-A5E7-6D94806E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8972A-1D7C-4DA7-8380-5D519F03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529D4-1E82-41D8-AC5C-785DD418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E8978-795C-4193-A43D-B65484AB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E36CD-BB80-4114-B5B6-83820CDD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C6DE4-AFD4-4D2A-A427-3CFA7833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4380E-E088-4FB9-9A42-72BD396A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E3155-4368-4EB5-A187-7AD0E592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24C9E-24B8-4816-BD6A-449EE934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07296-43A6-456D-9245-04BCFAAD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1C84D-24F9-462C-8180-83AB89B2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0BE-FD2E-4BDE-BEAE-32486D08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39EF1-2F15-4B91-BC4F-4BC98741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8661B-F643-48B8-A945-7C051E31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5F1E9-7266-41AA-9573-C12D7C0F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969C8-5A52-402F-B886-78E62A4B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94087-3C43-4FED-9EBC-FFDAFA1C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EE5D5-DBA9-4DFB-85B1-9F4A3749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2F334-884F-4D73-BFB8-6D71AC02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85054-1905-486C-85C8-296B5FCA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AAD16-E4EF-40FD-882F-4AA7568F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C37FA-8537-46AC-935A-7F27E998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B1B-7194-4999-B10D-167EFC1B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EC8A3-E793-4937-99F4-1CA83D09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63B94-0F4D-47CF-B6E0-F441C565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4CD1F-F082-4BF6-BAA7-C4CD3B45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AAF4A-1BAF-483C-9661-862DC5B4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0672D-6701-4D22-B3C2-D06DF4CF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78746-D570-4156-9AD9-FA542042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AFE7D-2CD2-4955-B801-4F1B1905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20F3D-3CF6-4091-BEAA-5AEE1A07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261F3-A2DC-48B0-824D-A965698F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E065E-A482-4E81-97FB-4B9A6937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724B-1092-46F9-B96F-E7D7178B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A3DB7-411B-46A5-B7B3-773E1B9D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41272-591B-4F64-8807-10F6A63A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9B87C-D3D3-47E1-8DA8-A2D8D6E9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9DA-5D0B-4180-A3AA-C5F9D556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DFD3-47FC-4518-96BF-F9157153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2A32-2B04-420B-AA1B-767378D0B327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9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9032-602B-442D-9CFC-3BA72DC584B8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25B0-7BAA-457F-9588-1BF02938586F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9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99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ff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c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6FD5-EC91-4DA7-A8FA-2E80AFBAEA7F}" type="slidenum">
              <a:rPr b="0" lang="en-US" sz="1100" spc="-1" strike="noStrike">
                <a:solidFill>
                  <a:srgbClr val="cc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4487-ADCC-41ED-8FD1-5DD36AC079EF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0AAE-83D0-4450-BBF2-B07CD58AC458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5300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Lesson 2.4</a:t>
            </a:r>
            <a:endParaRPr b="0" lang="en-US" sz="22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-244440" y="-6480"/>
            <a:ext cx="7493040" cy="944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0" y="121932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Prove that the graph of y = x + 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3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+ 2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5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s symmetric to the origin.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To prove, plug in –x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baseline="30000">
                <a:solidFill>
                  <a:srgbClr val="290029"/>
                </a:solidFill>
                <a:latin typeface="Trebuchet MS"/>
              </a:rPr>
              <a:t>-</a:t>
            </a:r>
            <a:r>
              <a:rPr b="1" lang="en-US" sz="2900" spc="-1" strike="noStrike">
                <a:solidFill>
                  <a:srgbClr val="290029"/>
                </a:solidFill>
                <a:latin typeface="Trebuchet MS"/>
              </a:rPr>
              <a:t> if the equation is completely opposite – odd</a:t>
            </a:r>
            <a:endParaRPr b="0" lang="en-US" sz="2900" spc="-1" strike="noStrike">
              <a:solidFill>
                <a:srgbClr val="d58cff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290029"/>
                </a:solidFill>
                <a:latin typeface="Trebuchet MS"/>
              </a:rPr>
              <a:t>if the equation is exactly the same - even</a:t>
            </a:r>
            <a:endParaRPr b="0" lang="en-US" sz="2900" spc="-1" strike="noStrike">
              <a:solidFill>
                <a:srgbClr val="d58c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y = (-x) + (-x)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3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+ 2(-x)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5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y = -x – 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3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– 2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5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Since exactly the opposite – odd!!!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rebuchet MS"/>
              </a:rPr>
              <a:t>Pages 102 – 103</a:t>
            </a:r>
            <a:endParaRPr b="0" lang="en-US" sz="80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rebuchet MS"/>
              </a:rPr>
              <a:t>2 – 28 evens!</a:t>
            </a:r>
            <a:endParaRPr b="0" lang="en-US" sz="80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Describe the end behavior of a function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Analyze a function from its graph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End behavior: A description of what happens to the values f(x) of a function f as x </a:t>
            </a:r>
            <a:r>
              <a:rPr b="0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rebuchet MS"/>
              </a:rPr>
              <a:t>∞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and as  x </a:t>
            </a:r>
            <a:r>
              <a:rPr b="0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-</a:t>
            </a:r>
            <a:r>
              <a:rPr b="1" lang="en-US" sz="3200" spc="-1" strike="noStrike">
                <a:solidFill>
                  <a:srgbClr val="660066"/>
                </a:solidFill>
                <a:latin typeface="Trebuchet MS"/>
              </a:rPr>
              <a:t>∞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Asymptote: a line that the graph of a function y = f(x) approaches as the variable x approaches a fixed value or increases or decreases without bound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696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The behavior of a function as x </a:t>
            </a:r>
            <a:r>
              <a:rPr b="1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∞ 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or as      x </a:t>
            </a:r>
            <a:r>
              <a:rPr b="1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 -∞ falls into 1 of 3 categories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1. Values approach real number 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2. The values of f(x) increase or decrease without bound; that is f(x) </a:t>
            </a:r>
            <a:r>
              <a:rPr b="1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rebuchet MS"/>
              </a:rPr>
              <a:t>∞</a:t>
            </a:r>
            <a:r>
              <a:rPr b="1" lang="en-US" sz="2800" spc="-1" strike="noStrike">
                <a:solidFill>
                  <a:srgbClr val="660066"/>
                </a:solidFill>
                <a:latin typeface="Trebuchet MS"/>
              </a:rPr>
              <a:t> or f(x) </a:t>
            </a:r>
            <a:r>
              <a:rPr b="1" lang="en-US" sz="28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660066"/>
                </a:solidFill>
                <a:latin typeface="Trebuchet MS"/>
              </a:rPr>
              <a:t> - </a:t>
            </a:r>
            <a:r>
              <a:rPr b="1" lang="en-US" sz="4000" spc="-1" strike="noStrike">
                <a:solidFill>
                  <a:srgbClr val="660066"/>
                </a:solidFill>
                <a:latin typeface="Trebuchet MS"/>
              </a:rPr>
              <a:t>∞</a:t>
            </a:r>
            <a:endParaRPr b="0" lang="en-US" sz="40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3. The values of f(x) follow neither 1 or 2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1" descr=""/>
          <p:cNvPicPr/>
          <p:nvPr/>
        </p:nvPicPr>
        <p:blipFill>
          <a:blip r:embed="rId1"/>
          <a:stretch/>
        </p:blipFill>
        <p:spPr>
          <a:xfrm>
            <a:off x="-212760" y="35388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= </a:t>
            </a:r>
            <a:r>
              <a:rPr b="1" lang="en-US" sz="11500" spc="-1" strike="noStrike">
                <a:solidFill>
                  <a:srgbClr val="660066"/>
                </a:solidFill>
                <a:latin typeface="Trebuchet MS"/>
              </a:rPr>
              <a:t>∞</a:t>
            </a:r>
            <a:r>
              <a:rPr b="0" lang="en-US" sz="4400" spc="-1" strike="noStrike">
                <a:solidFill>
                  <a:srgbClr val="cc66ff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= </a:t>
            </a:r>
            <a:r>
              <a:rPr b="1" lang="en-US" sz="6600" spc="-1" strike="noStrike">
                <a:solidFill>
                  <a:srgbClr val="660066"/>
                </a:solidFill>
                <a:latin typeface="Trebuchet MS"/>
              </a:rPr>
              <a:t>0</a:t>
            </a:r>
            <a:endParaRPr b="0" lang="en-US" sz="6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rebuchet MS"/>
              </a:rPr>
              <a:t>Write the line of the horizontal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 asymptote.</a:t>
            </a:r>
            <a:endParaRPr b="0" lang="en-US" sz="24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y = 0</a:t>
            </a:r>
            <a:endParaRPr b="0" lang="en-US" sz="24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75" name="Picture 1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1905120" cy="11365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0" y="809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2322360" cy="11811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4"/>
          <a:srcRect l="22655" t="6250" r="55472" b="70989"/>
          <a:stretch/>
        </p:blipFill>
        <p:spPr>
          <a:xfrm>
            <a:off x="4267080" y="990720"/>
            <a:ext cx="4876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133200" y="-6480"/>
            <a:ext cx="7493040" cy="792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8377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r example, cosine and sine functions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1143000" y="1371600"/>
            <a:ext cx="5391000" cy="33148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3"/>
          <a:stretch/>
        </p:blipFill>
        <p:spPr>
          <a:xfrm>
            <a:off x="685800" y="5029200"/>
            <a:ext cx="2467080" cy="8002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5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3534120" y="502920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DNE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89" name="Picture 6" descr=""/>
          <p:cNvPicPr/>
          <p:nvPr/>
        </p:nvPicPr>
        <p:blipFill>
          <a:blip r:embed="rId4"/>
          <a:stretch/>
        </p:blipFill>
        <p:spPr>
          <a:xfrm>
            <a:off x="762120" y="5981760"/>
            <a:ext cx="2438280" cy="8762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8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3686760" y="601992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DNE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Probability of rolling an 8 with two dice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As the limit approaches </a:t>
            </a: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∞, 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it is approaching its theoretical probability, (14%)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pic>
        <p:nvPicPr>
          <p:cNvPr id="294" name="Content Placeholder 3" descr="Picture1.gif"/>
          <p:cNvPicPr/>
          <p:nvPr/>
        </p:nvPicPr>
        <p:blipFill>
          <a:blip r:embed="rId2"/>
          <a:stretch/>
        </p:blipFill>
        <p:spPr>
          <a:xfrm>
            <a:off x="1219320" y="3340080"/>
            <a:ext cx="536724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-6480" y="-23760"/>
            <a:ext cx="7871040" cy="11761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A function 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f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s an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even function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f 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for all values of 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x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n the domain of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f.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Example:                             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is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even 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because 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2"/>
              <p:cNvSpPr txBox="1"/>
              <p:nvPr/>
            </p:nvSpPr>
            <p:spPr>
              <a:xfrm>
                <a:off x="2514600" y="3581280"/>
                <a:ext cx="2209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"/>
              <p:cNvSpPr txBox="1"/>
              <p:nvPr/>
            </p:nvSpPr>
            <p:spPr>
              <a:xfrm>
                <a:off x="2514600" y="4495680"/>
                <a:ext cx="1824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1247760" y="5181480"/>
                <a:ext cx="4761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"/>
              </a:rPr>
              <a:t>Odd functions – symmetric to the origin!</a:t>
            </a:r>
            <a:endParaRPr b="0" lang="en-US" sz="44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A function 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f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 is an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odd 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function if 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for all values of 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 in the domain of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f.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Example:                           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odd 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because 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"/>
              <p:cNvSpPr txBox="1"/>
              <p:nvPr/>
            </p:nvSpPr>
            <p:spPr>
              <a:xfrm>
                <a:off x="2971800" y="2362320"/>
                <a:ext cx="24354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"/>
              <p:cNvSpPr txBox="1"/>
              <p:nvPr/>
            </p:nvSpPr>
            <p:spPr>
              <a:xfrm>
                <a:off x="2743200" y="4267080"/>
                <a:ext cx="2390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0" y="5486400"/>
                <a:ext cx="83836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4:03:08Z</dcterms:created>
  <dc:creator>teacher</dc:creator>
  <dc:description/>
  <dc:language>en-US</dc:language>
  <cp:lastModifiedBy>lockwood laura</cp:lastModifiedBy>
  <dcterms:modified xsi:type="dcterms:W3CDTF">2013-09-19T17:23:27Z</dcterms:modified>
  <cp:revision>12</cp:revision>
  <dc:subject/>
  <dc:title>End Behavior of Functions</dc:title>
</cp:coreProperties>
</file>