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01D-0A97-4E9A-A324-1645CFCF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800-A581-4E23-B1D1-E3B50949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7EE-8498-4446-8079-86F5C64B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7C3-07A2-4B72-A7FF-2A977DEF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E05A-6B65-4E67-AABB-3C5BB185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F384-4059-4863-8F31-ED0B36CD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A515-067E-430E-9823-45AA462A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DABC-E71B-44F9-B0DD-84FB0F5B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3A0A-CF14-42B7-A6FF-2487D27C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A0A1-1BD1-4C99-98B9-599EB5D8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0C13-E4F3-46BA-83E4-D2B6F72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1DB-F54C-4672-B06F-E0F72C2D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D5C0-D749-4AC9-9AED-2A44E6F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7635-981C-4EB7-8667-0D5423B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4CEA-4CF5-445A-990E-3344F020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5BE2-A8D0-4068-B42C-73F65B1E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2291-594D-40BF-B4A4-F7D1FE6C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452A-3D26-45B5-89F2-B8983C56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7BE9-C81D-4E77-A055-5F52B1F8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6B5C-8500-4CD3-BE95-C595D12A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A422C-D757-4F96-BA59-9F287D64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DDC72-DFE5-472A-B09B-09AA61F8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784-1E35-4A70-8BAD-F57FB13D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D0BD-7BCF-4DA9-A219-E1D69085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BCCF-4509-4A90-839D-EE3A368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7684-2906-4D11-A00B-8C1706BE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5BF2-AC3E-498D-8F0C-A48FB496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FE14-81CC-4037-8AAE-271C357F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AE25-F5DB-43AB-9CE3-EE18ED51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F1D6-4A5F-4325-96B4-A86DAF62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5188-2A1E-4B23-AA40-EA08D1D0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A1AE-43E1-494F-A076-918CE3EE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A34F2-A4F3-4459-A9D9-DD4E5CF3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DB0-E4C1-4AFB-95C3-16932408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117FC-39D0-4B85-AE73-16C620AD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50DA2-0A1D-429A-845A-64034882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6A903-B4B9-489C-9675-3A0646CD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0533-7DEB-4833-8FB7-B30C4F17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28392-13AF-49AD-AF9F-A979A8F6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F8A89-5C9F-4618-96F8-CA990C51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6541-BD71-4957-AE94-00AB1E2A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130F-3298-4E1D-A557-18047D41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3B278-4607-468B-8777-30CCCAC7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05E4-5C50-42B7-8314-958DAE84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452-9934-4E15-89B4-821410B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6A159-EBBB-40E9-90AF-BD862625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02CC-9652-4C92-BA46-5B1CC963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9AC4F-0D63-43DB-8447-278F2F87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C4BF-D2FA-411B-A39B-422FEF32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98FC0-42FF-412A-85B1-5744D110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B04DF-34FD-4587-8B0F-7C0007D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E5C01-E408-49F0-9D6A-B44EA172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2CB39-BB92-447E-9B3A-5533B11A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2EF50-F353-49C7-9A25-47460243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38CCD-8C30-4754-AC6D-DD4EDC08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41F-69C9-4853-9FC1-7FFFAD0A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12238-3468-4DA9-BB75-A12297DF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A311B-2D06-4737-8365-A3CD2769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68159-45C4-4707-8907-24D41050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04C6B-C1B2-4D31-A66A-613330DB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52A78-0A6D-4D6C-A6E1-FB48277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1DDBD-A830-4B77-9F97-A9992AF5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4B9D5-CA24-4933-8E1E-A8095DB2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EAC84-0EF0-4615-8B13-30F73674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A0129-E825-4F85-9AC8-EDE77B9F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8401-D7BC-4040-A10A-8C06EF70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714-04CD-4BB0-889A-3BB1AFAF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C3C8-261F-404A-B257-7F8E51A8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EF9AF-6865-47BD-8FC4-27F01A6B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63301-75C2-4705-AB10-765F8A24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CBC43-5766-4430-B795-16B718A4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54FB9-5A71-42D3-A2C9-9AB18BD9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9E545-6850-4F6C-8F72-83462B78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AA86B-E9B0-4048-9B50-ED36811D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1A868-CCD5-4DA8-B940-3827F96B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47DBB-8173-42FF-BAD0-22000B39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78439-58CB-43CD-8C9D-CE6B1E4A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EA6-47C6-40E1-8BD6-F43B748E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CCB87-E001-4416-BAF0-5D809D8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DB5D0-DD93-4CA1-8A3D-E88746A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E4F8E-1739-465E-B90B-309935CE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E4F59-624D-4E3E-BD44-CD4D8FBE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90AD1-D9F2-46A4-86FB-4F3EF277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9CEE0-7317-44DA-87A9-918BB38B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48A82-D3F5-46CD-BB03-3DC417B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AC3FD-74C1-4E44-BDDF-0EDE3D44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E4642-947E-4E84-9824-F9D4EEB6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040E8-2D39-46A3-A737-177E9F62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4B1-10B7-46CD-BAEA-F60F9DBA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F833B-57E5-4EEA-A2E8-A75271E5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93A83-27C1-49DB-BF61-65EF6CD1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711FF-92FA-4CFB-A82F-E6EC0DC1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CCE9D-8DBA-453E-98E9-42137D0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5C2FA-8E7C-4D30-806A-7BA7B48C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F8555-2292-41FB-A38A-B4A30B5C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ABA1F-486F-4C85-AB3A-C0D5B394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D076-6693-482B-888A-A365510CFB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1301-32A5-41D4-9182-9E6372BC3F8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C1C7-D77D-49BC-93E0-FB4C1F3A56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9FBA-2301-4DA8-9F1A-69BECA89E87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8FEE-2A31-4188-AE19-479F0634D4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283D-C4BE-4E2E-B325-AAA0F9D16F7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BBD9-BC56-4834-8FEC-ACC0E96AAC9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CA2C-904E-41ED-9F36-00CA8ECBBAE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ection 10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ug back in: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609480" y="358128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4"/>
              <p:cNvSpPr txBox="1"/>
              <p:nvPr/>
            </p:nvSpPr>
            <p:spPr>
              <a:xfrm>
                <a:off x="1371600" y="5029200"/>
                <a:ext cx="2311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5"/>
              <p:cNvSpPr txBox="1"/>
              <p:nvPr/>
            </p:nvSpPr>
            <p:spPr>
              <a:xfrm>
                <a:off x="5029200" y="365760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5562720" y="5429160"/>
                <a:ext cx="23112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Page 625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1 – 9, 11, 12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y like components together, then ad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You get a scalar quantity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gth of a vector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gle between Vectors Theor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3962520" y="3124080"/>
                <a:ext cx="374004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2286000" y="4876920"/>
                <a:ext cx="44816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nonzero vectors u and v are orthogonal iff their dot product is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assenger jet is cruising at a speed of 300 knots in a direction 25˚ east of south and there is a 40 knot wind coming from the southwest.  By how many degrees will the jet be thrown off cour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t’s velocity vector: [300, 295]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nd velocity vector: [40, 45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55.0697, -243.60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t back in polar for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 = 288.7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θ  = -57.5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the plane is getting “pushed” 7.48˚ off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ur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alculate the dot product of  &lt;-1, 8&gt; and &lt;-5, -10.2&gt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1 * -5 + 8* -10.2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5 – 81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76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the measure of the angle between the vectors u = &lt;-9, 12&gt; and v = &lt;-4, 3&gt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ormula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2666880" y="3200400"/>
                <a:ext cx="46483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932200" y="5138640"/>
                <a:ext cx="2792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4"/>
              <p:cNvSpPr txBox="1"/>
              <p:nvPr/>
            </p:nvSpPr>
            <p:spPr>
              <a:xfrm>
                <a:off x="6858000" y="5403960"/>
                <a:ext cx="963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Explain the relationship between the dot product of two vectors and the angle between them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positive, the angle is acu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negative, the angle is obtu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zero, the    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ngle is right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8498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scribe all vectors in the plane that are orthogonal to &lt;17,5&gt; and have length 4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ubstitute back in: 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-17/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289/25)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314/2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400/314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3581280" y="5429160"/>
                <a:ext cx="2268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400800" y="5105520"/>
                <a:ext cx="23637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3:01:51Z</dcterms:created>
  <dc:creator>Laura Helbing</dc:creator>
  <dc:description/>
  <dc:language>en-US</dc:language>
  <cp:lastModifiedBy>Laura Helbing</cp:lastModifiedBy>
  <dcterms:modified xsi:type="dcterms:W3CDTF">2012-04-11T16:39:06Z</dcterms:modified>
  <cp:revision>55</cp:revision>
  <dc:subject/>
  <dc:title>Slide 1</dc:title>
</cp:coreProperties>
</file>