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D0F1-8378-4C2D-BDBA-449474A4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9FB-E537-4830-BA7C-FBB2BC89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C8A-11EF-420B-95C6-98E9DD4C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059-1B88-4A54-A272-27391C3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73B9-F122-430E-AE4B-C7C1C3E8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2554-F059-4B79-9DC9-8C03FB6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674-EA58-4C2B-AB66-E9948AF9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E4ED-D884-4CFF-8CD9-E44CE841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DA38-C23E-4348-B4E4-5E29546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3EB3-F873-4687-B713-CC14A3A8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2FDF-27DE-4F16-ADB4-EC1A5AB2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997-1AC2-4CDB-8749-94521724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B8D-7BC4-44F8-AB90-0BC92D0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8CD-5B86-4E63-AAA5-EC8417F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33E1-7D64-4F0A-80A1-B2712A89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41A1-09D6-4572-8DCF-3BFE5658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BE8-AD46-4FA6-87CC-5604A85B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29BB9-4340-4E93-9EAA-24444896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30B6-403D-4DD0-9C76-400F22FC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C7A82-AAC4-441E-826C-C34F9DE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C3AA-C29F-45D1-85C8-032C90CC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F6AD-9AB5-4D67-A210-B3E94219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487-E8CB-4968-8A1B-553FBAA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60B36-F108-45ED-8024-48D37FE9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2980-CF6D-4982-9E43-8DB5077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17A3-BE91-4AFA-9851-7FA9321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3BAA-3CA2-4398-B782-85EF6E8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D464-D562-41D0-92AC-87B72A7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C434-FB43-47BB-994F-19A10060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3079-1816-40AE-AB81-9A8D9FC8C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EC6D-4ECE-4F15-8B1F-BEC89A1A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311D-944E-4C9F-A402-B6C29060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3E18-F681-4462-A7A9-1A01EFAB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A97-4919-4AFC-A9CF-7604CE3A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0BD61-A1D8-4860-B299-C1DD555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D34D5-118A-42EC-851E-C1B2EC57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F9FC-8222-4F92-BA74-DB766CF6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7DC7-1243-4190-9A38-A78695F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7E683-A638-45DE-81A1-46643CB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C258-0DBD-4961-8C42-D2BD37C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80FA-7063-4366-A701-4E14BDE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005D3-D4B8-40AA-A4F9-717AB9F7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E856-5735-4AB7-B813-455EAFEE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251F-01D2-4640-9A60-726674DA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6DB-49DB-45AB-B3F4-A216754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7F6E-F5DE-47FA-AD36-6C00109C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158A-70B5-488D-857A-A1952FD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F3D4-3089-4C15-BD8D-BF7BE8D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7B578-7CAB-4FB9-829C-5F39993A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D893-C7E2-4D8E-A2CA-E6DA4B31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8ABE-00A2-4006-B650-B184F196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EE85A-3B1A-48F8-9CBD-0EB1F82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BCBC3-7F70-48B0-9ED5-C2203FA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03807-7C09-4C63-AA36-9B17597A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C7A5-ED1C-4CCD-B3C8-640B3914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EDB-45D2-40CB-9CF7-2D9D91F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C90D6-8ECE-47DA-BE00-D09A38CD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86EE8-F9DF-4C23-A8EB-C6DD4D5A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5717E-E18A-4B69-8D24-64FA8EFB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A5DE-675E-4E1D-923B-8E0AADF5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693B8-7196-4C76-B85F-088FB17E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F8D93-A8F0-4152-B6AA-9D89ADD0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B73F-7574-4142-A78E-98577C44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440E7-D296-4A48-AF30-0B84EC6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E2D9-85A5-4655-9DD7-AAE3367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37B32-199E-4589-9466-440AD01C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B13-41A3-4ADE-B2FF-77A2861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D3DFE-2949-475A-B58E-C2F8128D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3321-F818-4A95-A948-0E8FD7A4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69A3-67A9-4AE9-9DCE-EB39FB7E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5829B-F087-436B-8F09-758045D5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31066-5740-48EE-A038-A6B0EA6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2AAD-7D58-43A1-8824-A3019FBB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9F04F-F10A-4D74-901D-8BEFDE80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6F34-176C-42BE-9CD8-5A11B188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50A4-A8FE-40CA-8F13-EF219D22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C881C-C930-4E2A-B00F-EC593EB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49C-C3CE-4052-8D99-952AEAC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411D-DEC8-45A8-A883-71514A47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E2DC-2F86-4F03-A551-2CE804C5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35B77-B45F-41B2-95BB-347E91E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2916-B186-4336-BAFD-4FF5FC6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E5818-2530-426A-890F-565DFB72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C343D-A6F6-4949-9238-C31B415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17A2-A691-4978-A242-816FA953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2DDB7-D57B-4858-95C7-35D2E9AC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E30B2-07F3-4FF9-9D91-184849F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66AD0-3388-4B52-A13C-EF6A130F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867-E336-4CF4-8E04-B4245046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ACC75-7326-41CE-BFCE-0A35C75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31AD-EF37-4FB7-8942-FAF346AC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50330-2494-4715-A313-55429BC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F2F3-050C-4FC7-B0F7-D6FFB18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99E72-8272-4342-B18A-F3C7F3E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490A3-CE50-457E-8140-EE1EBC62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F5903-118D-4473-B0C1-23791FB6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E40A-1ECC-45D5-B68D-B1A5B2750C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1FC5-CF99-4D84-86AB-4F27FEC188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108-3617-46DC-A630-63590DE5A39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6909-748F-4CC1-B71B-6358A486BEE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D4C0-33F4-4AF5-B257-DA91F5B8E5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072-0CE9-4171-BC83-DBA08E1C9A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DF72-33ED-404E-98C6-D615B4C9BC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C7B-9502-4E27-85CC-263C19993C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Section 10.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lug back in: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609480" y="358128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4"/>
              <p:cNvSpPr txBox="1"/>
              <p:nvPr/>
            </p:nvSpPr>
            <p:spPr>
              <a:xfrm>
                <a:off x="1371600" y="5029200"/>
                <a:ext cx="2311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5"/>
              <p:cNvSpPr txBox="1"/>
              <p:nvPr/>
            </p:nvSpPr>
            <p:spPr>
              <a:xfrm>
                <a:off x="5029200" y="3657600"/>
                <a:ext cx="3487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5562720" y="5429160"/>
                <a:ext cx="23112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Page 625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Lucida Sans Unicode"/>
              </a:rPr>
              <a:t>1 – 9, 11, 12</a:t>
            </a:r>
            <a:endParaRPr b="0" lang="en-US" sz="9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ply like components together, then ad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u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Lucida Sans Unicode"/>
              </a:rPr>
              <a:t>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**You get a scalar quantity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gth of a vector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gle between Vectors Theore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3962520" y="3124080"/>
                <a:ext cx="3740040" cy="13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2286000" y="4876920"/>
                <a:ext cx="44816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nonzero vectors u and v are orthogonal iff their dot product is zer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passenger jet is cruising at a speed of 300 knots in a direction 25˚ east of south and there is a 40 knot wind coming from the southwest.  By how many degrees will the jet be thrown off cours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t’s velocity vector: [300, 295]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nd velocity vector: [40, 45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onent: 300cos295 + 40 cos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0 sin 295 + 40 sin 4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55.0697, -243.608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t back in polar form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 = 288.7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θ  = -57.5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 the plane is getting “pushed” 7.48˚ off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urs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alculate the dot product of  &lt;-1, 8&gt; and &lt;-5, -10.2&gt;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1 * -5 + 8* -10.2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5 – 81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-76.6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ind the measure of the angle between the vectors u = &lt;-9, 12&gt; and v = &lt;-4, 3&gt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mula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2666880" y="3200400"/>
                <a:ext cx="464832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932200" y="5138640"/>
                <a:ext cx="27921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4"/>
              <p:cNvSpPr txBox="1"/>
              <p:nvPr/>
            </p:nvSpPr>
            <p:spPr>
              <a:xfrm>
                <a:off x="6858000" y="5403960"/>
                <a:ext cx="963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761760"/>
            <a:ext cx="8229600" cy="52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xplain the relationship between the dot product of two vectors and the angle between them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positive, the angle is ac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negative, the angle is obtu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f the dot product is zero, the   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gle is righ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8498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scribe all vectors in the plane that are orthogonal to &lt;17,5&gt; and have length 4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Two equations: 0 = 17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olve for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in the first: 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= -17/5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ubstitute back in: 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-17/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+ (289/25)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16 = 314/25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400/314 = 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3581280" y="5429160"/>
                <a:ext cx="22687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400800" y="5105520"/>
                <a:ext cx="23637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3:01:51Z</dcterms:created>
  <dc:creator>Laura Helbing</dc:creator>
  <dc:description/>
  <dc:language>en-US</dc:language>
  <cp:lastModifiedBy>Laura Helbing</cp:lastModifiedBy>
  <dcterms:modified xsi:type="dcterms:W3CDTF">2012-04-11T16:39:06Z</dcterms:modified>
  <cp:revision>55</cp:revision>
  <dc:subject/>
  <dc:title>Slide 1</dc:title>
</cp:coreProperties>
</file>