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57B8-3B94-4A23-8E97-C8FE3CF0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6D84-5005-4431-853E-6B129AC1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AAE-481C-492B-B164-D519754B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A4B8-E0FA-448F-AE42-C0A81425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68CC-6077-4964-8034-4A563934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3FF4-8AB1-4361-9401-BC53055A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72FF-719D-4F1D-8C4B-2140C95C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4FAF-67EB-4505-8011-5EE3AA62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E0E1-9D34-4911-9067-EF5344D5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6667-CEE8-41F4-A70B-7A297E1C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A836-0FF4-481E-B66A-EE407929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AAC-34EC-4219-84A1-DBC4E9F4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B051-D4F0-435A-8736-80828966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C2F9-DCAB-46FC-8B93-80E3671F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14CF-8B63-467B-850B-19AEB9DF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192E-70F5-46DE-AC58-86C8D597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3705-12AA-431F-B051-AFE71FE0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8B333-2B81-4545-9C96-735DBA6D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5A834-98EC-4BF0-92E2-8311C37D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DF7C7-A02A-4784-B35D-80FAC046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06FF0-0F6F-4EA6-87D5-AF781BDB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8BAF2-1428-40D6-9DDC-3C2CCCD5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8823-79F9-4845-94AE-AA3DFC0D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5BB9A-9BB1-4E0B-B630-1B0E0EBF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99A32-7797-4D3D-9048-3F66B3D8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64CC1-F4B5-4CEA-B2C8-C4555E4B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D21F9-B7AB-4689-AA94-B20DA5FB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B35AA-3730-4799-B0F3-8E7B3325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7D3E2-A04E-4B0A-B576-0F619590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7DB37-8698-4294-86F6-1C8580B7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34CA5-7579-4B3A-ABE4-84C01BCF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7E7CE-8A59-4AE4-953D-A0AAD465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48746-41BB-4EC8-ABE6-9A57882A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98E-85CC-46B4-9B92-90C3A18C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CC320-3197-44AB-9BEA-81227964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0CE28-08D4-485D-9696-5440AE2F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CCDE7-59B9-474A-9BB9-807A4166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6336B-FADF-4925-91FB-A25DD328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6026F-C686-4396-964F-26B14E04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F75F3-8D47-481B-85A3-96BFB1D0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59A04-82BB-4384-A4A4-04B6CEE3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998AF-AC8B-441E-9F5C-800BD967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6AA2D-15F9-4256-9A25-66FC7C41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5B97C-6B7F-4790-BB2E-BAE7459D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B19-C33E-4C44-BEB7-B8AF55CD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445BE-0B60-4460-9965-BE161989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88B53-32E8-47F0-81BB-37D0FBCB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37BCC-1CE6-46A7-B9E2-AE45ECAF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C9B30-3074-426E-AA2E-14BA884C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26B58-F508-495C-B0E7-0D6B6C98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E34FF-4B86-4F44-9538-ABFB646F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D0307-EB52-4A4B-BF3C-6ED4BEEC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D9BA0-627F-453C-AA76-6D82F8FB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D111E-FD36-47CD-A4B4-32A59E41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87289-F4FE-40DA-830C-18371F5D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F9D-FAAC-47E2-89DA-A966D7AA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B89FC-0084-4B1E-B736-026591D5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35F3D-9B95-4594-AD5F-3B05E313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651DE-1EF4-4FAC-8F74-A54E48A7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D8DCD-9252-4D07-9A74-4F1F5ED1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11077-2457-44B5-AD8B-730699E6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D806E-8900-487A-8DA5-5346918B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6E154-CC33-4ECC-90AF-38814AAF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598AC-8D22-4697-8422-A86E9E70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3BCA1-529A-446B-BB92-C548817D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2A11E-0D2D-44A3-B684-A101B139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B824-689E-4765-AA8E-E589A922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26DF0-831E-4490-A4FB-C45A4DAA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FCEA9-8BC2-41D9-899D-3460ED55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41786-AB8D-4390-AD51-D861E798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5597A-23A7-40AA-8EA2-2E442F1C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8B4D5-C8D7-44A0-A809-5A790653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2FA14-8042-4BDB-9307-707A63C0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ACAC9-F93B-4986-9D00-CC7CAB85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D6EBE-041B-475C-B2F4-D3BC59BA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FF995-7432-4F6B-A1A9-2E8707E7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8F131-9BCA-4F5D-ACDE-0F85BAF7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A8CD-DCBA-4022-B60E-CBEAADD7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B2E7F-C0D6-4441-ADF5-638D7E42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DA8B3-09DC-49B6-8DB6-F6082311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14C7F-91A9-4A3D-B87A-D8E50225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5C21C-7F57-4CE6-95C8-B6854811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84C9F-C891-49D9-8584-C22C67D6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94BD0-854C-47F3-A83F-ECE9800A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2025B-74E2-417F-8177-FB4CC664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7C389-28DE-4517-AA11-E84AC002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E5710-AEFC-4D5C-8FDF-2E2BC609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5501C-6432-40C0-B143-B63C3AFB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A37-1392-40CE-B6FE-7F3CBDE4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65BBD-9BBC-4292-BEBC-7330FFD7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0D60C-92AB-4AB4-A7AA-660DB43A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01FF9-129F-4FF0-8283-C1580134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85EC3-9FEC-4635-8580-0884EE73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46108-0105-4127-A77C-D95E85C9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AE2E9-D333-4CD2-B0C3-64B6A427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FA771-70F0-46D6-974C-B1BE4CD4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3C9F-1F88-49C4-80AF-1C7C88CC962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48BD-FCAB-40CA-A8F7-5DF04E93539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90C2-71D7-46C5-91E4-A3C4729D230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1E34-C8A3-4EFD-9B2B-E1E0F523D30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466C-DDD1-4155-9E99-0820D2B623B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844C-03E0-448B-8C99-747A00A7FCD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6AEE-5768-4822-8ED9-E9431C316BD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2CBB-40FF-4147-B3A7-0A77F82AC7F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ection 10.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equations: 0 = 17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5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6 =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lve for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first: 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-17/5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ug back in: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609480" y="3581280"/>
                <a:ext cx="3487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4"/>
              <p:cNvSpPr txBox="1"/>
              <p:nvPr/>
            </p:nvSpPr>
            <p:spPr>
              <a:xfrm>
                <a:off x="1371600" y="5029200"/>
                <a:ext cx="23115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5"/>
              <p:cNvSpPr txBox="1"/>
              <p:nvPr/>
            </p:nvSpPr>
            <p:spPr>
              <a:xfrm>
                <a:off x="5029200" y="3657600"/>
                <a:ext cx="3487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7"/>
              <p:cNvSpPr txBox="1"/>
              <p:nvPr/>
            </p:nvSpPr>
            <p:spPr>
              <a:xfrm>
                <a:off x="5562720" y="5429160"/>
                <a:ext cx="23112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Page 625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1 – 9, 11, 12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ply like components together, then ad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**You get a scalar quantity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gth of a vector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gle between Vectors Theore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4" name="Object 2"/>
              <p:cNvSpPr txBox="1"/>
              <p:nvPr/>
            </p:nvSpPr>
            <p:spPr>
              <a:xfrm>
                <a:off x="3962520" y="3124080"/>
                <a:ext cx="3740040" cy="13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2286000" y="4876920"/>
                <a:ext cx="44816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nonzero vectors u and v are orthogonal iff their dot product is zer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assenger jet is cruising at a speed of 300 knots in a direction 25˚ east of south and there is a 40 knot wind coming from the southwest.  By how many degrees will the jet be thrown off cour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et’s velocity vector: [300, 295]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nd velocity vector: [40, 45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onent: 300cos295 + 40 cos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00 sin 295 + 40 sin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onent: 300cos295 + 40 cos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00 sin 295 + 40 sin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55.0697, -243.608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t back in polar for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 = 288.77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θ  = -57.5˚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 the plane is getting “pushed” 7.48˚ off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ur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Calculate the dot product of  &lt;-1, 8&gt; and &lt;-5, -10.2&gt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-1 * -5 + 8* -10.2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5 – 81.6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-76.6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ind the measure of the angle between the vectors u = &lt;-9, 12&gt; and v = &lt;-4, 3&gt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ormula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2666880" y="3200400"/>
                <a:ext cx="464832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3"/>
              <p:cNvSpPr txBox="1"/>
              <p:nvPr/>
            </p:nvSpPr>
            <p:spPr>
              <a:xfrm>
                <a:off x="2932200" y="5138640"/>
                <a:ext cx="27921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∗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4"/>
              <p:cNvSpPr txBox="1"/>
              <p:nvPr/>
            </p:nvSpPr>
            <p:spPr>
              <a:xfrm>
                <a:off x="6858000" y="5403960"/>
                <a:ext cx="963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761760"/>
            <a:ext cx="8229600" cy="52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Explain the relationship between the dot product of two vectors and the angle between them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If the dot product is positive, the angle is acu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If the dot product is negative, the angle is obtu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If the dot product is zero, the    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ngle is right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-262080" y="-6480"/>
            <a:ext cx="8498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escribe all vectors in the plane that are orthogonal to &lt;17,5&gt; and have length 4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Two equations: 0 = 17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5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16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olve for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in the first: 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= -17/5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ubstitute back in: 16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(-17/5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16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(289/25)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16 = 314/25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400/314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3" name="Object 2"/>
              <p:cNvSpPr txBox="1"/>
              <p:nvPr/>
            </p:nvSpPr>
            <p:spPr>
              <a:xfrm>
                <a:off x="3581280" y="5429160"/>
                <a:ext cx="22687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6400800" y="5105520"/>
                <a:ext cx="236376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3:01:51Z</dcterms:created>
  <dc:creator>Laura Helbing</dc:creator>
  <dc:description/>
  <dc:language>en-US</dc:language>
  <cp:lastModifiedBy>Laura Helbing</cp:lastModifiedBy>
  <dcterms:modified xsi:type="dcterms:W3CDTF">2012-04-11T16:39:06Z</dcterms:modified>
  <cp:revision>55</cp:revision>
  <dc:subject/>
  <dc:title>Slide 1</dc:title>
</cp:coreProperties>
</file>