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E0B-5148-4AFE-85C0-2C4E3536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B56-3AF0-4BE3-B4B0-B19EBB60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838-6C46-4E09-AE42-A6753F1B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C6C-4E38-4DD7-AEE6-F9677008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FAB2-4D90-4E59-8AFC-4A3D7FD6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9C3-9E8A-46D5-BF37-3D66E1B9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5F2A-46F9-444F-BA59-1D5CF88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ECC3-443A-4AB1-AF80-C74CC3F1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28DB-08C4-4B1C-9D05-3BA136F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388F-7FD9-4E68-A298-B777F68C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C30-60EC-4596-AEC7-72333C0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716-5C6D-4329-9D73-712FB70D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BF7A-3F37-4DAC-AAB4-4AA9CB6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1987-C31C-4008-8569-E762C39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773-C276-4461-AD58-03A9246B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07D6-ACB4-4AFA-A717-E12553AF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D9D2-BC0D-4E4F-92D5-87A09D1F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C935-4385-4B07-BAEE-912847A8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69AA-329F-4739-91A9-2E2245B4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FBAA-759E-47BF-8B7E-9312306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CC97-EEEA-40F7-91A2-2694D497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192C-1A02-45D7-B7E1-48755FA4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D52-5CAC-4013-B27B-8979EA0D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AA6E-410B-4B19-826D-DFCEBCC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0948-C04F-4974-AD30-42E38BF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54C6-6600-40CB-A39E-6217F39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2A02-BB78-44BB-8D44-C975D1B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26DB-61A1-4FA1-8475-5D4948E6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D371-9583-416C-AE1B-3CBD5BEB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C730-B6CB-4D77-8E66-C85A48DE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6DA7-A055-4AAD-815F-93FE78B5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2897-B58C-435C-939C-D7A6C533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8DA8-50A8-4742-A6A1-6EA135EF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7C6-E563-4B7A-A763-D257382C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80A1-DC63-4438-BDDD-DE44CD16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FEBF-4677-43AC-BB03-30F06C8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8E54-8E9E-475A-98E4-B4B5E560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9861-3B6C-4D04-A626-53430441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0D3A-A80D-490F-9678-39785D64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2CEE-2525-481B-A7A2-AC4D29F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DFA4-909C-462C-B649-8A494DD4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21BF-F471-4460-997C-B353B029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F06B-C609-46EF-A8A8-5FA3DEA9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E7014-06B2-4A4B-A2B6-683F6D32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9B4-7F0F-45CB-AB68-0FD085D2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0DB4-A023-4B5C-97FD-E3F686D1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BAC8-5BC9-4B1C-BEDA-A0C7D667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F1E13-9DDD-4FE1-A02D-195F08F2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68D0-276C-4226-A646-3A5EEA27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111A-3126-4341-B4BB-18A673E1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CA655-9DA5-44CD-AC61-644A6AA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AC5C-419F-49A7-B2C8-C0D1AA7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E646-320E-419E-A56F-E369268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A87D-1649-4819-BEEB-A8701BAD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09A4-4A42-41C9-B946-2CB54992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862-BC9C-4CCB-ABCA-DDC928E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BCB40-F597-4188-AF92-CED305AC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7074-0DB8-4A1E-8D24-8A4641CD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C23B9-5067-4095-BA46-1E1B803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4CBF-3F4D-4FFE-87E6-CB2D73D2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CBD0-8A36-4FE2-AFA6-EBFB96D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F805F-7DFA-41C6-BE54-709A314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94953-314E-4964-88AC-416DC353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820ED-0945-463A-BC48-4D2BC37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1537F-40D0-4971-8D9E-49BF32A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13DC-2AF7-4D90-81E3-C683AEC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BC6-A1C0-435F-95D2-C2805EA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8C1E0-CC1B-4DDA-9436-FC873ABD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B334-2320-4651-B175-3A7BDCD8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AE241-A5AE-41AD-B7B5-7F3EEB6D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3ED39-DB11-4BD2-A4CA-56E68DB3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F8E1D-FF61-43DF-B669-07E1D67E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F8771-41B5-42C9-97ED-67C3C30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207F-7905-4834-8B42-FD69BC3F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1DEA6-ADF4-4A38-B3FA-12874A81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0CE8A-C7C1-4ECD-A1CA-8E52B2B1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AD8B9-5043-46DB-9B13-C408076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DA8-8F68-4275-BA77-F7E4ED6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4AE7A-351A-49FC-ADC5-E563A13D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BD2D0-28C4-4A06-9F83-16B5A82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B2E0-A610-4C3F-9CD5-F01569EA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09AD-C4C5-4B6E-B949-F3D6EDDA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E34B8-86CA-46B0-8483-8F5FE06F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9F3B-060C-4C5D-948F-01B6644A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A2F0-4F36-4EF3-99B1-0CC0000D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F150C-FE20-4602-AA74-23592DB7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0918C-43B4-4927-87F9-E3278CA2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D4EE2-B2F0-4143-828C-F2861439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BDC-D1C8-4649-AC0A-58F8CAB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AC4E-86A9-4B05-B871-1E9981F3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A365C-0FD8-4104-A450-5B90B82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9EC1F-6831-466B-8A2D-4F8AB90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93CEC-5FBE-462E-A06E-FC365C8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CE98-62D3-4DC1-AEBA-1D780474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63C4E-E390-469F-99B6-176A7296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832D0-F096-4B1B-83C2-234494CD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C8D0-F4D3-4AD9-9A90-34323273A7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16E6-F02F-4733-972E-93AAFA43D6A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45B2-4FA6-4D95-9226-003841FCFFA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78E6-FC42-49D9-83E7-D96C0F5133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0F7-BDB8-47CE-9F78-27BA3661C9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D1E8-DFC0-4EE8-9FA1-501631A376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AC8A-7265-480C-B310-64291FE15FD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199F-9F82-4D7A-960C-0E022B8F997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ction 10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g back in: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609480" y="358128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1371600" y="5029200"/>
                <a:ext cx="2311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5"/>
              <p:cNvSpPr txBox="1"/>
              <p:nvPr/>
            </p:nvSpPr>
            <p:spPr>
              <a:xfrm>
                <a:off x="5029200" y="365760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5562720" y="5429160"/>
                <a:ext cx="2311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Page 625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1 – 9, 11, 12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like components together, then ad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You get a scalar quantity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a vecto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gle between Vector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3962520" y="3124080"/>
                <a:ext cx="374004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2286000" y="4876920"/>
                <a:ext cx="4481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nonzero vectors u and v are orthogonal iff their dot product is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assenger jet is cruising at a speed of 300 knots in a direction 25˚ east of south and there is a 40 knot wind coming from the southwest.  By how many degrees will the jet be thrown off cour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t’s velocity vector: [300, 295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nd velocity vector: [40, 45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55.0697, -243.6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back in polar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 = 288.7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θ  = -57.5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the plane is getting “pushed” 7.48˚ off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r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alculate the dot product of  &lt;-1, 8&gt; and &lt;-5, -10.2&gt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1 * -5 + 8* -10.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5 – 81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76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the measure of the angle between the vectors u = &lt;-9, 12&gt; and v = &lt;-4, 3&gt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mula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2666880" y="3200400"/>
                <a:ext cx="46483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932200" y="5138640"/>
                <a:ext cx="2792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"/>
              <p:cNvSpPr txBox="1"/>
              <p:nvPr/>
            </p:nvSpPr>
            <p:spPr>
              <a:xfrm>
                <a:off x="6858000" y="5403960"/>
                <a:ext cx="963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xplain the relationship between the dot product of two vectors and the angle between them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positive, the angle is ac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negative, the angle is obtu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zero, the   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gle is righ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849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scribe all vectors in the plane that are orthogonal to &lt;17,5&gt; and have length 4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ubstitute back in: 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-17/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289/25)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314/2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400/314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581280" y="5429160"/>
                <a:ext cx="2268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400800" y="5105520"/>
                <a:ext cx="23637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01:51Z</dcterms:created>
  <dc:creator>Laura Helbing</dc:creator>
  <dc:description/>
  <dc:language>en-US</dc:language>
  <cp:lastModifiedBy>Laura Helbing</cp:lastModifiedBy>
  <dcterms:modified xsi:type="dcterms:W3CDTF">2012-04-11T16:39:06Z</dcterms:modified>
  <cp:revision>55</cp:revision>
  <dc:subject/>
  <dc:title>Slide 1</dc:title>
</cp:coreProperties>
</file>