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500-DF7C-41A6-ADF7-716975F9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B93-97A6-46BD-B53A-F9029D07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76A-F563-461E-9D0F-8E3676E6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13F-BAE8-4DD9-ABDC-8F5B1DC2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378A-CB92-4355-BCE4-BE1DD29F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307E-C0F8-447B-90AE-29933002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1DD1-9ACC-4A2F-ABF6-2F9D3342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43A6-955A-4135-B5B9-53DF40EB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1B77-810E-428B-B2A0-D4C7B556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29A6-068E-49F4-92D4-C045946D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D6AE-7788-49A1-B1D3-7FB34CEF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76C-8C70-460E-9395-CED12B8A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1A0A-32E9-4B1D-9F03-F8D8F0EE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6A03-F875-432E-B0C2-597CCCC9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DB79-1F28-4075-82D7-5DAE67D3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8070-691B-416F-AD8C-52739F13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7981-C542-4F34-807F-1EF9F0B1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A43A-01FF-4164-A27F-E2A1EAFE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2A40E-0BDC-49B2-BCA0-43CEA974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0592B-8077-4C3E-B217-4359C790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2871-2F56-44AC-A23C-E9039472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AC98E-B733-4396-B38C-2E807863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E24-6D32-4436-85E1-C0AA9BDF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31E4C-40C8-4F49-A7C4-C28A37D3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7321-20DF-4F48-AEDF-26E9D1D8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EBFC6-25AF-47B1-9720-7CA3A133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1245B-3CC4-44D3-A6A0-F3E1E4DB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9AB7-519F-436A-8739-FCCA6415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32AC2-1629-4215-B579-F38E4C4E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19093-36CD-45C0-9402-546C0E70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77A80-9C0A-4629-B760-E19178CD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E4406-367C-43C1-82EE-C0F94372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2CDBD-98E6-4B0B-A8AE-5033A6FD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634-CE96-4BE2-8E82-45424D9E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E5096-8F6C-448D-AA7A-CD52CEB1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B7E06-4611-4EED-8B46-50A65314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C506F-C049-4473-911D-78D7A822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5F526-E1DA-44D0-A208-FA6F17AE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23629-8960-4675-B090-8AB7AA18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431E0-B56F-4D3F-A2A6-4BFAE88E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6CF03-C03D-44E0-A0C3-1B279CB7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EC061-33C6-48DC-91BE-04ED9614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0C50B-FD32-424D-B404-B880DC2D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6E0DE-157A-414E-8F48-27A1D669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8A9-6BAD-4186-928E-80E71594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2BF22-D110-4512-BE9C-10383729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266EF-F3C3-49BE-8FBB-1432058C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69AB2-2A62-4394-A3B1-F9634EDC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79561-1934-4748-992D-003F5F79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0BF83-5146-429A-984A-258A2CBD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63F7D-220A-4DAE-84B6-7C6215A5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F84D3-9722-48BF-81DD-5D8F047C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F65A1-E38B-434B-AE65-1EC432B7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DB6FD-B004-4C85-9CE9-AAD18068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7AAD3-542F-4C44-B909-AE3DF3BE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651-FA84-400E-BDCB-C6F09D12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2CAC9-74D4-4CDB-81CF-D0579615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59B2A-B861-4F73-8E9D-35FA426F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0E51A-2179-4ED5-A081-EF94F1C2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694DC-2F31-4F26-874C-03178C80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DCCFE-32DC-493B-BE43-E038D886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EA05C-FA8E-4E02-87BA-10DD6438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6D67F-A19D-4A4A-8203-B9E76AEE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BE85F-27A2-4F77-9E9E-E7E5885F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4C64E-635D-4B11-A1FE-1B859B2B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EEE6E-71A1-4922-A383-E86E9544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C62-6B88-49D3-A275-4DA1345A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8B22A-D04C-42A8-9DE4-75BC1A88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78F93-1D94-4987-AC53-8D069FD9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B66BE-FFA8-4B19-B965-E4723386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87F40-279C-4DF9-9CA7-E3225F56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DAE7E-FBC8-4018-964F-037024D5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10B94-8E35-455E-B2C9-682EA2BA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2C2D7-59F8-4906-9EB4-16F2179E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B9956-ACE6-4981-95B8-75EDF883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87428-D01F-44B0-BDCB-F7ECC0AB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722E8-78FD-4836-AE17-337E95CC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84D-4CED-467C-950E-59FA1A7F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242C1-7F37-44C1-B8C2-30515D44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545E5-477D-448E-B1EB-90BA74DC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BF888-9033-4A71-BFEF-1739B556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84D14-1DAA-4B17-B9CB-97A47A4E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75253-38B3-479B-8DCD-947752E4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965A4-3847-4BF7-B890-D684D39D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23561-125C-4171-BC72-9430D6D9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77484-ED25-4B79-9AE5-ADE734E4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7EDB0-725E-44E6-8D4A-4FF88EBE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6A3A1-C3CE-43C8-B561-6781FC5F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6DA-6FCA-43E8-85D3-261F4479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DB486-16E1-4D87-8B11-091C38FD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7CBB5-4F99-4BB5-914A-258452A0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4B997-9080-4669-997A-6BD659B7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4D814-1447-42B7-BBF2-B3D25A3B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5059E-A0DA-4088-BCE0-98CAED7D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D24D0-BB15-46E2-95B1-C262C9AC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7B201-C6CE-4B9D-A6A7-F6A3928C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93DD-D57E-4E8C-AA7B-27A1F13538E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8634-B98F-43D8-95B4-73490931C52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3BB0-24E2-465C-AC9F-DCCB978E7EC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5A85-FFF7-4402-90BF-F040660CEF2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D8C0-D7F7-412A-82A6-AD383BE5992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1465-7367-4DED-B828-2927484989B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66D6-0D32-434F-B78E-7D325204070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68D9-F5C1-4839-B173-2CEE8A8B8A9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ection 10.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equations: 0 = 17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5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lve for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first: 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-17/5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ug back in: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609480" y="3581280"/>
                <a:ext cx="3487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4"/>
              <p:cNvSpPr txBox="1"/>
              <p:nvPr/>
            </p:nvSpPr>
            <p:spPr>
              <a:xfrm>
                <a:off x="1371600" y="5029200"/>
                <a:ext cx="23115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5"/>
              <p:cNvSpPr txBox="1"/>
              <p:nvPr/>
            </p:nvSpPr>
            <p:spPr>
              <a:xfrm>
                <a:off x="5029200" y="3657600"/>
                <a:ext cx="3487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7"/>
              <p:cNvSpPr txBox="1"/>
              <p:nvPr/>
            </p:nvSpPr>
            <p:spPr>
              <a:xfrm>
                <a:off x="5562720" y="5429160"/>
                <a:ext cx="23112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Page 625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1 – 9, 11, 12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ply like components together, then ad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*You get a scalar quantity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gth of a vector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gle between Vectors Theore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3962520" y="3124080"/>
                <a:ext cx="3740040" cy="13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2286000" y="4876920"/>
                <a:ext cx="44816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nonzero vectors u and v are orthogonal iff their dot product is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assenger jet is cruising at a speed of 300 knots in a direction 25˚ east of south and there is a 40 knot wind coming from the southwest.  By how many degrees will the jet be thrown off cour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t’s velocity vector: [300, 295]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nd velocity vector: [40, 45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onent: 300cos295 + 40 cos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00 sin 295 + 40 sin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onent: 300cos295 + 40 cos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00 sin 295 + 40 sin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55.0697, -243.60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t back in polar for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 = 288.77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θ  = -57.5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 the plane is getting “pushed” 7.48˚ off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ur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Calculate the dot product of  &lt;-1, 8&gt; and &lt;-5, -10.2&gt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-1 * -5 + 8* -10.2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5 – 81.6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-76.6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ind the measure of the angle between the vectors u = &lt;-9, 12&gt; and v = &lt;-4, 3&gt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ormula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2666880" y="3200400"/>
                <a:ext cx="464832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2932200" y="5138640"/>
                <a:ext cx="27921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4"/>
              <p:cNvSpPr txBox="1"/>
              <p:nvPr/>
            </p:nvSpPr>
            <p:spPr>
              <a:xfrm>
                <a:off x="6858000" y="5403960"/>
                <a:ext cx="963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761760"/>
            <a:ext cx="8229600" cy="52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Explain the relationship between the dot product of two vectors and the angle between them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positive, the angle is acu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negative, the angle is obtu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zero, the    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ngle is right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-262080" y="-6480"/>
            <a:ext cx="8498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escribe all vectors in the plane that are orthogonal to &lt;17,5&gt; and have length 4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Two equations: 0 = 17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olve for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in the first: 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= -17/5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ubstitute back in: 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(-17/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(289/25)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314/2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400/314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3581280" y="5429160"/>
                <a:ext cx="22687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6400800" y="5105520"/>
                <a:ext cx="236376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3:01:51Z</dcterms:created>
  <dc:creator>Laura Helbing</dc:creator>
  <dc:description/>
  <dc:language>en-US</dc:language>
  <cp:lastModifiedBy>Laura Helbing</cp:lastModifiedBy>
  <dcterms:modified xsi:type="dcterms:W3CDTF">2012-04-11T16:39:06Z</dcterms:modified>
  <cp:revision>55</cp:revision>
  <dc:subject/>
  <dc:title>Slide 1</dc:title>
</cp:coreProperties>
</file>