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847-8FF5-43D4-8A5F-689CEAEC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3F9-305F-4D1C-87B6-75027DD2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1E04-6C7B-40DC-A939-D02B7F89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5E0-F15E-4D92-8AB6-4E3DF727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F023-C843-49E1-A125-93F82B4B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8665-8F35-46F3-93AC-80493FC1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199A-294E-4312-B6E2-76DBF27A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A18D-9897-47EE-80F2-E727CB95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69FD-138A-48D4-8108-F76BA256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B9DE-0039-4551-B48D-161BD9F6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CB3C-B9F9-4B11-A550-1585FD15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83F-8651-4F34-A9C7-868B286D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309F-D6A9-4506-99A1-90633C4D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1951-391B-417C-8893-89C8D10F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2FB3-9644-4739-BDCE-70D7B3C1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9179-4979-4DFA-8DD1-85405E90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450A-3B5D-4964-BB12-5C9FBDEE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A23-7D07-46B4-99CA-E7072AE1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4A6-22EE-46D6-9C1C-4CD5EBE0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75F-23C9-4552-BBD0-A8926250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84A7-1519-46CA-A258-084E8ACA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3F3-AB4C-4147-8613-6F1B881E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957-BEC7-4193-BFC3-C1963861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D96-15D4-439E-99DD-43AFAEFA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3004-1C93-4282-B6C1-C69729F9B7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42B7-163B-4B00-9607-3624EC6EE7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lynomial Division and the 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tion 4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523880" y="5105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x + 2 by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20"/>
          <p:cNvGrpSpPr/>
          <p:nvPr/>
        </p:nvGrpSpPr>
        <p:grpSpPr>
          <a:xfrm>
            <a:off x="3886200" y="2743200"/>
            <a:ext cx="3238560" cy="2755800"/>
            <a:chOff x="3886200" y="2743200"/>
            <a:chExt cx="3238560" cy="2755800"/>
          </a:xfrm>
        </p:grpSpPr>
        <p:graphicFrame>
          <p:nvGraphicFramePr>
            <p:cNvPr id="242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7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51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2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54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56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7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8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9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60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61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6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64" name="Object 16"/>
          <p:cNvGraphicFramePr/>
          <p:nvPr/>
        </p:nvGraphicFramePr>
        <p:xfrm>
          <a:off x="6324480" y="5562720"/>
          <a:ext cx="723960" cy="291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5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5562720"/>
                    <a:ext cx="72396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Line 17"/>
          <p:cNvSpPr/>
          <p:nvPr/>
        </p:nvSpPr>
        <p:spPr>
          <a:xfrm>
            <a:off x="6248520" y="5943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67" name="Object 18"/>
          <p:cNvGraphicFramePr/>
          <p:nvPr/>
        </p:nvGraphicFramePr>
        <p:xfrm>
          <a:off x="6705720" y="6019920"/>
          <a:ext cx="342720" cy="279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8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705720" y="6019920"/>
                    <a:ext cx="3427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9"/>
          <p:cNvSpPr/>
          <p:nvPr/>
        </p:nvSpPr>
        <p:spPr>
          <a:xfrm>
            <a:off x="1600200" y="5791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4343400" y="5334120"/>
            <a:ext cx="1828800" cy="3808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22"/>
          <p:cNvSpPr/>
          <p:nvPr/>
        </p:nvSpPr>
        <p:spPr>
          <a:xfrm>
            <a:off x="3657600" y="6095880"/>
            <a:ext cx="289548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3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133720" y="5486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The remainder is –1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4" name="Group 20"/>
          <p:cNvGrpSpPr/>
          <p:nvPr/>
        </p:nvGrpSpPr>
        <p:grpSpPr>
          <a:xfrm>
            <a:off x="3886200" y="2743200"/>
            <a:ext cx="3276720" cy="3556080"/>
            <a:chOff x="3886200" y="2743200"/>
            <a:chExt cx="3276720" cy="3556080"/>
          </a:xfrm>
        </p:grpSpPr>
        <p:graphicFrame>
          <p:nvGraphicFramePr>
            <p:cNvPr id="275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7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2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84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5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6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7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9" name="Object 11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0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1" name="Object 12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93" name="Object 14"/>
            <p:cNvGraphicFramePr/>
            <p:nvPr/>
          </p:nvGraphicFramePr>
          <p:xfrm>
            <a:off x="6705720" y="2743200"/>
            <a:ext cx="419040" cy="31752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94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705720" y="274320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96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7" name="Object 16"/>
            <p:cNvGraphicFramePr/>
            <p:nvPr/>
          </p:nvGraphicFramePr>
          <p:xfrm>
            <a:off x="6324480" y="5562720"/>
            <a:ext cx="723960" cy="291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98" name="Object 16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324480" y="5562720"/>
                      <a:ext cx="723960" cy="29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Line 17"/>
            <p:cNvSpPr/>
            <p:nvPr/>
          </p:nvSpPr>
          <p:spPr>
            <a:xfrm>
              <a:off x="6248520" y="59436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300" name="Object 18"/>
            <p:cNvGraphicFramePr/>
            <p:nvPr/>
          </p:nvGraphicFramePr>
          <p:xfrm>
            <a:off x="6705720" y="6019920"/>
            <a:ext cx="342720" cy="2793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301" name="Object 18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05720" y="6019920"/>
                      <a:ext cx="3427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2" name="Line 19"/>
          <p:cNvSpPr/>
          <p:nvPr/>
        </p:nvSpPr>
        <p:spPr>
          <a:xfrm>
            <a:off x="5105520" y="5715000"/>
            <a:ext cx="1447560" cy="4572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1295280" y="37339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is 2x² - x +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22"/>
          <p:cNvSpPr/>
          <p:nvPr/>
        </p:nvSpPr>
        <p:spPr>
          <a:xfrm flipV="1">
            <a:off x="3048120" y="2971800"/>
            <a:ext cx="220968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1143000" y="12193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Also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6" name="Object 4"/>
          <p:cNvGraphicFramePr/>
          <p:nvPr/>
        </p:nvGraphicFramePr>
        <p:xfrm>
          <a:off x="4495680" y="1447920"/>
          <a:ext cx="2913120" cy="9968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495680" y="1447920"/>
                    <a:ext cx="291312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4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9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7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2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p(x) = -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8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, first make sure that every exponent is represented : notice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0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0x - 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(x) -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2x + 1 and r(x) = -2x -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emainder Theor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polynomial p(x) of degree ≥ 1 is divided by x – c, the remainder is the constant p(c).  That i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x) = q(x)(x – c) + p(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 3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p(x) be defined by p(x) = 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x – 11.  Find the remainder when p(x) is divided by x – 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– c = x – 3 so c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der is p(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(3) = 2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8(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 – 11 = 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Pages 239 – 24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3 – 4, 6 - 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981080" y="1981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 + 3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4" name="Object 0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 Box 23"/>
          <p:cNvSpPr/>
          <p:nvPr/>
        </p:nvSpPr>
        <p:spPr>
          <a:xfrm>
            <a:off x="1447920" y="32767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+ 2 is the divi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3048120" y="4343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e quotient will be he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Line 25"/>
          <p:cNvSpPr/>
          <p:nvPr/>
        </p:nvSpPr>
        <p:spPr>
          <a:xfrm flipV="1">
            <a:off x="3124080" y="3504960"/>
            <a:ext cx="685800" cy="2286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Line 26"/>
          <p:cNvSpPr/>
          <p:nvPr/>
        </p:nvSpPr>
        <p:spPr>
          <a:xfrm flipV="1">
            <a:off x="4495680" y="3048120"/>
            <a:ext cx="1067040" cy="1295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7"/>
          <p:cNvSpPr/>
          <p:nvPr/>
        </p:nvSpPr>
        <p:spPr>
          <a:xfrm>
            <a:off x="5791320" y="41911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2x³ + 3x² - x + 1 is the divid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Line 28"/>
          <p:cNvSpPr/>
          <p:nvPr/>
        </p:nvSpPr>
        <p:spPr>
          <a:xfrm flipH="1" flipV="1">
            <a:off x="5638680" y="3580920"/>
            <a:ext cx="914400" cy="6858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Rectangle 1027"/>
          <p:cNvSpPr/>
          <p:nvPr/>
        </p:nvSpPr>
        <p:spPr>
          <a:xfrm>
            <a:off x="1447920" y="16765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First divide the first term of the dividend, 2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³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(the first term of the divisor)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Object 1028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1030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1043"/>
          <p:cNvSpPr/>
          <p:nvPr/>
        </p:nvSpPr>
        <p:spPr>
          <a:xfrm>
            <a:off x="1066680" y="28954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This gives 2x². This will be the first term of the quoti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044"/>
          <p:cNvSpPr/>
          <p:nvPr/>
        </p:nvSpPr>
        <p:spPr>
          <a:xfrm flipV="1">
            <a:off x="3352680" y="2895120"/>
            <a:ext cx="1981440" cy="304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371600" y="3200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multiply 2x²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3886200" y="3124080"/>
          <a:ext cx="31748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124080"/>
                    <a:ext cx="31748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5"/>
          <p:cNvGraphicFramePr/>
          <p:nvPr/>
        </p:nvGraphicFramePr>
        <p:xfrm>
          <a:off x="4724280" y="3657600"/>
          <a:ext cx="139716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57600"/>
                    <a:ext cx="13971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6"/>
          <p:cNvGraphicFramePr/>
          <p:nvPr/>
        </p:nvGraphicFramePr>
        <p:xfrm>
          <a:off x="5486400" y="2743200"/>
          <a:ext cx="54612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2743200"/>
                    <a:ext cx="5461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5486400" y="4191120"/>
          <a:ext cx="54612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191120"/>
                    <a:ext cx="5461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8"/>
          <p:cNvSpPr/>
          <p:nvPr/>
        </p:nvSpPr>
        <p:spPr>
          <a:xfrm>
            <a:off x="4648320" y="4114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1447920" y="4114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3276720" y="3733920"/>
            <a:ext cx="13716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3429000" y="4343400"/>
            <a:ext cx="1905120" cy="763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95280" y="38098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-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.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6" name="Group 21"/>
          <p:cNvGrpSpPr/>
          <p:nvPr/>
        </p:nvGrpSpPr>
        <p:grpSpPr>
          <a:xfrm>
            <a:off x="3886200" y="2743200"/>
            <a:ext cx="3174840" cy="1790640"/>
            <a:chOff x="3886200" y="2743200"/>
            <a:chExt cx="3174840" cy="1790640"/>
          </a:xfrm>
        </p:grpSpPr>
        <p:grpSp>
          <p:nvGrpSpPr>
            <p:cNvPr id="127" name="Group 20"/>
            <p:cNvGrpSpPr/>
            <p:nvPr/>
          </p:nvGrpSpPr>
          <p:grpSpPr>
            <a:xfrm>
              <a:off x="3886200" y="2743200"/>
              <a:ext cx="3174840" cy="1257480"/>
              <a:chOff x="3886200" y="2743200"/>
              <a:chExt cx="3174840" cy="1257480"/>
            </a:xfrm>
          </p:grpSpPr>
          <p:graphicFrame>
            <p:nvGraphicFramePr>
              <p:cNvPr id="128" name="Object 4"/>
              <p:cNvGraphicFramePr/>
              <p:nvPr/>
            </p:nvGraphicFramePr>
            <p:xfrm>
              <a:off x="3886200" y="3124080"/>
              <a:ext cx="3174840" cy="584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9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886200" y="3124080"/>
                        <a:ext cx="3174840" cy="584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0" name="Object 5"/>
              <p:cNvGraphicFramePr/>
              <p:nvPr/>
            </p:nvGraphicFramePr>
            <p:xfrm>
              <a:off x="4724280" y="3657600"/>
              <a:ext cx="1397160" cy="343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1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24280" y="3657600"/>
                        <a:ext cx="139716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2" name="Object 6"/>
              <p:cNvGraphicFramePr/>
              <p:nvPr/>
            </p:nvGraphicFramePr>
            <p:xfrm>
              <a:off x="5486400" y="2743200"/>
              <a:ext cx="546120" cy="343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486400" y="2743200"/>
                        <a:ext cx="546120" cy="3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34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5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137" name="Object 9"/>
          <p:cNvGraphicFramePr/>
          <p:nvPr/>
        </p:nvGraphicFramePr>
        <p:xfrm>
          <a:off x="6127920" y="4222800"/>
          <a:ext cx="53316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27920" y="4222800"/>
                    <a:ext cx="5331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19"/>
          <p:cNvSpPr/>
          <p:nvPr/>
        </p:nvSpPr>
        <p:spPr>
          <a:xfrm flipV="1">
            <a:off x="3581280" y="3580920"/>
            <a:ext cx="2743200" cy="8384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066680" y="2666880"/>
            <a:ext cx="26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Now divide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, the first term of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² -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43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6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7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8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0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2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4" name="Object 10"/>
          <p:cNvGraphicFramePr/>
          <p:nvPr/>
        </p:nvGraphicFramePr>
        <p:xfrm>
          <a:off x="6172200" y="2743200"/>
          <a:ext cx="53352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2743200"/>
                    <a:ext cx="5335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Group 24"/>
          <p:cNvGrpSpPr/>
          <p:nvPr/>
        </p:nvGrpSpPr>
        <p:grpSpPr>
          <a:xfrm>
            <a:off x="3581280" y="3505320"/>
            <a:ext cx="1752840" cy="914400"/>
            <a:chOff x="3581280" y="3505320"/>
            <a:chExt cx="1752840" cy="914400"/>
          </a:xfrm>
        </p:grpSpPr>
        <p:sp>
          <p:nvSpPr>
            <p:cNvPr id="157" name="Line 20"/>
            <p:cNvSpPr/>
            <p:nvPr/>
          </p:nvSpPr>
          <p:spPr>
            <a:xfrm>
              <a:off x="3581280" y="3962520"/>
              <a:ext cx="17528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21"/>
            <p:cNvSpPr/>
            <p:nvPr/>
          </p:nvSpPr>
          <p:spPr>
            <a:xfrm flipV="1">
              <a:off x="3581280" y="3505320"/>
              <a:ext cx="381240" cy="4572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11430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–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3505320" y="3047760"/>
            <a:ext cx="2819160" cy="19047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4495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Multiply –x by x + 2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3886200" y="2743200"/>
            <a:ext cx="3174840" cy="1809720"/>
            <a:chOff x="3886200" y="2743200"/>
            <a:chExt cx="3174840" cy="1809720"/>
          </a:xfrm>
        </p:grpSpPr>
        <p:graphicFrame>
          <p:nvGraphicFramePr>
            <p:cNvPr id="16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7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74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76" name="Object 1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7" name="Object 11"/>
          <p:cNvGraphicFramePr/>
          <p:nvPr/>
        </p:nvGraphicFramePr>
        <p:xfrm>
          <a:off x="5486400" y="4648320"/>
          <a:ext cx="127008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4648320"/>
                    <a:ext cx="127008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0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3"/>
          <p:cNvSpPr/>
          <p:nvPr/>
        </p:nvSpPr>
        <p:spPr>
          <a:xfrm>
            <a:off x="5562720" y="5105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447920" y="5181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nd subtra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4343400" y="4724280"/>
            <a:ext cx="990720" cy="152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22"/>
          <p:cNvSpPr/>
          <p:nvPr/>
        </p:nvSpPr>
        <p:spPr>
          <a:xfrm flipV="1">
            <a:off x="3429000" y="5257440"/>
            <a:ext cx="2286000" cy="1522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447920" y="43434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Bring down the next term, 1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7" name="Object 12"/>
          <p:cNvGraphicFramePr/>
          <p:nvPr/>
        </p:nvGraphicFramePr>
        <p:xfrm>
          <a:off x="6324480" y="5257800"/>
          <a:ext cx="26676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257800"/>
                    <a:ext cx="2667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Group 19"/>
          <p:cNvGrpSpPr/>
          <p:nvPr/>
        </p:nvGrpSpPr>
        <p:grpSpPr>
          <a:xfrm>
            <a:off x="3886200" y="2743200"/>
            <a:ext cx="3174840" cy="2362320"/>
            <a:chOff x="3886200" y="2743200"/>
            <a:chExt cx="3174840" cy="2362320"/>
          </a:xfrm>
        </p:grpSpPr>
        <p:graphicFrame>
          <p:nvGraphicFramePr>
            <p:cNvPr id="190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1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7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99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00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02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04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aphicFrame>
        <p:nvGraphicFramePr>
          <p:cNvPr id="206" name="Object 15"/>
          <p:cNvGraphicFramePr/>
          <p:nvPr/>
        </p:nvGraphicFramePr>
        <p:xfrm>
          <a:off x="6629400" y="5181480"/>
          <a:ext cx="419040" cy="31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7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9400" y="518148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Line 20"/>
          <p:cNvSpPr/>
          <p:nvPr/>
        </p:nvSpPr>
        <p:spPr>
          <a:xfrm flipV="1">
            <a:off x="3429000" y="3580920"/>
            <a:ext cx="3429000" cy="1295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1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21304"/>
                </a:solidFill>
                <a:latin typeface="Comic Sans MS"/>
              </a:rPr>
              <a:t>Polynomial long division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43000" y="373392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Divide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 + 1, by </a:t>
            </a:r>
            <a:r>
              <a:rPr b="0" i="1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x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  <a:ea typeface="Arial"/>
              </a:rPr>
              <a:t>, the first term of the divisor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1" name="Object 14"/>
          <p:cNvGraphicFramePr/>
          <p:nvPr/>
        </p:nvGraphicFramePr>
        <p:xfrm>
          <a:off x="6705720" y="2743200"/>
          <a:ext cx="41904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743200"/>
                    <a:ext cx="4190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Group 21"/>
          <p:cNvGrpSpPr/>
          <p:nvPr/>
        </p:nvGrpSpPr>
        <p:grpSpPr>
          <a:xfrm>
            <a:off x="3886200" y="2743200"/>
            <a:ext cx="3174840" cy="2755800"/>
            <a:chOff x="3886200" y="2743200"/>
            <a:chExt cx="3174840" cy="2755800"/>
          </a:xfrm>
        </p:grpSpPr>
        <p:graphicFrame>
          <p:nvGraphicFramePr>
            <p:cNvPr id="214" name="Object 4"/>
            <p:cNvGraphicFramePr/>
            <p:nvPr/>
          </p:nvGraphicFramePr>
          <p:xfrm>
            <a:off x="3886200" y="3124080"/>
            <a:ext cx="3174840" cy="58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6200" y="3124080"/>
                      <a:ext cx="3174840" cy="58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6" name="Object 5"/>
            <p:cNvGraphicFramePr/>
            <p:nvPr/>
          </p:nvGraphicFramePr>
          <p:xfrm>
            <a:off x="4724280" y="3657600"/>
            <a:ext cx="1397160" cy="343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24280" y="3657600"/>
                      <a:ext cx="13971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8" name="Object 6"/>
            <p:cNvGraphicFramePr/>
            <p:nvPr/>
          </p:nvGraphicFramePr>
          <p:xfrm>
            <a:off x="5486400" y="2743200"/>
            <a:ext cx="5461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9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486400" y="2743200"/>
                      <a:ext cx="5461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0" name="Object 7"/>
            <p:cNvGraphicFramePr/>
            <p:nvPr/>
          </p:nvGraphicFramePr>
          <p:xfrm>
            <a:off x="5486400" y="4191120"/>
            <a:ext cx="546120" cy="34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21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4191120"/>
                      <a:ext cx="54612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Line 8"/>
            <p:cNvSpPr/>
            <p:nvPr/>
          </p:nvSpPr>
          <p:spPr>
            <a:xfrm>
              <a:off x="4648320" y="411480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23" name="Object 9"/>
            <p:cNvGraphicFramePr/>
            <p:nvPr/>
          </p:nvGraphicFramePr>
          <p:xfrm>
            <a:off x="6127920" y="4222800"/>
            <a:ext cx="533160" cy="330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24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127920" y="4222800"/>
                      <a:ext cx="5331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10"/>
            <p:cNvGraphicFramePr/>
            <p:nvPr/>
          </p:nvGraphicFramePr>
          <p:xfrm>
            <a:off x="6172200" y="2743200"/>
            <a:ext cx="533520" cy="330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26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172200" y="2743200"/>
                      <a:ext cx="53352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11"/>
            <p:cNvGraphicFramePr/>
            <p:nvPr/>
          </p:nvGraphicFramePr>
          <p:xfrm>
            <a:off x="5486400" y="4648320"/>
            <a:ext cx="1270080" cy="342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28" name="Object 11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486400" y="4648320"/>
                      <a:ext cx="1270080" cy="34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Object 12"/>
            <p:cNvGraphicFramePr/>
            <p:nvPr/>
          </p:nvGraphicFramePr>
          <p:xfrm>
            <a:off x="6324480" y="5257800"/>
            <a:ext cx="266760" cy="2412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30" name="Object 12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324480" y="5257800"/>
                      <a:ext cx="266760" cy="24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Line 13"/>
            <p:cNvSpPr/>
            <p:nvPr/>
          </p:nvSpPr>
          <p:spPr>
            <a:xfrm>
              <a:off x="5562720" y="51055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32" name="Object 15"/>
            <p:cNvGraphicFramePr/>
            <p:nvPr/>
          </p:nvGraphicFramePr>
          <p:xfrm>
            <a:off x="6629400" y="5181480"/>
            <a:ext cx="419040" cy="31752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33" name="Object 1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29400" y="5181480"/>
                      <a:ext cx="41904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4" name="Text Box 19"/>
          <p:cNvSpPr/>
          <p:nvPr/>
        </p:nvSpPr>
        <p:spPr>
          <a:xfrm>
            <a:off x="1219320" y="5486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which gives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26"/>
          <p:cNvGrpSpPr/>
          <p:nvPr/>
        </p:nvGrpSpPr>
        <p:grpSpPr>
          <a:xfrm>
            <a:off x="3962520" y="3581280"/>
            <a:ext cx="2209680" cy="1752840"/>
            <a:chOff x="3962520" y="3581280"/>
            <a:chExt cx="2209680" cy="1752840"/>
          </a:xfrm>
        </p:grpSpPr>
        <p:sp>
          <p:nvSpPr>
            <p:cNvPr id="236" name="Line 22"/>
            <p:cNvSpPr/>
            <p:nvPr/>
          </p:nvSpPr>
          <p:spPr>
            <a:xfrm flipV="1">
              <a:off x="3962520" y="3581280"/>
              <a:ext cx="75960" cy="106704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3962520" y="4648320"/>
              <a:ext cx="2209680" cy="68580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Line 25"/>
          <p:cNvSpPr/>
          <p:nvPr/>
        </p:nvSpPr>
        <p:spPr>
          <a:xfrm flipV="1">
            <a:off x="3276720" y="3123720"/>
            <a:ext cx="3581280" cy="25909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09:42:59Z</dcterms:created>
  <dc:creator>Berry</dc:creator>
  <dc:description/>
  <dc:language>en-US</dc:language>
  <cp:lastModifiedBy>teacher</cp:lastModifiedBy>
  <dcterms:modified xsi:type="dcterms:W3CDTF">2010-11-16T02:57:31Z</dcterms:modified>
  <cp:revision>18</cp:revision>
  <dc:subject/>
  <dc:title>Dividing polynomials</dc:title>
</cp:coreProperties>
</file>