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817-ED1A-44CA-9937-13162815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A73-E0E4-4050-BFBC-F36D6B6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801-FE6A-4EF0-9C60-4D93E44F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1F9-295C-48ED-8E32-34619475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0FC2-3174-4217-AB6E-5CC451FE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49BF-06D9-425B-8B72-6E1DD6C3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33BB-781F-452C-BCF1-68C5E9C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F5DF-208B-48A9-8AEE-1F5AD12E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6C01-571D-48A6-AD63-4C9257BE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2DF2-FB35-477E-8B92-24F0287F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3598-0713-42BE-8A36-0BC9099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80B7-282F-4E5F-B001-50E691D1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152D-CB83-436E-B63B-6141E89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BE67-3ACF-4142-A335-7122C1BA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3E8C-F50D-4B0A-94FE-30643749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075D-B30C-4E99-9F62-5B3128F4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ADD5-3A3E-4CAE-BBEA-E2217F06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E305-4C50-4EDC-9D23-4744333D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CBCA-B774-40FC-B51B-EB6A54AC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377-04FD-43D5-87DF-42CC98EE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19B-C95E-41BB-8B72-BF20C1A0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C8B-A4D3-40A5-A81D-BA9B2B74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553A-35D1-41E6-90D5-9131C2E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0F4-0AA9-423A-9A05-20099D60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82FA-A9C3-4F33-A917-011756CE70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53AC-EAD5-4DA4-9492-7070C018D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4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first make sure that every exponent is represented : notic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 - 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and r(x) = -2x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p(x) of degree ≥ 1 is divided by x – c, the remainder is the constant p(c). 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x) = q(x)(x – c) + p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239 – 24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3 – 4, 6 -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teacher</cp:lastModifiedBy>
  <dcterms:modified xsi:type="dcterms:W3CDTF">2010-11-16T02:57:31Z</dcterms:modified>
  <cp:revision>18</cp:revision>
  <dc:subject/>
  <dc:title>Dividing polynomials</dc:title>
</cp:coreProperties>
</file>