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121-7A62-43FA-82D1-5302B085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CAA-2D02-48FE-BBFB-F778989D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891-35F1-4567-AC54-95BB8386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63A-79DE-475F-9F98-2EFBD6AE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51C9-109E-4310-99CF-3BDB6BB1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641F-6FCB-47DF-AC22-127B9BBC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6202-7999-4E6A-9CAA-079F7BC4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0D3F-59B7-40B1-9D12-FC635B48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0A00-ADF7-491B-A4DB-D77D6E86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D769-62FD-4960-BD6E-2BED5406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FCEC-6B3D-41F4-90BA-54484E5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3C9-B453-48FC-AC9C-FD1A060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6141-C2BA-49A4-9397-25F137FB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0A1B-F209-4728-B06E-4B70FFB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19E4-63A1-44CC-99E1-63DADC9E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CA6A-AEEB-43A5-8A8E-82C668E3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DDB7-5E02-4D56-921A-BB948390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E95-3E77-4FB1-92CF-B10C2F7D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4A9-13F0-42CC-8975-E8C507A3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6AB-97CD-4F69-B962-C14F0D6C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D4C-E91F-4441-854C-B7A94D0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1A2-5163-4B00-97FC-051195C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1DD-A39B-4CAE-B12E-ADB191B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891-B1BF-4BF6-BC04-2C07B53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E444-3970-4EFC-8F3E-94E12158A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BED9-363D-4934-A52D-0877CF5712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4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first make sure that every exponent is represented : notic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0x - 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and r(x) = -2x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p(x) of degree ≥ 1 is divided by x – c, the remainder is the constant p(c). 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x) = q(x)(x – c) + p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239 – 24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3 – 4, 6 -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teacher</cp:lastModifiedBy>
  <dcterms:modified xsi:type="dcterms:W3CDTF">2010-11-16T02:57:31Z</dcterms:modified>
  <cp:revision>18</cp:revision>
  <dc:subject/>
  <dc:title>Dividing polynomials</dc:title>
</cp:coreProperties>
</file>