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48B-0A57-4325-9B99-80499512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F41-CB29-46BB-944E-1A6A5FB7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094-688D-4C41-BD8C-54411D24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B76-F7D5-43FD-BC41-DAF9BA25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DEE-AA31-402B-BC67-31268D9C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B59-9A13-4BC1-9DC8-6A85BE4E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CC7-80A1-4E86-9199-903A1074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B03-BC34-4053-936F-3D42EA4B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78D-6FA7-412C-8210-8C8F7CA0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9BD-24FB-4222-B492-4A1075C8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2AA-FE45-4642-B9B6-FE0B13CA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627-8D66-45B6-8FF1-FE718CBE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2DD2-5602-4468-B867-6AE28E7246B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ifference Quotients and Rates of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7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Average Rate of Change = average velocity = slope of the secant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Speed: magnitude of velo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114800" y="3336840"/>
            <a:ext cx="4724280" cy="35211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629400" y="3657600"/>
            <a:ext cx="533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6629400" y="3276720"/>
                <a:ext cx="560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Difference Quoti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3124080" y="17524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793320" y="5257800"/>
            <a:ext cx="53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second to 1.7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952880" y="574668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Suppose a baseball is batted from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eight of 4 feet with a velocity of 1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eet per second at a 30˚ angle to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ound.  If only the effect of Earth’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gravity is considered, then its heigh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h(t) after t seconds is given by h(t) = 4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55t – 16t</a:t>
            </a:r>
            <a:r>
              <a:rPr b="0" lang="en-US" sz="3200" spc="-1" strike="noStrike" baseline="30000">
                <a:solidFill>
                  <a:srgbClr val="401427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.  Find the average rate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change in the height of the project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rom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792960" y="5257800"/>
            <a:ext cx="52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seconds to 3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152280" y="57466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5240160" y="5746680"/>
                <a:ext cx="32608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9"/>
          <p:cNvSpPr/>
          <p:nvPr/>
        </p:nvSpPr>
        <p:spPr>
          <a:xfrm>
            <a:off x="0" y="4876920"/>
            <a:ext cx="41148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228600" y="3809880"/>
            <a:ext cx="853452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228600" y="2666880"/>
            <a:ext cx="411480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05120" y="60948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For the function h of Additional Example 1, find a formula for the average rate of change of h(t) for the interval from t to </a:t>
            </a:r>
            <a:r>
              <a:rPr b="0" lang="el-GR" sz="3200" spc="-1" strike="noStrike">
                <a:solidFill>
                  <a:srgbClr val="401427"/>
                </a:solidFill>
                <a:latin typeface="Calibri"/>
              </a:rPr>
              <a:t>Δ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t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152280" y="2666880"/>
                <a:ext cx="43023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4648320" y="2514600"/>
                <a:ext cx="3835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228600" y="3733920"/>
                <a:ext cx="84945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152280" y="4724280"/>
                <a:ext cx="91760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2"/>
              <p:cNvSpPr txBox="1"/>
              <p:nvPr/>
            </p:nvSpPr>
            <p:spPr>
              <a:xfrm>
                <a:off x="650880" y="5675400"/>
                <a:ext cx="39434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t</m:t>
                        </m:r>
                        <m:r>
                          <m:t xml:space="preserve">⋅</m:t>
                        </m:r>
                        <m:r>
                          <m:t xml:space="preserve">Δ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3"/>
              <p:cNvSpPr txBox="1"/>
              <p:nvPr/>
            </p:nvSpPr>
            <p:spPr>
              <a:xfrm>
                <a:off x="5562720" y="6091200"/>
                <a:ext cx="2652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421 – 42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5 – 9,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11 - 1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1-01-19T04:22:03Z</dcterms:modified>
  <cp:revision>88</cp:revision>
  <dc:subject/>
  <dc:title>Difference Quotients and Rates of Change</dc:title>
</cp:coreProperties>
</file>