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E294-F8FB-45EB-BC31-5B0D5A9F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FDA-6A9A-480C-899D-B9858EBF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AC7-9028-4FFD-BBA8-F38BD101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84B-ABD9-4428-96E9-4F844733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514-3473-41BA-A33A-C9A9AC82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1D5A-0209-4957-A532-1F97079F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EEC-C68A-49DF-94A9-8AB7CC25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F122-F264-4CF3-9E6F-13C2E305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F0C-1986-4DE8-AB13-EA98FCE0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B89-6081-4C96-97F3-79241F18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A39-3A83-41A9-84EE-FDF080BD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623-8CD8-4CE8-8F97-96668FCF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E837-E30C-48BA-9401-C5AA18E4D66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1427"/>
                </a:solidFill>
                <a:latin typeface="Calibri"/>
              </a:rPr>
              <a:t>Difference Quotients and Rates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1440"/>
            <a:ext cx="64008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401427"/>
                </a:solidFill>
                <a:latin typeface="Calibri"/>
              </a:rPr>
              <a:t>Section 7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Average Rate of Change = average velocity = slope of the secant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Speed: magnitude of velo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114800" y="3336840"/>
            <a:ext cx="4724280" cy="3521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6629400" y="3657600"/>
            <a:ext cx="533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6629400" y="3276720"/>
                <a:ext cx="560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Difference Quoti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7"/>
              <p:cNvSpPr txBox="1"/>
              <p:nvPr/>
            </p:nvSpPr>
            <p:spPr>
              <a:xfrm>
                <a:off x="3124080" y="17524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5120" y="609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Suppose a baseball is batted from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eight of 4 feet with a velocity of 1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eet per second at a 30˚ angle to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ound.  If only the effect of Earth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avity is considered, then its heig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(t) after t seconds is given by h(t) = 4 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55t – 16t</a:t>
            </a:r>
            <a:r>
              <a:rPr b="0" lang="en-US" sz="3200" spc="-1" strike="noStrike" baseline="30000">
                <a:solidFill>
                  <a:srgbClr val="401427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.  Find the average rat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change in the height of the project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rom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793320" y="5257800"/>
            <a:ext cx="53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second to 1.7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152280" y="57466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952880" y="5746680"/>
                <a:ext cx="3835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f>
                      <m:fPr>
                        <m:type m:val="lin"/>
                      </m:fPr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05120" y="609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Suppose a baseball is batted from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eight of 4 feet with a velocity of 1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eet per second at a 30˚ angle to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ound.  If only the effect of Earth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avity is considered, then its heig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(t) after t seconds is given by h(t) = 4 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55t – 16t</a:t>
            </a:r>
            <a:r>
              <a:rPr b="0" lang="en-US" sz="3200" spc="-1" strike="noStrike" baseline="30000">
                <a:solidFill>
                  <a:srgbClr val="401427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.  Find the average rat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change in the height of the project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rom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792960" y="5257800"/>
            <a:ext cx="52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seconds to 3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3"/>
              <p:cNvSpPr txBox="1"/>
              <p:nvPr/>
            </p:nvSpPr>
            <p:spPr>
              <a:xfrm>
                <a:off x="152280" y="57466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5240160" y="5746680"/>
                <a:ext cx="32608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9"/>
          <p:cNvSpPr/>
          <p:nvPr/>
        </p:nvSpPr>
        <p:spPr>
          <a:xfrm>
            <a:off x="0" y="4876920"/>
            <a:ext cx="411480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228600" y="3809880"/>
            <a:ext cx="853452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228600" y="2666880"/>
            <a:ext cx="41148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05120" y="609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or the function h of Additional Example 1, find a formula for the average rate of change of h(t) for the interval from t to </a:t>
            </a:r>
            <a:r>
              <a:rPr b="0" lang="el-GR" sz="3200" spc="-1" strike="noStrike">
                <a:solidFill>
                  <a:srgbClr val="401427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t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152280" y="26668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9"/>
              <p:cNvSpPr txBox="1"/>
              <p:nvPr/>
            </p:nvSpPr>
            <p:spPr>
              <a:xfrm>
                <a:off x="4648320" y="2514600"/>
                <a:ext cx="3835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228600" y="3733920"/>
                <a:ext cx="84945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152280" y="4724280"/>
                <a:ext cx="917604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2"/>
              <p:cNvSpPr txBox="1"/>
              <p:nvPr/>
            </p:nvSpPr>
            <p:spPr>
              <a:xfrm>
                <a:off x="650880" y="5675400"/>
                <a:ext cx="394344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3"/>
              <p:cNvSpPr txBox="1"/>
              <p:nvPr/>
            </p:nvSpPr>
            <p:spPr>
              <a:xfrm>
                <a:off x="5562720" y="6091200"/>
                <a:ext cx="2652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Pages 421 – 42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5 – 9,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11 - 1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1:06:49Z</dcterms:created>
  <dc:creator>Laura Helbing</dc:creator>
  <dc:description/>
  <dc:language>en-US</dc:language>
  <cp:lastModifiedBy>Laura Helbing</cp:lastModifiedBy>
  <dcterms:modified xsi:type="dcterms:W3CDTF">2011-01-19T04:22:03Z</dcterms:modified>
  <cp:revision>88</cp:revision>
  <dc:subject/>
  <dc:title>Difference Quotients and Rates of Change</dc:title>
</cp:coreProperties>
</file>