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708-7E59-46B0-8D25-0E9D2B81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AC1-BB47-4651-BA2A-1C79F671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E7-3529-4631-B574-52571D66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EE0-52DF-4C53-B17B-AC81FA1B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1B4-8BD7-487E-AB16-E3396D7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81B-7152-4568-B8FA-5501DC46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6EC-7C8F-46C8-A2B6-795C9561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026-56CA-4A3F-8B2F-CBACAD7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E28-A636-471E-A97B-4A616C2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600-595F-45E9-B03A-38383B6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757-7D10-4DE1-A60C-BD65D59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35E-3CAF-4438-A55F-F398A6B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0EA4-A639-4BD7-BBD3-7F4E6AAABB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Complex Numbers and Transformations of th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642680"/>
            <a:ext cx="20318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Les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9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tance between complex number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distance between two complex numbers z and w is |z – w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ransormation T of the plane is an isometry iff |z – w| = |T(z) – T(w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ex Number Transformat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The translation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 units horizontally and b units vertically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+b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 + a + bi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The reflection over the real ax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The rotation 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.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bout the origin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(cos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)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The size change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 k and centered at the origin can be expressed a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k ∙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4286160" y="342900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sometry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ransformation T is an isometry iff there exist complex numbers c and d with |c| = 1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(direct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 (opposite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3214800" y="4071960"/>
            <a:ext cx="2854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Plain and Si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is an isometry if it is only a translation, rotation, and/or refle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cannot be an isometry if there is a scale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In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lation     rot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ide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 flipH="1">
            <a:off x="1999800" y="4213800"/>
            <a:ext cx="2286720" cy="8578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Straight Arrow Connector 5"/>
          <p:cNvCxnSpPr/>
          <p:nvPr/>
        </p:nvCxnSpPr>
        <p:spPr>
          <a:xfrm>
            <a:off x="4357800" y="4214520"/>
            <a:ext cx="207180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Straight Arrow Connector 9"/>
          <p:cNvCxnSpPr/>
          <p:nvPr/>
        </p:nvCxnSpPr>
        <p:spPr>
          <a:xfrm flipH="1">
            <a:off x="1071000" y="5428800"/>
            <a:ext cx="57204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6" name="Straight Arrow Connector 12"/>
          <p:cNvCxnSpPr/>
          <p:nvPr/>
        </p:nvCxnSpPr>
        <p:spPr>
          <a:xfrm>
            <a:off x="1642680" y="5428800"/>
            <a:ext cx="142956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/>
          <p:nvPr/>
        </p:nvCxnSpPr>
        <p:spPr>
          <a:xfrm flipH="1">
            <a:off x="5571360" y="5428080"/>
            <a:ext cx="114372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8" name="Straight Arrow Connector 17"/>
          <p:cNvCxnSpPr/>
          <p:nvPr/>
        </p:nvCxnSpPr>
        <p:spPr>
          <a:xfrm>
            <a:off x="6715080" y="5428800"/>
            <a:ext cx="1215360" cy="7153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for the congruence transformation T that maps black onto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rotation acros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inar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 real : 0, im: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 - 5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h12_Sec04_im005.gif"/>
          <p:cNvPicPr/>
          <p:nvPr/>
        </p:nvPicPr>
        <p:blipFill>
          <a:blip r:embed="rId2"/>
          <a:srcRect l="54230" t="0" r="0" b="12506"/>
          <a:stretch/>
        </p:blipFill>
        <p:spPr>
          <a:xfrm>
            <a:off x="500040" y="3214800"/>
            <a:ext cx="3871800" cy="30002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5214960" y="571500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that maps       PQR (with P = 1, Q = 2 + i, R = 4 + i) onto P’Q’R’ (with P = -1, Q = -2 – i , R = -4 – 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otation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z(cos 180 + i sin 1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sosceles Triangle 5"/>
          <p:cNvSpPr/>
          <p:nvPr/>
        </p:nvSpPr>
        <p:spPr>
          <a:xfrm>
            <a:off x="4786200" y="1643040"/>
            <a:ext cx="714600" cy="48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be the transformation with the given rule as a composite of rotations, reflections, or translation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iz + 3 – 5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3-5i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el-GR" sz="66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214800" y="335772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Page 54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Laura Helbing</cp:lastModifiedBy>
  <dcterms:modified xsi:type="dcterms:W3CDTF">2011-03-31T17:57:33Z</dcterms:modified>
  <cp:revision>131</cp:revision>
  <dc:subject/>
  <dc:title>PRESENTATION  NAME</dc:title>
</cp:coreProperties>
</file>