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F791-5432-4588-B57D-5B70B50C7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0186-752D-4528-B4E4-59E09EFF4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4777-52EA-406B-8742-12D1CFB9E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BBFF-AD97-472D-83BD-09E21CDAC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7013-6861-49C8-B41D-E9250C434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A99F-05AA-457A-BE43-2BC3629DF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1E24-A9EF-4568-8132-2A318D444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E369-3330-4581-A709-1C79B400D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ACAB-4970-4B1A-A286-B9614BC08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F8E3-A8EC-4325-9A8B-F2A17EDD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7A2A-F388-473B-ABC2-D523B62C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EF39-6256-4888-AC43-EB601ACC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CC542-5CA3-4AC9-8BD3-3C89E5EC4930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1555920"/>
            <a:ext cx="6192720" cy="79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ffffff"/>
                </a:solidFill>
                <a:latin typeface="Arial"/>
              </a:rPr>
              <a:t>Complex Numbers and Transformations of the Pl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643800" y="1642680"/>
            <a:ext cx="203184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ff"/>
                </a:solidFill>
                <a:latin typeface="Arial"/>
              </a:rPr>
              <a:t>Less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ff"/>
                </a:solidFill>
                <a:latin typeface="Arial"/>
              </a:rPr>
              <a:t>9.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03280" y="419040"/>
            <a:ext cx="56167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istance between complex numbers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he distance between two complex numbers z and w is |z – w|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 transormation T of the plane is an isometry iff |z – w| = |T(z) – T(w)|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86880" cy="12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omplex Number Transformation Theor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213920"/>
            <a:ext cx="885816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1. The translation T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Arial"/>
              </a:rPr>
              <a:t>a,b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a units horizontally and b units vertically can be expressed as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     T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Arial"/>
              </a:rPr>
              <a:t>a+bi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: z </a:t>
            </a: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z + a + bi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2. The reflection over the real axis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= z </a:t>
            </a: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3. The rotation R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Constantia"/>
              </a:rPr>
              <a:t>θ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of mag. </a:t>
            </a:r>
            <a:r>
              <a:rPr b="0" lang="el-GR" sz="32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about the origin can be expressed as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l-GR" sz="3200" spc="-1" strike="noStrike" baseline="-25000">
                <a:solidFill>
                  <a:srgbClr val="000000"/>
                </a:solidFill>
                <a:latin typeface="Constantia"/>
              </a:rPr>
              <a:t>θ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: z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(cos </a:t>
            </a:r>
            <a:r>
              <a:rPr b="0" lang="el-GR" sz="32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+ i sin </a:t>
            </a:r>
            <a:r>
              <a:rPr b="0" lang="el-GR" sz="3200" spc="-1" strike="noStrike">
                <a:solidFill>
                  <a:srgbClr val="000000"/>
                </a:solidFill>
                <a:latin typeface="Constantia"/>
              </a:rPr>
              <a:t>θ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) * 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4. The size change of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nstanti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of mag k and centered at the origin can be expressed as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nstanti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: z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k ∙ 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traight Connector 4"/>
          <p:cNvSpPr/>
          <p:nvPr/>
        </p:nvSpPr>
        <p:spPr>
          <a:xfrm>
            <a:off x="4286160" y="3429000"/>
            <a:ext cx="3571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03280" y="419040"/>
            <a:ext cx="56167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Arial"/>
              </a:rPr>
              <a:t>Isometry Theor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213920"/>
            <a:ext cx="885816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he transformation T is an isometry iff there exist complex numbers c and d with |c| = 1 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(z) = cz + d (direct isomet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(z) = cz + d  (opposite isomet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4"/>
          <p:cNvSpPr/>
          <p:nvPr/>
        </p:nvSpPr>
        <p:spPr>
          <a:xfrm>
            <a:off x="3214800" y="4071960"/>
            <a:ext cx="28548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03280" y="419040"/>
            <a:ext cx="56167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Arial"/>
              </a:rPr>
              <a:t>Plain and Simpl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13840" y="1600200"/>
            <a:ext cx="89298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t is an isometry if it is only a translation, rotation, and/or reflectio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t cannot be an isometry if there is a scale 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som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irec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 Indi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ranslation     rotatio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eflection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glide ref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Straight Arrow Connector 4"/>
          <p:cNvCxnSpPr/>
          <p:nvPr/>
        </p:nvCxnSpPr>
        <p:spPr>
          <a:xfrm flipH="1">
            <a:off x="1999800" y="4213800"/>
            <a:ext cx="2286720" cy="857880"/>
          </a:xfrm>
          <a:prstGeom prst="straightConnector1">
            <a:avLst/>
          </a:prstGeom>
          <a:ln w="7632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54" name="Straight Arrow Connector 5"/>
          <p:cNvCxnSpPr/>
          <p:nvPr/>
        </p:nvCxnSpPr>
        <p:spPr>
          <a:xfrm>
            <a:off x="4357800" y="4214520"/>
            <a:ext cx="2071800" cy="786600"/>
          </a:xfrm>
          <a:prstGeom prst="straightConnector1">
            <a:avLst/>
          </a:prstGeom>
          <a:ln w="7632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55" name="Straight Arrow Connector 9"/>
          <p:cNvCxnSpPr/>
          <p:nvPr/>
        </p:nvCxnSpPr>
        <p:spPr>
          <a:xfrm flipH="1">
            <a:off x="1071000" y="5428800"/>
            <a:ext cx="572040" cy="786600"/>
          </a:xfrm>
          <a:prstGeom prst="straightConnector1">
            <a:avLst/>
          </a:prstGeom>
          <a:ln w="7632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56" name="Straight Arrow Connector 12"/>
          <p:cNvCxnSpPr/>
          <p:nvPr/>
        </p:nvCxnSpPr>
        <p:spPr>
          <a:xfrm>
            <a:off x="1642680" y="5428800"/>
            <a:ext cx="1429560" cy="786600"/>
          </a:xfrm>
          <a:prstGeom prst="straightConnector1">
            <a:avLst/>
          </a:prstGeom>
          <a:ln w="7632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57" name="Straight Arrow Connector 15"/>
          <p:cNvCxnSpPr/>
          <p:nvPr/>
        </p:nvCxnSpPr>
        <p:spPr>
          <a:xfrm flipH="1">
            <a:off x="5571360" y="5428080"/>
            <a:ext cx="1143720" cy="786600"/>
          </a:xfrm>
          <a:prstGeom prst="straightConnector1">
            <a:avLst/>
          </a:prstGeom>
          <a:ln w="7632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58" name="Straight Arrow Connector 17"/>
          <p:cNvCxnSpPr/>
          <p:nvPr/>
        </p:nvCxnSpPr>
        <p:spPr>
          <a:xfrm>
            <a:off x="6715080" y="5428800"/>
            <a:ext cx="1215360" cy="715320"/>
          </a:xfrm>
          <a:prstGeom prst="straightConnector1">
            <a:avLst/>
          </a:prstGeom>
          <a:ln w="76320">
            <a:solidFill>
              <a:srgbClr val="7030a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03280" y="419040"/>
            <a:ext cx="56167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Find a formula for the congruence transformation T that maps black onto bl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*rotation across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maginary ax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* real : 0, im: down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- z - 5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Ch12_Sec04_im005.gif"/>
          <p:cNvPicPr/>
          <p:nvPr/>
        </p:nvPicPr>
        <p:blipFill>
          <a:blip r:embed="rId2"/>
          <a:srcRect l="54230" t="0" r="0" b="12506"/>
          <a:stretch/>
        </p:blipFill>
        <p:spPr>
          <a:xfrm>
            <a:off x="500040" y="3214800"/>
            <a:ext cx="3871800" cy="3000240"/>
          </a:xfrm>
          <a:prstGeom prst="rect">
            <a:avLst/>
          </a:prstGeom>
          <a:ln w="0">
            <a:noFill/>
          </a:ln>
        </p:spPr>
      </p:pic>
      <p:sp>
        <p:nvSpPr>
          <p:cNvPr id="62" name="Straight Connector 6"/>
          <p:cNvSpPr/>
          <p:nvPr/>
        </p:nvSpPr>
        <p:spPr>
          <a:xfrm>
            <a:off x="5214960" y="5715000"/>
            <a:ext cx="28584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03280" y="419040"/>
            <a:ext cx="56167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3840" y="1600200"/>
            <a:ext cx="89298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Find a formula that maps       PQR (with P = 1, Q = 2 + i, R = 4 + i) onto P’Q’R’ (with P = -1, Q = -2 – i , R = -4 – i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rotation 18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z(cos 180 + i sin 18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- 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Isosceles Triangle 5"/>
          <p:cNvSpPr/>
          <p:nvPr/>
        </p:nvSpPr>
        <p:spPr>
          <a:xfrm>
            <a:off x="4786200" y="1643040"/>
            <a:ext cx="714600" cy="485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03280" y="419040"/>
            <a:ext cx="56167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escribe the transformation with the given rule as a composite of rotations, reflections, or translations.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6000" spc="-1" strike="noStrike">
                <a:solidFill>
                  <a:srgbClr val="000000"/>
                </a:solidFill>
                <a:latin typeface="Arial"/>
              </a:rPr>
              <a:t>iz + 3 – 5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fr-FR" sz="6600" spc="-1" strike="noStrike" baseline="-25000">
                <a:solidFill>
                  <a:srgbClr val="000000"/>
                </a:solidFill>
                <a:latin typeface="Arial"/>
              </a:rPr>
              <a:t>3-5i </a:t>
            </a:r>
            <a:r>
              <a:rPr b="0" lang="fr-FR" sz="6600" spc="-1" strike="noStrike">
                <a:solidFill>
                  <a:srgbClr val="000000"/>
                </a:solidFill>
                <a:latin typeface="Arial"/>
              </a:rPr>
              <a:t>◦ R</a:t>
            </a:r>
            <a:r>
              <a:rPr b="0" lang="el-GR" sz="6600" spc="-1" strike="noStrike" baseline="-25000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6600" spc="-1" strike="noStrike" baseline="-25000">
                <a:solidFill>
                  <a:srgbClr val="000000"/>
                </a:solidFill>
                <a:latin typeface="Arial"/>
              </a:rPr>
              <a:t>/2 </a:t>
            </a:r>
            <a:r>
              <a:rPr b="0" lang="fr-FR" sz="6600" spc="-1" strike="noStrike">
                <a:solidFill>
                  <a:srgbClr val="000000"/>
                </a:solidFill>
                <a:latin typeface="Arial"/>
              </a:rPr>
              <a:t>◦ r</a:t>
            </a:r>
            <a:r>
              <a:rPr b="0" lang="fr-FR" sz="66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6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traight Connector 4"/>
          <p:cNvSpPr/>
          <p:nvPr/>
        </p:nvSpPr>
        <p:spPr>
          <a:xfrm>
            <a:off x="3214800" y="3357720"/>
            <a:ext cx="42840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Arial"/>
              </a:rPr>
              <a:t>Page 545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Arial"/>
              </a:rPr>
              <a:t>1 - 9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1T15:54:39Z</dcterms:created>
  <dc:creator>Mediac</dc:creator>
  <dc:description/>
  <dc:language>en-US</dc:language>
  <cp:lastModifiedBy>Laura Helbing</cp:lastModifiedBy>
  <dcterms:modified xsi:type="dcterms:W3CDTF">2011-03-31T17:57:33Z</dcterms:modified>
  <cp:revision>131</cp:revision>
  <dc:subject/>
  <dc:title>PRESENTATION  NAME</dc:title>
</cp:coreProperties>
</file>