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E05-F101-4C3D-9AE2-437494F7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F42-FEC6-4211-A455-1C0BA7DA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1D9-9189-45AD-8A3B-354D1A49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231-1D8C-4F47-8F86-E825782E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C728-B8D2-4DA6-97CF-4F31A504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943B-11F2-4FC5-9EDB-570F797B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57A-07E8-493C-964C-BDB2F2AC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50E-E6B5-49EE-A6CD-B693AB72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A18E-1334-46B0-A2B4-9ED30E35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5D3-7073-4004-9A70-935C6FBA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543B-D13A-49A3-9556-16BF4BFE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895-D711-4C03-AC13-DB0E262A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6CA0-6429-4191-92E7-223BE659981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555920"/>
            <a:ext cx="6192720" cy="79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Arial"/>
              </a:rPr>
              <a:t>Complex Numbers and Transformations of the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643800" y="1642680"/>
            <a:ext cx="20318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Less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9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stance between complex number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distance between two complex numbers z and w is |z – w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 transormation T of the plane is an isometry iff |z – w| = |T(z) – T(w)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8688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plex Number Transformation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8858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. The translation T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a,b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a units horizontally and b units vertically can be expressed a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  T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a+b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z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z + a + bi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. The reflection over the real axis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= z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. The rotation R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of mag.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about the origin can be expressed a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: z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(cos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+ i sin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) *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. The size change of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of mag k and centered at the origin can be expressed as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: z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k ∙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4"/>
          <p:cNvSpPr/>
          <p:nvPr/>
        </p:nvSpPr>
        <p:spPr>
          <a:xfrm>
            <a:off x="4286160" y="3429000"/>
            <a:ext cx="3571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sometry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8858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transformation T is an isometry iff there exist complex numbers c and d with |c| = 1 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(z) = cz + d (direct isome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(z) = cz + d  (opposite isome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4"/>
          <p:cNvSpPr/>
          <p:nvPr/>
        </p:nvSpPr>
        <p:spPr>
          <a:xfrm>
            <a:off x="3214800" y="4071960"/>
            <a:ext cx="2854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Plain and Si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929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t is an isometry if it is only a translation, rotation, and/or refle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t cannot be an isometry if there is a scale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s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rec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Indi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nslation     rota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flectio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lide 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4"/>
          <p:cNvCxnSpPr/>
          <p:nvPr/>
        </p:nvCxnSpPr>
        <p:spPr>
          <a:xfrm flipH="1">
            <a:off x="1999800" y="4213800"/>
            <a:ext cx="2286720" cy="85788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4" name="Straight Arrow Connector 5"/>
          <p:cNvCxnSpPr/>
          <p:nvPr/>
        </p:nvCxnSpPr>
        <p:spPr>
          <a:xfrm>
            <a:off x="4357800" y="4214520"/>
            <a:ext cx="2071800" cy="78660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5" name="Straight Arrow Connector 9"/>
          <p:cNvCxnSpPr/>
          <p:nvPr/>
        </p:nvCxnSpPr>
        <p:spPr>
          <a:xfrm flipH="1">
            <a:off x="1071000" y="5428800"/>
            <a:ext cx="572040" cy="78660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6" name="Straight Arrow Connector 12"/>
          <p:cNvCxnSpPr/>
          <p:nvPr/>
        </p:nvCxnSpPr>
        <p:spPr>
          <a:xfrm>
            <a:off x="1642680" y="5428800"/>
            <a:ext cx="1429560" cy="78660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7" name="Straight Arrow Connector 15"/>
          <p:cNvCxnSpPr/>
          <p:nvPr/>
        </p:nvCxnSpPr>
        <p:spPr>
          <a:xfrm flipH="1">
            <a:off x="5571360" y="5428080"/>
            <a:ext cx="1143720" cy="78660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8" name="Straight Arrow Connector 17"/>
          <p:cNvCxnSpPr/>
          <p:nvPr/>
        </p:nvCxnSpPr>
        <p:spPr>
          <a:xfrm>
            <a:off x="6715080" y="5428800"/>
            <a:ext cx="1215360" cy="71532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nd a formula for the congruence transformation T that maps black onto b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*rotation acros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maginary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* real : 0, im: dow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- z - 5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Ch12_Sec04_im005.gif"/>
          <p:cNvPicPr/>
          <p:nvPr/>
        </p:nvPicPr>
        <p:blipFill>
          <a:blip r:embed="rId2"/>
          <a:srcRect l="54230" t="0" r="0" b="12506"/>
          <a:stretch/>
        </p:blipFill>
        <p:spPr>
          <a:xfrm>
            <a:off x="500040" y="3214800"/>
            <a:ext cx="3871800" cy="3000240"/>
          </a:xfrm>
          <a:prstGeom prst="rect">
            <a:avLst/>
          </a:prstGeom>
          <a:ln w="0">
            <a:noFill/>
          </a:ln>
        </p:spPr>
      </p:pic>
      <p:sp>
        <p:nvSpPr>
          <p:cNvPr id="62" name="Straight Connector 6"/>
          <p:cNvSpPr/>
          <p:nvPr/>
        </p:nvSpPr>
        <p:spPr>
          <a:xfrm>
            <a:off x="5214960" y="571500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929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nd a formula that maps       PQR (with P = 1, Q = 2 + i, R = 4 + i) onto P’Q’R’ (with P = -1, Q = -2 – i , R = -4 – 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otation 1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z(cos 180 + i sin 18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sosceles Triangle 5"/>
          <p:cNvSpPr/>
          <p:nvPr/>
        </p:nvSpPr>
        <p:spPr>
          <a:xfrm>
            <a:off x="4786200" y="1643040"/>
            <a:ext cx="714600" cy="485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cribe the transformation with the given rule as a composite of rotations, reflections, or translations.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iz + 3 – 5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6600" spc="-1" strike="noStrike" baseline="-25000">
                <a:solidFill>
                  <a:srgbClr val="000000"/>
                </a:solidFill>
                <a:latin typeface="Arial"/>
              </a:rPr>
              <a:t>3-5i 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◦ R</a:t>
            </a:r>
            <a:r>
              <a:rPr b="0" lang="el-GR" sz="6600" spc="-1" strike="noStrike" baseline="-25000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Arial"/>
              </a:rPr>
              <a:t>/2 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◦ r</a:t>
            </a:r>
            <a:r>
              <a:rPr b="0" lang="fr-FR" sz="6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4"/>
          <p:cNvSpPr/>
          <p:nvPr/>
        </p:nvSpPr>
        <p:spPr>
          <a:xfrm>
            <a:off x="3214800" y="3357720"/>
            <a:ext cx="4284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Page 545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1 - 9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5:54:39Z</dcterms:created>
  <dc:creator>Mediac</dc:creator>
  <dc:description/>
  <dc:language>en-US</dc:language>
  <cp:lastModifiedBy>Laura Helbing</cp:lastModifiedBy>
  <dcterms:modified xsi:type="dcterms:W3CDTF">2011-03-31T17:57:33Z</dcterms:modified>
  <cp:revision>131</cp:revision>
  <dc:subject/>
  <dc:title>PRESENTATION  NAME</dc:title>
</cp:coreProperties>
</file>