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E58F-B342-4881-8AFD-A903056D0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8C52-CBC7-4A06-9A32-FF4E64202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3C0-B83C-457B-8823-2552EA8E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8AE-3B5F-485B-9377-AA98B620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1E4-8441-48DD-8D0B-6B3C4893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A39-BA16-4737-B6E7-673BDF6E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69A-F63B-489A-AF36-2A47DFC5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4C8-5790-4B85-B607-33C1F973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2EE-8E48-4690-A343-E4A7037C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CAD-966F-45D8-A6C1-505454FF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AED-AB56-4FB8-A52B-A19FE84A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EF7-1273-4246-B067-1B60F45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5C9-D795-4AA0-B590-D42C6B20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A75-E366-4919-85B4-A48AC3AC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7464-56EF-4760-8201-A94F29BB2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9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6"/>
          <p:cNvSpPr/>
          <p:nvPr/>
        </p:nvSpPr>
        <p:spPr>
          <a:xfrm>
            <a:off x="0" y="1063800"/>
            <a:ext cx="67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actor 64m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+ 27n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over the set of polynomials with integer coeffici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66"/>
          <p:cNvSpPr/>
          <p:nvPr/>
        </p:nvSpPr>
        <p:spPr>
          <a:xfrm>
            <a:off x="0" y="258840"/>
            <a:ext cx="746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 15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14s – 8 over the set of polynomials with integer coeffici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6"/>
          <p:cNvSpPr/>
          <p:nvPr/>
        </p:nvSpPr>
        <p:spPr>
          <a:xfrm>
            <a:off x="0" y="0"/>
            <a:ext cx="651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very polynomial of degree n ≥ 1 must have at least one complex zer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rue or fals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6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58"/>
          <p:cNvSpPr/>
          <p:nvPr/>
        </p:nvSpPr>
        <p:spPr>
          <a:xfrm>
            <a:off x="482760" y="0"/>
            <a:ext cx="6208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ive the complex conjugat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2"/>
              <p:cNvSpPr txBox="1"/>
              <p:nvPr/>
            </p:nvSpPr>
            <p:spPr>
              <a:xfrm>
                <a:off x="1447920" y="1371600"/>
                <a:ext cx="4154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66"/>
          <p:cNvSpPr/>
          <p:nvPr/>
        </p:nvSpPr>
        <p:spPr>
          <a:xfrm>
            <a:off x="0" y="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rmine an equation of lowest degree for g(x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446040" y="5394240"/>
          <a:ext cx="8250120" cy="1036800"/>
        </p:xfrm>
        <a:graphic>
          <a:graphicData uri="http://schemas.openxmlformats.org/drawingml/2006/table">
            <a:tbl>
              <a:tblPr/>
              <a:tblGrid>
                <a:gridCol w="916200"/>
                <a:gridCol w="917280"/>
                <a:gridCol w="916200"/>
                <a:gridCol w="917640"/>
                <a:gridCol w="915840"/>
                <a:gridCol w="917640"/>
                <a:gridCol w="915840"/>
                <a:gridCol w="91764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14"/>
          <p:cNvSpPr/>
          <p:nvPr/>
        </p:nvSpPr>
        <p:spPr>
          <a:xfrm>
            <a:off x="0" y="0"/>
            <a:ext cx="703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length of pipe 10 m long connects a tank of liquid helium to a superconducting electromagnet.  A layer of insulation 8 cm thick surrounds the pipe.  Express the volume of the insulation in cubic centimeters as a polynomial function of r, the radius of the pip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5"/>
          <p:cNvSpPr/>
          <p:nvPr/>
        </p:nvSpPr>
        <p:spPr>
          <a:xfrm>
            <a:off x="523800" y="0"/>
            <a:ext cx="557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p is a polynomial function and p(-2) = 0, which is a factor of 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79"/>
              <p:cNvSpPr txBox="1"/>
              <p:nvPr/>
            </p:nvSpPr>
            <p:spPr>
              <a:xfrm>
                <a:off x="1881360" y="4997520"/>
                <a:ext cx="1074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80"/>
              <p:cNvSpPr txBox="1"/>
              <p:nvPr/>
            </p:nvSpPr>
            <p:spPr>
              <a:xfrm>
                <a:off x="5873760" y="4965840"/>
                <a:ext cx="744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1"/>
              <p:cNvSpPr txBox="1"/>
              <p:nvPr/>
            </p:nvSpPr>
            <p:spPr>
              <a:xfrm>
                <a:off x="1547640" y="5927760"/>
                <a:ext cx="122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5"/>
          <p:cNvSpPr/>
          <p:nvPr/>
        </p:nvSpPr>
        <p:spPr>
          <a:xfrm>
            <a:off x="3538440" y="0"/>
            <a:ext cx="310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smallest number of real zeros that g ca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0" descr=""/>
          <p:cNvPicPr/>
          <p:nvPr/>
        </p:nvPicPr>
        <p:blipFill>
          <a:blip r:embed="rId4"/>
          <a:stretch/>
        </p:blipFill>
        <p:spPr>
          <a:xfrm>
            <a:off x="0" y="0"/>
            <a:ext cx="3578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 – 2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 2i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-3 + 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conjugat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+ 2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degree of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x – intercepts does the graph of f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59"/>
              <p:cNvSpPr txBox="1"/>
              <p:nvPr/>
            </p:nvSpPr>
            <p:spPr>
              <a:xfrm>
                <a:off x="1025640" y="185760"/>
                <a:ext cx="483372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0" y="307800"/>
            <a:ext cx="6651720" cy="65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ind the quotient and remainder wh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2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– 4x + 7 is divided by x –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6"/>
          <p:cNvSpPr/>
          <p:nvPr/>
        </p:nvSpPr>
        <p:spPr>
          <a:xfrm>
            <a:off x="0" y="0"/>
            <a:ext cx="7507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To the nearest tenth, approximate the largest x-intercept of the graph of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y = x</a:t>
            </a:r>
            <a:r>
              <a:rPr b="1" lang="en-US" sz="6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1" lang="en-US" sz="6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 + x +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6:44:47Z</dcterms:created>
  <dc:creator>Laura Helbing</dc:creator>
  <dc:description/>
  <dc:language>en-US</dc:language>
  <cp:lastModifiedBy>Laura Helbing</cp:lastModifiedBy>
  <dcterms:modified xsi:type="dcterms:W3CDTF">2011-04-28T14:16:55Z</dcterms:modified>
  <cp:revision>23</cp:revision>
  <dc:subject/>
  <dc:title>Slide 1</dc:title>
</cp:coreProperties>
</file>