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6AD6-ADEC-45C5-A2CD-8116ADE1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823-9B8E-411C-8692-2287EBDE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511-8F3D-4BB4-BC4A-3E4E4F89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13F-0DF7-40D1-ABF0-8069B072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E4CB-4022-43F3-8007-60CE4A21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74B-93FF-44C5-BCDC-16151F48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02C-455C-416A-821D-523CB530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1F7-1ADA-4D5C-9C2C-0AE1D74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CA5-3B13-4A17-A4E5-F35DD652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2CE-4F62-48E3-8959-DA35E49B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375-8C30-417F-9F9D-C41567C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7A5-A899-4789-9459-2B7E65E4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8013-16BD-4728-9269-6BAC79B6C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7 Revie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76"/>
          <p:cNvSpPr/>
          <p:nvPr/>
        </p:nvSpPr>
        <p:spPr>
          <a:xfrm>
            <a:off x="0" y="262080"/>
            <a:ext cx="6651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test includes: 8 true/false questions, 5 multiple choice questions, each with 3 choices; and 5 multiple-choice questions, each with 4 choices.  How many different lists of answers are possible for this tes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5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66"/>
          <p:cNvSpPr/>
          <p:nvPr/>
        </p:nvSpPr>
        <p:spPr>
          <a:xfrm>
            <a:off x="0" y="258840"/>
            <a:ext cx="746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the expected val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0" y="4749840"/>
          <a:ext cx="8412120" cy="2108160"/>
        </p:xfrm>
        <a:graphic>
          <a:graphicData uri="http://schemas.openxmlformats.org/drawingml/2006/table">
            <a:tbl>
              <a:tblPr/>
              <a:tblGrid>
                <a:gridCol w="1231920"/>
                <a:gridCol w="931680"/>
                <a:gridCol w="930600"/>
                <a:gridCol w="901440"/>
                <a:gridCol w="660600"/>
                <a:gridCol w="631800"/>
                <a:gridCol w="961920"/>
                <a:gridCol w="990720"/>
                <a:gridCol w="1171440"/>
              </a:tblGrid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(x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66"/>
          <p:cNvSpPr/>
          <p:nvPr/>
        </p:nvSpPr>
        <p:spPr>
          <a:xfrm>
            <a:off x="0" y="0"/>
            <a:ext cx="65167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alibri"/>
              </a:rPr>
              <a:t>If a fair die is tossed twice, what is the probability that the first toss is an even number and the second toss is an odd number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58"/>
          <p:cNvSpPr/>
          <p:nvPr/>
        </p:nvSpPr>
        <p:spPr>
          <a:xfrm>
            <a:off x="482760" y="0"/>
            <a:ext cx="6208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at is the probability that the sum of the two spinners is less than 4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53" descr=""/>
          <p:cNvPicPr/>
          <p:nvPr/>
        </p:nvPicPr>
        <p:blipFill>
          <a:blip r:embed="rId3"/>
          <a:srcRect l="25733" t="36580" r="62805" b="48132"/>
          <a:stretch/>
        </p:blipFill>
        <p:spPr>
          <a:xfrm>
            <a:off x="441360" y="387036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3" descr=""/>
          <p:cNvPicPr/>
          <p:nvPr/>
        </p:nvPicPr>
        <p:blipFill>
          <a:blip r:embed="rId4"/>
          <a:srcRect l="25733" t="36580" r="62805" b="48132"/>
          <a:stretch/>
        </p:blipFill>
        <p:spPr>
          <a:xfrm>
            <a:off x="4017960" y="387036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6"/>
          <p:cNvSpPr/>
          <p:nvPr/>
        </p:nvSpPr>
        <p:spPr>
          <a:xfrm>
            <a:off x="0" y="396720"/>
            <a:ext cx="663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58"/>
              <p:cNvSpPr txBox="1"/>
              <p:nvPr/>
            </p:nvSpPr>
            <p:spPr>
              <a:xfrm>
                <a:off x="2179800" y="2382840"/>
                <a:ext cx="2668320" cy="29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rPr>
                            <m:lit/>
                            <m:nor/>
                          </m:rPr>
                          <m:t xml:space="preserve">61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5% of the cookies produced by a certain manufacturer are underweight. Design a simulation that does not use a random number generator to estimate the number of packages having no underweight cookies in a box of 100 packages, if each pack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ntains 10 cooki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0" y="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l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Object 58"/>
              <p:cNvSpPr txBox="1"/>
              <p:nvPr/>
            </p:nvSpPr>
            <p:spPr>
              <a:xfrm>
                <a:off x="0" y="1579680"/>
                <a:ext cx="64850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8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75"/>
          <p:cNvSpPr/>
          <p:nvPr/>
        </p:nvSpPr>
        <p:spPr>
          <a:xfrm>
            <a:off x="593640" y="379440"/>
            <a:ext cx="55738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ppose P(A) = .7 , P(B) = .6 , a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A U B) = .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 P(A ∩ 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Object 79"/>
              <p:cNvSpPr txBox="1"/>
              <p:nvPr/>
            </p:nvSpPr>
            <p:spPr>
              <a:xfrm>
                <a:off x="2133720" y="5029200"/>
                <a:ext cx="460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80"/>
              <p:cNvSpPr txBox="1"/>
              <p:nvPr/>
            </p:nvSpPr>
            <p:spPr>
              <a:xfrm>
                <a:off x="5961240" y="4965840"/>
                <a:ext cx="568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1"/>
              <p:cNvSpPr txBox="1"/>
              <p:nvPr/>
            </p:nvSpPr>
            <p:spPr>
              <a:xfrm>
                <a:off x="1876320" y="5927760"/>
                <a:ext cx="5698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82"/>
              <p:cNvSpPr txBox="1"/>
              <p:nvPr/>
            </p:nvSpPr>
            <p:spPr>
              <a:xfrm>
                <a:off x="6006960" y="5870520"/>
                <a:ext cx="568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1680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40,296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6"/>
          <p:cNvSpPr/>
          <p:nvPr/>
        </p:nvSpPr>
        <p:spPr>
          <a:xfrm>
            <a:off x="0" y="352440"/>
            <a:ext cx="6438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9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0" name="Object 81"/>
              <p:cNvSpPr txBox="1"/>
              <p:nvPr/>
            </p:nvSpPr>
            <p:spPr>
              <a:xfrm>
                <a:off x="4495680" y="304920"/>
                <a:ext cx="1387440" cy="31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Indepen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5189400" y="4754520"/>
            <a:ext cx="330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Mutual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5073480" y="586728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76"/>
          <p:cNvSpPr/>
          <p:nvPr/>
        </p:nvSpPr>
        <p:spPr>
          <a:xfrm>
            <a:off x="0" y="0"/>
            <a:ext cx="6649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, Andy, and Kim run for the sam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ack wins the elec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im wins the e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elections ar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6"/>
          <p:cNvSpPr/>
          <p:nvPr/>
        </p:nvSpPr>
        <p:spPr>
          <a:xfrm>
            <a:off x="0" y="0"/>
            <a:ext cx="664992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ermine the number of permutations of all the letters in the word MON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7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46,6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 Box 76"/>
          <p:cNvSpPr/>
          <p:nvPr/>
        </p:nvSpPr>
        <p:spPr>
          <a:xfrm>
            <a:off x="0" y="270000"/>
            <a:ext cx="6541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refer to question 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ow many of these permutations begin with A and end in 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2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2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1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79"/>
          <p:cNvSpPr/>
          <p:nvPr/>
        </p:nvSpPr>
        <p:spPr>
          <a:xfrm>
            <a:off x="2471760" y="6027840"/>
            <a:ext cx="43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his is not a multiple choice question.  Ple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Write your answer on the sheet of pap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61"/>
          <p:cNvSpPr/>
          <p:nvPr/>
        </p:nvSpPr>
        <p:spPr>
          <a:xfrm>
            <a:off x="0" y="91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aluate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58"/>
              <p:cNvSpPr txBox="1"/>
              <p:nvPr/>
            </p:nvSpPr>
            <p:spPr>
              <a:xfrm>
                <a:off x="1828800" y="914400"/>
                <a:ext cx="3222720" cy="24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76"/>
          <p:cNvSpPr/>
          <p:nvPr/>
        </p:nvSpPr>
        <p:spPr>
          <a:xfrm>
            <a:off x="0" y="307800"/>
            <a:ext cx="6651720" cy="79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restaurant offers 6 salads, 3 soups, 5 entrees, 4 desserts, and six beverages.  If you choose one from each categories, how many different meals can you order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4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"/>
          <p:cNvSpPr/>
          <p:nvPr/>
        </p:nvSpPr>
        <p:spPr>
          <a:xfrm>
            <a:off x="0" y="5999040"/>
            <a:ext cx="9144000" cy="14526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This is not a multiple choice question.  Please wr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your answer on the sheet of pap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 school has 600 male and 400 female students.  3 students at random are waiting at a bus stop.  What is the probability that all three are of the same gender (assume randomness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03:08:54Z</dcterms:created>
  <dc:creator>Laura Helbing</dc:creator>
  <dc:description/>
  <dc:language>en-US</dc:language>
  <cp:lastModifiedBy>Laura Helbing</cp:lastModifiedBy>
  <dcterms:modified xsi:type="dcterms:W3CDTF">2011-02-24T14:33:05Z</dcterms:modified>
  <cp:revision>5</cp:revision>
  <dc:subject/>
  <dc:title>Slide 1</dc:title>
</cp:coreProperties>
</file>