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B59-0900-4BC5-8087-D69B0316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741-63BF-45BD-83B4-99B52AB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468-65B1-426F-B4E3-292218C6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6C2-0487-46E4-9F75-6E29B231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262-5F1F-4CB8-B675-830BE2A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819-CC7D-4F28-99C9-C791C3E9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868-5844-460F-91DB-4018D392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54E-A8F4-40B4-85B8-033EA256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D47-55B4-4069-AE67-A4DA7230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D9C-4645-4BFC-BB6C-127F397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7F3-D1F1-451E-8C7C-99942D2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183-E4FC-4D79-9135-891152B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A679-0C95-46C3-B2AE-D73EEECE3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 Revie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0" y="262080"/>
            <a:ext cx="665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est includes: 8 true/false questions, 5 multiple choice questions, each with 3 choices; and 5 multiple-choice questions, each with 4 choices.  How many different lists of answers are possible for this te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6"/>
          <p:cNvSpPr/>
          <p:nvPr/>
        </p:nvSpPr>
        <p:spPr>
          <a:xfrm>
            <a:off x="0" y="258840"/>
            <a:ext cx="74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e expected val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49840"/>
          <a:ext cx="8412120" cy="2108160"/>
        </p:xfrm>
        <a:graphic>
          <a:graphicData uri="http://schemas.openxmlformats.org/drawingml/2006/table">
            <a:tbl>
              <a:tblPr/>
              <a:tblGrid>
                <a:gridCol w="1231920"/>
                <a:gridCol w="931680"/>
                <a:gridCol w="930600"/>
                <a:gridCol w="901440"/>
                <a:gridCol w="660600"/>
                <a:gridCol w="631800"/>
                <a:gridCol w="961920"/>
                <a:gridCol w="990720"/>
                <a:gridCol w="11714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6"/>
          <p:cNvSpPr/>
          <p:nvPr/>
        </p:nvSpPr>
        <p:spPr>
          <a:xfrm>
            <a:off x="0" y="0"/>
            <a:ext cx="6516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If a fair die is tossed twice, what is the probability that the first toss is an even number and the second toss is an odd number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8"/>
          <p:cNvSpPr/>
          <p:nvPr/>
        </p:nvSpPr>
        <p:spPr>
          <a:xfrm>
            <a:off x="482760" y="0"/>
            <a:ext cx="620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is the probability that the sum of the two spinners is less than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53" descr=""/>
          <p:cNvPicPr/>
          <p:nvPr/>
        </p:nvPicPr>
        <p:blipFill>
          <a:blip r:embed="rId3"/>
          <a:srcRect l="25733" t="36580" r="62805" b="48132"/>
          <a:stretch/>
        </p:blipFill>
        <p:spPr>
          <a:xfrm>
            <a:off x="44136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3" descr=""/>
          <p:cNvPicPr/>
          <p:nvPr/>
        </p:nvPicPr>
        <p:blipFill>
          <a:blip r:embed="rId4"/>
          <a:srcRect l="25733" t="36580" r="62805" b="48132"/>
          <a:stretch/>
        </p:blipFill>
        <p:spPr>
          <a:xfrm>
            <a:off x="40179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6"/>
          <p:cNvSpPr/>
          <p:nvPr/>
        </p:nvSpPr>
        <p:spPr>
          <a:xfrm>
            <a:off x="0" y="396720"/>
            <a:ext cx="66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8"/>
              <p:cNvSpPr txBox="1"/>
              <p:nvPr/>
            </p:nvSpPr>
            <p:spPr>
              <a:xfrm>
                <a:off x="2179800" y="2382840"/>
                <a:ext cx="26683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% of the cookies produced by a certain manufacturer are underweight. Design a simulation that does not use a random number generator to estimate the number of packages having no underweight cookies in a box of 100 packages, if each pa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ains 10 cooki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58"/>
              <p:cNvSpPr txBox="1"/>
              <p:nvPr/>
            </p:nvSpPr>
            <p:spPr>
              <a:xfrm>
                <a:off x="0" y="1579680"/>
                <a:ext cx="64850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593640" y="379440"/>
            <a:ext cx="5573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 P(A) = .7 , P(B) = .6 ,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 U B) = .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P(A ∩ 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79"/>
              <p:cNvSpPr txBox="1"/>
              <p:nvPr/>
            </p:nvSpPr>
            <p:spPr>
              <a:xfrm>
                <a:off x="2133720" y="5029200"/>
                <a:ext cx="460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0"/>
              <p:cNvSpPr txBox="1"/>
              <p:nvPr/>
            </p:nvSpPr>
            <p:spPr>
              <a:xfrm>
                <a:off x="5961240" y="4965840"/>
                <a:ext cx="568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1"/>
              <p:cNvSpPr txBox="1"/>
              <p:nvPr/>
            </p:nvSpPr>
            <p:spPr>
              <a:xfrm>
                <a:off x="1876320" y="5927760"/>
                <a:ext cx="56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2"/>
              <p:cNvSpPr txBox="1"/>
              <p:nvPr/>
            </p:nvSpPr>
            <p:spPr>
              <a:xfrm>
                <a:off x="6006960" y="5870520"/>
                <a:ext cx="568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68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40,2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0" y="352440"/>
            <a:ext cx="643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81"/>
              <p:cNvSpPr txBox="1"/>
              <p:nvPr/>
            </p:nvSpPr>
            <p:spPr>
              <a:xfrm>
                <a:off x="4495680" y="304920"/>
                <a:ext cx="138744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ndepen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89400" y="4754520"/>
            <a:ext cx="33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Mut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73480" y="586728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0" y="0"/>
            <a:ext cx="6649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, Andy, and Kim run for the sam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 wins th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m wins the 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elections 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6"/>
          <p:cNvSpPr/>
          <p:nvPr/>
        </p:nvSpPr>
        <p:spPr>
          <a:xfrm>
            <a:off x="0" y="0"/>
            <a:ext cx="6649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e the number of permutations of all the letters in the word MON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7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46,6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0" y="270000"/>
            <a:ext cx="6541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efer to question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of these permutations begin with A and end in 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9"/>
          <p:cNvSpPr/>
          <p:nvPr/>
        </p:nvSpPr>
        <p:spPr>
          <a:xfrm>
            <a:off x="2471760" y="60278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s not a multiple choice question. 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rite your answer on the sheet of pa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1"/>
          <p:cNvSpPr/>
          <p:nvPr/>
        </p:nvSpPr>
        <p:spPr>
          <a:xfrm>
            <a:off x="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aluate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58"/>
              <p:cNvSpPr txBox="1"/>
              <p:nvPr/>
            </p:nvSpPr>
            <p:spPr>
              <a:xfrm>
                <a:off x="1828800" y="914400"/>
                <a:ext cx="322272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0" y="307800"/>
            <a:ext cx="6651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restaurant offers 6 salads, 3 soups, 5 entrees, 4 desserts, and six beverages.  If you choose one from each categories, how many different meals can you ord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school has 600 male and 400 female students.  3 students at random are waiting at a bus stop.  What is the probability that all three are of the same gender (assume randomness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3:08:54Z</dcterms:created>
  <dc:creator>Laura Helbing</dc:creator>
  <dc:description/>
  <dc:language>en-US</dc:language>
  <cp:lastModifiedBy>Laura Helbing</cp:lastModifiedBy>
  <dcterms:modified xsi:type="dcterms:W3CDTF">2011-02-24T14:33:05Z</dcterms:modified>
  <cp:revision>5</cp:revision>
  <dc:subject/>
  <dc:title>Slide 1</dc:title>
</cp:coreProperties>
</file>