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5E5-E379-44AC-8750-70E610B9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1E9-A648-4345-8575-722E5DAF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63D8-1840-4249-A49A-C13CCAF0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9B4-888E-4A7A-A153-3F135C9E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B6C-1DAE-4122-9943-F4DC3AC5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88F-4F68-47E6-84CE-E4AB9CBF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A39-5719-44AA-9019-723C13D9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1ED-B912-4334-9965-CEF0E753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36D-98B2-4A36-B1BD-598DAE1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FCD-C359-4B36-A3E0-F9ECBFB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396-C5B4-4ED6-B52D-BCFEAED4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3F13-4F48-41BE-AD1F-9E7F5FD3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25BB-7CD7-4022-8217-03C94459B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 Revie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0" y="262080"/>
            <a:ext cx="6651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test includes: 8 true/false questions, 5 multiple choice questions, each with 3 choices; and 5 multiple-choice questions, each with 4 choices.  How many different lists of answers are possible for this te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66"/>
          <p:cNvSpPr/>
          <p:nvPr/>
        </p:nvSpPr>
        <p:spPr>
          <a:xfrm>
            <a:off x="0" y="258840"/>
            <a:ext cx="74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the expected val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4749840"/>
          <a:ext cx="8412120" cy="2108160"/>
        </p:xfrm>
        <a:graphic>
          <a:graphicData uri="http://schemas.openxmlformats.org/drawingml/2006/table">
            <a:tbl>
              <a:tblPr/>
              <a:tblGrid>
                <a:gridCol w="1231920"/>
                <a:gridCol w="931680"/>
                <a:gridCol w="930600"/>
                <a:gridCol w="901440"/>
                <a:gridCol w="660600"/>
                <a:gridCol w="631800"/>
                <a:gridCol w="961920"/>
                <a:gridCol w="990720"/>
                <a:gridCol w="117144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66"/>
          <p:cNvSpPr/>
          <p:nvPr/>
        </p:nvSpPr>
        <p:spPr>
          <a:xfrm>
            <a:off x="0" y="0"/>
            <a:ext cx="6516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alibri"/>
              </a:rPr>
              <a:t>If a fair die is tossed twice, what is the probability that the first toss is an even number and the second toss is an odd number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58"/>
          <p:cNvSpPr/>
          <p:nvPr/>
        </p:nvSpPr>
        <p:spPr>
          <a:xfrm>
            <a:off x="482760" y="0"/>
            <a:ext cx="620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is the probability that the sum of the two spinners is less than 4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53" descr=""/>
          <p:cNvPicPr/>
          <p:nvPr/>
        </p:nvPicPr>
        <p:blipFill>
          <a:blip r:embed="rId3"/>
          <a:srcRect l="25733" t="36580" r="62805" b="48132"/>
          <a:stretch/>
        </p:blipFill>
        <p:spPr>
          <a:xfrm>
            <a:off x="44136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3" descr=""/>
          <p:cNvPicPr/>
          <p:nvPr/>
        </p:nvPicPr>
        <p:blipFill>
          <a:blip r:embed="rId4"/>
          <a:srcRect l="25733" t="36580" r="62805" b="48132"/>
          <a:stretch/>
        </p:blipFill>
        <p:spPr>
          <a:xfrm>
            <a:off x="4017960" y="3870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6"/>
          <p:cNvSpPr/>
          <p:nvPr/>
        </p:nvSpPr>
        <p:spPr>
          <a:xfrm>
            <a:off x="0" y="396720"/>
            <a:ext cx="66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58"/>
              <p:cNvSpPr txBox="1"/>
              <p:nvPr/>
            </p:nvSpPr>
            <p:spPr>
              <a:xfrm>
                <a:off x="2179800" y="2382840"/>
                <a:ext cx="2668320" cy="29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5% of the cookies produced by a certain manufacturer are underweight. Design a simulation that does not use a random number generator to estimate the number of packages having no underweight cookies in a box of 100 packages, if each pack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ains 10 cooki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58"/>
              <p:cNvSpPr txBox="1"/>
              <p:nvPr/>
            </p:nvSpPr>
            <p:spPr>
              <a:xfrm>
                <a:off x="0" y="1579680"/>
                <a:ext cx="64850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5"/>
          <p:cNvSpPr/>
          <p:nvPr/>
        </p:nvSpPr>
        <p:spPr>
          <a:xfrm>
            <a:off x="593640" y="379440"/>
            <a:ext cx="55738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se P(A) = .7 , P(B) = .6 ,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A U B) = .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P(A ∩ 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79"/>
              <p:cNvSpPr txBox="1"/>
              <p:nvPr/>
            </p:nvSpPr>
            <p:spPr>
              <a:xfrm>
                <a:off x="2133720" y="5029200"/>
                <a:ext cx="460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0"/>
              <p:cNvSpPr txBox="1"/>
              <p:nvPr/>
            </p:nvSpPr>
            <p:spPr>
              <a:xfrm>
                <a:off x="5961240" y="4965840"/>
                <a:ext cx="568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1"/>
              <p:cNvSpPr txBox="1"/>
              <p:nvPr/>
            </p:nvSpPr>
            <p:spPr>
              <a:xfrm>
                <a:off x="1876320" y="5927760"/>
                <a:ext cx="56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82"/>
              <p:cNvSpPr txBox="1"/>
              <p:nvPr/>
            </p:nvSpPr>
            <p:spPr>
              <a:xfrm>
                <a:off x="6006960" y="5870520"/>
                <a:ext cx="568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680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40,2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6"/>
          <p:cNvSpPr/>
          <p:nvPr/>
        </p:nvSpPr>
        <p:spPr>
          <a:xfrm>
            <a:off x="0" y="352440"/>
            <a:ext cx="643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81"/>
              <p:cNvSpPr txBox="1"/>
              <p:nvPr/>
            </p:nvSpPr>
            <p:spPr>
              <a:xfrm>
                <a:off x="4495680" y="304920"/>
                <a:ext cx="138744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Indepen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5189400" y="4754520"/>
            <a:ext cx="33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Mut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073480" y="586728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0" y="0"/>
            <a:ext cx="6649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, Andy, and Kim run for the sam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 wins th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im wins the 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elections a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6"/>
          <p:cNvSpPr/>
          <p:nvPr/>
        </p:nvSpPr>
        <p:spPr>
          <a:xfrm>
            <a:off x="0" y="0"/>
            <a:ext cx="66499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ermine the number of permutations of all the letters in the word MON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7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46,6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0" y="270000"/>
            <a:ext cx="6541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efer to question 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many of these permutations begin with A and end in 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2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9"/>
          <p:cNvSpPr/>
          <p:nvPr/>
        </p:nvSpPr>
        <p:spPr>
          <a:xfrm>
            <a:off x="2471760" y="602784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his is not a multiple choice question.  P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rite your answer on the sheet of pap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61"/>
          <p:cNvSpPr/>
          <p:nvPr/>
        </p:nvSpPr>
        <p:spPr>
          <a:xfrm>
            <a:off x="0" y="91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aluate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58"/>
              <p:cNvSpPr txBox="1"/>
              <p:nvPr/>
            </p:nvSpPr>
            <p:spPr>
              <a:xfrm>
                <a:off x="1828800" y="914400"/>
                <a:ext cx="322272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76"/>
          <p:cNvSpPr/>
          <p:nvPr/>
        </p:nvSpPr>
        <p:spPr>
          <a:xfrm>
            <a:off x="0" y="307800"/>
            <a:ext cx="66517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restaurant offers 6 salads, 3 soups, 5 entrees, 4 desserts, and six beverages.  If you choose one from each categories, how many different meals can you ord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school has 600 male and 400 female students.  3 students at random are waiting at a bus stop.  What is the probability that all three are of the same gender (assume randomness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3:08:54Z</dcterms:created>
  <dc:creator>Laura Helbing</dc:creator>
  <dc:description/>
  <dc:language>en-US</dc:language>
  <cp:lastModifiedBy>Laura Helbing</cp:lastModifiedBy>
  <dcterms:modified xsi:type="dcterms:W3CDTF">2011-02-24T14:33:05Z</dcterms:modified>
  <cp:revision>5</cp:revision>
  <dc:subject/>
  <dc:title>Slide 1</dc:title>
</cp:coreProperties>
</file>