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C55-34B6-4F8C-8110-025631F0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B53-200E-4648-A85F-4B5BFC3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5F4-2149-4258-8213-4D456C09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361-61D4-4566-8EF7-8C47DD58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3891-CBCF-49F2-BA2D-909CD0C8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0910-3017-4962-8781-89BE2F06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2722-163F-4C3D-A80C-E706BE8B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C4B2-08F5-4972-9113-4198160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7372-9E5F-4D0B-BAB0-4B8E41D8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9B22-3A80-4645-AE5D-FF984199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27B6-DB21-4381-9E0D-C2D93655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1E2-D881-4843-82DA-ED60B8F0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7417-4ED5-4F86-9E47-C3E9C47E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8F57-29D3-4D72-8FED-574FDFF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509-6409-4D7B-BFED-B332B17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645A-A560-4191-B438-D95C7F07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9DC0-1023-4D8C-862F-A1F6E16F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9151B-12BA-4646-AABC-C2443E4B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67B31-EE09-4DF2-9305-185B6D03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AA457-834B-453B-9C4A-4E591C0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5875D-5E2A-4022-836F-7E056E37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34780-F3F4-4820-B9FC-2FC6AD5C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0C0-F412-4B68-83B6-F9C9E132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8BE65-193A-4BEC-B2D7-74B2E8B9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BC2E7-89D9-4CD3-A6F8-168418B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0D54A-F7B6-4A73-8648-AD3DB198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9BD8D-ADC4-4379-B5B2-0AC2D55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6A1C1-2EE4-4F6D-9A1A-6741A17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CD307-57E0-4F52-8E8E-807795A6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5E677-24A3-470A-9805-290FD988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AC11-04B3-4B0C-9000-F1C218C8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35C9-30D7-44A3-A3C1-4FACDC8A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FD1D-3969-4C11-98A5-F42FB75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1C7-5D1C-4EDA-A49B-910F2975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34D2-1125-4C87-9907-6AB4C6B9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3D623-0DC1-4CDF-A0A0-801B0573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4F48-A73A-4766-A0D2-96A92BD1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5B65-64D9-4EB0-87A9-C194058C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1C8F-9AAF-400A-BFAF-21C2874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F10C-C3D3-4F2C-B774-5B89353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BE89-3BF7-4EC5-80BC-0F7F23FB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DE3B6-85DD-4681-9DF0-E6D1B81B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91F32-0F78-4F7C-BB02-97B096AD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F335-3A79-405A-847F-D646D7B8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757-6769-4583-82E1-9C03DA4F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C4B3-3D65-49E7-8DE6-30D7E2D2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008C-70A7-4C3C-9C3F-F82EF022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925-CFC4-4D16-A06C-5084BF66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613-0D0F-419F-B001-5387B1D55AB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ac66b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ac66b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6770-C43C-401F-BEF0-9170BE036A4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1D2-6219-4CD4-A737-4C52FF13F10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ac66b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ac66bb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b83d6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de6c3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c66bb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ac66bb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F0C7-A0FE-46E3-9914-2DB975510D3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bsolute Value and Distance</a:t>
            </a:r>
            <a:endParaRPr b="0" lang="en-US" sz="44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3f9a"/>
                </a:solidFill>
                <a:latin typeface="Georgia"/>
              </a:rPr>
              <a:t>Lesson 1.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Objectives for the day…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e expressions involving absolute val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graphs to determine whether expressions seem to be equival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Absolute Value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calculator:  math, right arrow to num, ab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tance from the number to zero, so always posi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NOT IN BOOK!!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| x – 3| = 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solve absolute value problems, we write the problem twice! Like thi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6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– 3 = -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w solve both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9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 = -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oth 9, and -3 are solutions to this probl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– graph two equations in your graphing calculator:  y = |x – 3| and y = 6 (see where they intersect!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You try!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| 7 – x| = 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14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7 – x = -14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b83d68"/>
              </a:buClr>
              <a:buFont typeface="Georgi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- x = -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x = -7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     x =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83d68"/>
                </a:solidFill>
                <a:latin typeface="Georgia"/>
              </a:rPr>
              <a:t>So, the solutions are -7 and 21</a:t>
            </a:r>
            <a:endParaRPr b="0" lang="en-US" sz="2400" spc="-1" strike="noStrike">
              <a:solidFill>
                <a:srgbClr val="b83d68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:  | -89|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2:  - | -16 – 4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3:   | |-73| - |8 ∙ -2| - 100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8: |-m + 6| - |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+ 3| for m = 5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2443320" y="22860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6941160" y="220968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-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914400" y="4267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73 + -16 + -100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029200" y="4267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914400" y="56386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| -(5/8) + 6| + -|(5/8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3|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858000" y="5105520"/>
                <a:ext cx="153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7481880" y="5994360"/>
                <a:ext cx="62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Lesson Master (continued)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8686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9.  Plot y1 and y2 on the grid and tell whether or not y1 appears to be equivalent to y2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1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2 = |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– 1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equivalent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#12: 3 ∙|y| = 3 ∙ |-y|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al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0" t="10998" r="81879" b="70005"/>
          <a:stretch/>
        </p:blipFill>
        <p:spPr>
          <a:xfrm>
            <a:off x="609480" y="3124080"/>
            <a:ext cx="2210040" cy="1447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rcRect l="0" t="10998" r="82502" b="70005"/>
          <a:stretch/>
        </p:blipFill>
        <p:spPr>
          <a:xfrm>
            <a:off x="3429000" y="31240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3"/>
          <a:srcRect l="3750" t="9000" r="79378" b="72004"/>
          <a:stretch/>
        </p:blipFill>
        <p:spPr>
          <a:xfrm>
            <a:off x="3505320" y="5410080"/>
            <a:ext cx="2057400" cy="1447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4"/>
          <a:srcRect l="2498" t="10998" r="78752" b="70005"/>
          <a:stretch/>
        </p:blipFill>
        <p:spPr>
          <a:xfrm>
            <a:off x="609480" y="5410080"/>
            <a:ext cx="2286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Partner work (to be handed in)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the activity on page 44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n graph :  y = abs(x) ,  y = abs (x + 3) ,  y = (x – 3)  on your calculators at the same time.  How are these three graphs related?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n you make a generalization from thi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Trebuchet MS"/>
              </a:rPr>
              <a:t>Homework:</a:t>
            </a:r>
            <a:endParaRPr b="0" lang="en-US" sz="4000" spc="-1" strike="noStrike">
              <a:solidFill>
                <a:srgbClr val="b13f9a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ish up lesson master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ges 45 – 46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0 – 2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de6c3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fine concepts of mean, median, mode, ran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0T01:07:52Z</dcterms:created>
  <dc:creator>Laura Helbing</dc:creator>
  <dc:description/>
  <dc:language>en-US</dc:language>
  <cp:lastModifiedBy>Laura Helbing</cp:lastModifiedBy>
  <dcterms:modified xsi:type="dcterms:W3CDTF">2012-08-27T13:38:32Z</dcterms:modified>
  <cp:revision>3</cp:revision>
  <dc:subject/>
  <dc:title>Absolute Value and Distance</dc:title>
</cp:coreProperties>
</file>