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9A9-845E-4682-B04F-E27E9A1B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37D-4C03-4647-99DC-BB29122A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2F6B-3A96-4A72-B615-E3603E1F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5F9D-2694-4C0C-81CF-1ED7706F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B732-5347-4A39-944A-D04192A7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11FB-9861-48D7-B9F8-CDD6EE2A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4D5C-0F7C-4229-B51B-65B72B6A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90D3-3134-407F-A191-5452841D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BF64-EFA4-4141-A219-70C99C7B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DFCC-2449-49C6-9343-423DA465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9398-AF57-44B1-83E4-8B9379BC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FD2-BEF9-4884-A624-03476E2E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9D2A-3D38-4BF2-BB4A-6FDBCE2B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CEBF-8643-4FE6-9335-87A66158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868B-6211-4CC5-97A5-CC405547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8B05-0BAC-468E-9E5E-14B47921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1CFA-CB0D-47DB-86F7-07FA975E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0BFA4-FE54-4A7A-AEED-A5AA5D81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471C4-0069-48CE-B145-014E2CE0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83EBB-DDB5-4AD8-BC79-753CFE23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9720C-4E31-4024-A073-22EE1CB5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6F044-15B7-4821-B6CE-2BBE6FF8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F5E-27A4-48E2-A4EB-9AF40FA9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FA860-F3AD-42B0-AA72-E3EDB982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F2183-B267-405B-BADE-F2057EC2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46C72-76DB-4706-9435-67E2FCA8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A89C7-4F3F-44DE-9C4C-C46F411F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97AAB-DD23-46FB-AB8A-78A231BD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41A18-F7D7-4278-B936-54F47FEE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0C13E-7A27-4C1A-83F4-DC20B489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B5479-8EA0-40CF-AFA7-F9344F53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7BBCA-CD4A-4889-98C0-531937EF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82328-0DE8-41C9-94DE-D7C2F4F1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8B5-6722-4317-83EA-D61CA8DB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CB093-BF23-4E22-BB58-86852399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2A10-D151-4827-951E-B380E1A9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9C916-E55E-400B-9F54-AEFEC13D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3AC7A-413F-46CC-A3CD-B9114AE7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68227-9FA8-4971-BE87-04C8851A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D81B5-5F8C-44F2-BA9C-60F7232A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88999-ED37-47DC-8592-387ED7AA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160CB-6EF3-4E22-A9C5-42B945A4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3759-86D3-45E6-BA44-F05CB6E7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DCD-9FB4-4913-8898-9B729FF6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819-68B3-4934-9872-B537911B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F59-CA5F-4C56-86A8-42964F50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9BE1-5CE0-41F2-92E2-9AB6B6E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679-AF24-4AD4-A426-874DEA4B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F986-A1B9-4A74-B661-6D63ABC0278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ac66b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5585-A754-4B57-BCF4-910AA249283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C3AF-93EA-4B59-A132-27E5A05FEBC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28F3-2A9E-489F-9151-6D5FB610625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Absolute Value and Distance</a:t>
            </a:r>
            <a:endParaRPr b="0" lang="en-US" sz="44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Georgia"/>
              </a:rPr>
              <a:t>Lesson 1.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Objectives for the day…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aluate expressions involving absolute val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graphs to determine whether expressions seem to be equival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Absolute Value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your calculator:  math, right arrow to num, ab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ance from the number to zero, so always posi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NOT IN BOOK!!!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| x – 3| = 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olve absolute value problems, we write the problem twice! Like thi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– 3 = 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– 3 = -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solve both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= 9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= - 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th 9, and -3 are solutions to this probl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 – graph two equations in your graphing calculator:  y = |x – 3| and y = 6 (see where they intersect!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You try!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| 7 – x| = 14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7 – x = 14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7 – x = -14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x = 7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  - x = -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x = -7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     x = 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So, the solutions are -7 and 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Lesson Master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1:  | -89|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2:  - | -16 – 4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3:   | |-73| - |8 ∙ -2| - 100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8: |-m + 6| - |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 3| for m = 5/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2443320" y="228600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6941160" y="22096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914400" y="4267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| 73 + -16 + -100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029200" y="4267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914400" y="5638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| -(5/8) + 6| + -|(5/8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858000" y="5105520"/>
                <a:ext cx="1538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7481880" y="5994360"/>
                <a:ext cx="620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Lesson Master (continued)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86868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9.  Plot y1 and y2 on the grid and tell whether or not y1 appears to be equivalent to y2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1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1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2 = |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1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equivalent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12: 3 ∙|y| = 3 ∙ |-y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qual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rcRect l="0" t="10998" r="81879" b="70005"/>
          <a:stretch/>
        </p:blipFill>
        <p:spPr>
          <a:xfrm>
            <a:off x="609480" y="3124080"/>
            <a:ext cx="2210040" cy="1447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rcRect l="0" t="10998" r="82502" b="70005"/>
          <a:stretch/>
        </p:blipFill>
        <p:spPr>
          <a:xfrm>
            <a:off x="3429000" y="31240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3"/>
          <a:srcRect l="3750" t="9000" r="79378" b="72004"/>
          <a:stretch/>
        </p:blipFill>
        <p:spPr>
          <a:xfrm>
            <a:off x="3505320" y="541008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4"/>
          <a:srcRect l="2498" t="10998" r="78752" b="70005"/>
          <a:stretch/>
        </p:blipFill>
        <p:spPr>
          <a:xfrm>
            <a:off x="609480" y="5410080"/>
            <a:ext cx="2286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Partner work (to be handed in):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the activity on page 44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n graph :  y = abs(x) ,  y = abs (x + 3) ,  y = (x – 3)  on your calculators at the same time.  How are these three graphs related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you make a generalization from thi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Homework: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ish up lesson master 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ges 45 – 4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 – 2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fine concepts of mean, median, mode, ra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0T01:07:52Z</dcterms:created>
  <dc:creator>Laura Helbing</dc:creator>
  <dc:description/>
  <dc:language>en-US</dc:language>
  <cp:lastModifiedBy>Laura Helbing</cp:lastModifiedBy>
  <dcterms:modified xsi:type="dcterms:W3CDTF">2012-08-27T13:38:32Z</dcterms:modified>
  <cp:revision>3</cp:revision>
  <dc:subject/>
  <dc:title>Absolute Value and Distance</dc:title>
</cp:coreProperties>
</file>