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56D46-0DBB-4AB8-827F-2B8C13417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0216A-E48B-456C-82E6-3B5E34C72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731F0-4C29-4AE0-8971-861B1F52C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69F23-752D-461F-8A0F-C6ABBB787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B68CD-7FC6-40EE-B1C2-BF6E223CE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15B34-03D1-413C-976C-362B35D03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5C129-53E6-452D-814E-FC5443592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D420C-E272-42CD-9DAA-85C762700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0FBD1-20A6-4821-8F01-245035FA8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D7EB7-AF60-4F8F-AFE1-1C3D4F88F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433C9-53F5-4C60-82BC-B3B01FF67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AC615-0D9C-416A-A665-C24D2B078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B6BD9-F491-473F-A3DA-99287EAAC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76163-2F04-4212-8856-FF4A67DBE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64497-AE1C-4345-9FAE-167A803A6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A5665-B860-4163-A5D1-A1C0C83F3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ACCBE-B395-4947-88FD-53F8C253C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7B2455-E7A5-4F40-A1B5-C195DBF1B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F50C256-D900-41C8-9701-B7B0850C3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8F8D6DB-D5DC-4297-B45F-2D9D48E68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98DB60A-502D-45F6-BCA8-42D02E7A7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1F55D5-F1DD-4431-89DC-E57A87AEC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83958-CD77-454B-B63D-1E5100977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0722D64-41B2-4873-891B-68874DF4C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C5656FD-616D-4F0E-9230-C2CD23029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3AC1C8B-5021-4CFC-B9A8-46A130F64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6FB1CBD-BA35-41AD-A488-547408764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2EC99DC-0C8E-47B3-9D2B-FCB974F71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F141EB7-4895-45F7-9154-969E98BA3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15247A8-3E45-47D0-A808-13BA32936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2399B5-801E-4624-A678-0AF6AE6AC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CE3471-A9FE-481C-BBAE-E2E4C1A30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555FA1-CE0D-4D21-ABA2-BF1082255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93A6D-4927-427D-80BE-2B6A69B96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D3DD51-07A4-4362-984B-93A2A6048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FE651C-5995-47A1-BDCB-EEBB41EDC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A1B3AA-835C-46DA-92B0-D9D974E3B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103EDC-352F-425B-A2D0-66400B611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AE327F-43BA-4D55-91C7-6FA39E5A3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8D6F57-EEC1-4D1D-8A9A-BC7456E91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FCCC1D-7158-4523-B113-6DEB55C11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C03B67-4A06-4265-A270-8401EBEDA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587B6F-56E8-4BD5-82A9-E1B3E563C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00E10-F145-4824-8296-AB0E34B69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4F06B-A813-4298-8D65-0792E0B0D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E66DB-7735-42A4-8AF0-B1D0217C5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1C0AD-41F0-42D8-8E2C-CEC4661C2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20018-DE78-4E00-84D7-C1A34A600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ac66bb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b13f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ac6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ac6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ac66bb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13f9a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de6c3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ac66bb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b83d6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b83d6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de6c3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ac66bb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c66bb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9863B-5053-4E28-8318-2586B98AB4DD}" type="slidenum">
              <a:rPr b="0" lang="en-US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ac6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ac66bb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ac66bb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ac66bb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ac66bb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ounded Rectangle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ounded Rectangle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ac66bb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ac6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ac6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b13f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13f9a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de6c3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ac66bb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b83d6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b83d6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de6c3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ac66bb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c66bb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0C3E4-16C5-407F-827F-AE78EBD17C9F}" type="slidenum">
              <a:rPr b="0" lang="en-US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ac66bb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b13f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ac6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ac6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ac66bb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13f9a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de6c3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ac66bb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b83d6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b83d6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de6c3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ac66bb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c66bb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FFFE0-07DD-4092-91C1-A4AD9B96EA05}" type="slidenum">
              <a:rPr b="0" lang="en-US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ac66bb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b13f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ac6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ac6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ac66bb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13f9a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de6c3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ac66bb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b83d6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b83d6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de6c3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ac66bb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c66bb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9A424-7F11-457D-98C3-C2F983AECE3C}" type="slidenum">
              <a:rPr b="0" lang="en-US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4015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Absolute Value and Distance</a:t>
            </a:r>
            <a:endParaRPr b="0" lang="en-US" sz="44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457200" y="3900600"/>
            <a:ext cx="4952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13f9a"/>
                </a:solidFill>
                <a:latin typeface="Georgia"/>
              </a:rPr>
              <a:t>Lesson 1.6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13f9a"/>
                </a:solidFill>
                <a:latin typeface="Trebuchet MS"/>
              </a:rPr>
              <a:t>Objectives for the day…</a:t>
            </a: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de6c3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Evaluate expressions involving absolute valu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de6c3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de6c3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Use graphs to determine whether expressions seem to be equivalen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13f9a"/>
                </a:solidFill>
                <a:latin typeface="Trebuchet MS"/>
              </a:rPr>
              <a:t>Absolute Value</a:t>
            </a: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de6c3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in your calculator:  math, right arrow to num, ab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de6c3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Distance from the number to zero, so always positiv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13f9a"/>
                </a:solidFill>
                <a:latin typeface="Trebuchet MS"/>
              </a:rPr>
              <a:t>NOT IN BOOK!!!</a:t>
            </a: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99072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| x – 3| = 6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o solve absolute value problems, we write the problem twice! Like this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x – 3 = 6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x – 3 = -6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Now solve both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x = 9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x = - 3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Both 9, and -3 are solutions to this problem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OR – graph two equations in your graphing calculator:  y = |x – 3| and y = 6 (see where they intersect!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13f9a"/>
                </a:solidFill>
                <a:latin typeface="Trebuchet MS"/>
              </a:rPr>
              <a:t>You try!</a:t>
            </a: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922320" indent="-21888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83d68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b83d68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b83d68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b83d68"/>
                </a:solidFill>
                <a:latin typeface="Georgia"/>
              </a:rPr>
              <a:t>| 7 – x| = 14</a:t>
            </a:r>
            <a:endParaRPr b="0" lang="en-US" sz="2400" spc="-1" strike="noStrike">
              <a:solidFill>
                <a:srgbClr val="b83d68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83d68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83d68"/>
                </a:solidFill>
                <a:latin typeface="Georgia"/>
              </a:rPr>
              <a:t>7 – x = 14</a:t>
            </a:r>
            <a:r>
              <a:rPr b="0" lang="en-US" sz="2400" spc="-1" strike="noStrike">
                <a:solidFill>
                  <a:srgbClr val="b83d68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b83d68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b83d68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b83d68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b83d68"/>
                </a:solidFill>
                <a:latin typeface="Georgia"/>
              </a:rPr>
              <a:t>7 – x = -14</a:t>
            </a:r>
            <a:endParaRPr b="0" lang="en-US" sz="2400" spc="-1" strike="noStrike">
              <a:solidFill>
                <a:srgbClr val="b83d68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83d68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b83d68"/>
              </a:buClr>
              <a:buFont typeface="Georgi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83d68"/>
                </a:solidFill>
                <a:latin typeface="Georgia"/>
              </a:rPr>
              <a:t>x = 7</a:t>
            </a:r>
            <a:r>
              <a:rPr b="0" lang="en-US" sz="2400" spc="-1" strike="noStrike">
                <a:solidFill>
                  <a:srgbClr val="b83d68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b83d68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b83d68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b83d68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b83d68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b83d68"/>
                </a:solidFill>
                <a:latin typeface="Georgia"/>
              </a:rPr>
              <a:t>  - x = -21</a:t>
            </a:r>
            <a:endParaRPr b="0" lang="en-US" sz="2400" spc="-1" strike="noStrike">
              <a:solidFill>
                <a:srgbClr val="b83d68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83d68"/>
                </a:solidFill>
                <a:latin typeface="Georgia"/>
              </a:rPr>
              <a:t>x = -7</a:t>
            </a:r>
            <a:r>
              <a:rPr b="0" lang="en-US" sz="2400" spc="-1" strike="noStrike">
                <a:solidFill>
                  <a:srgbClr val="b83d68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b83d68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b83d68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b83d68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b83d68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b83d68"/>
                </a:solidFill>
                <a:latin typeface="Georgia"/>
              </a:rPr>
              <a:t>     x = 21</a:t>
            </a:r>
            <a:endParaRPr b="0" lang="en-US" sz="2400" spc="-1" strike="noStrike">
              <a:solidFill>
                <a:srgbClr val="b83d68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83d68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83d68"/>
                </a:solidFill>
                <a:latin typeface="Georgia"/>
              </a:rPr>
              <a:t>So, the solutions are -7 and 21</a:t>
            </a:r>
            <a:endParaRPr b="0" lang="en-US" sz="2400" spc="-1" strike="noStrike">
              <a:solidFill>
                <a:srgbClr val="b83d68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13f9a"/>
                </a:solidFill>
                <a:latin typeface="Trebuchet MS"/>
              </a:rPr>
              <a:t>Lesson Master</a:t>
            </a: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#1:  | -89|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#2:  - | -16 – 4|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#3:   | |-73| - |8 ∙ -2| - 100|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#8: |-m + 6| - |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Georgi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+ 3| for m = 5/8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TextBox 3"/>
          <p:cNvSpPr/>
          <p:nvPr/>
        </p:nvSpPr>
        <p:spPr>
          <a:xfrm>
            <a:off x="2443320" y="2286000"/>
            <a:ext cx="95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=8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Box 4"/>
          <p:cNvSpPr/>
          <p:nvPr/>
        </p:nvSpPr>
        <p:spPr>
          <a:xfrm>
            <a:off x="6941160" y="2209680"/>
            <a:ext cx="123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= -2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5"/>
          <p:cNvSpPr/>
          <p:nvPr/>
        </p:nvSpPr>
        <p:spPr>
          <a:xfrm>
            <a:off x="914400" y="4267080"/>
            <a:ext cx="495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= | 73 + -16 + -100|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Box 6"/>
          <p:cNvSpPr/>
          <p:nvPr/>
        </p:nvSpPr>
        <p:spPr>
          <a:xfrm>
            <a:off x="5029200" y="426708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= 4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Box 7"/>
          <p:cNvSpPr/>
          <p:nvPr/>
        </p:nvSpPr>
        <p:spPr>
          <a:xfrm>
            <a:off x="914400" y="563868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= | -(5/8) + 6| + -|(5/8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+ 3|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1" name="Object 4"/>
              <p:cNvSpPr txBox="1"/>
              <p:nvPr/>
            </p:nvSpPr>
            <p:spPr>
              <a:xfrm>
                <a:off x="6858000" y="5105520"/>
                <a:ext cx="153828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3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+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1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" name="Object 5"/>
              <p:cNvSpPr txBox="1"/>
              <p:nvPr/>
            </p:nvSpPr>
            <p:spPr>
              <a:xfrm>
                <a:off x="7481880" y="5994360"/>
                <a:ext cx="62064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13f9a"/>
                </a:solidFill>
                <a:latin typeface="Trebuchet MS"/>
              </a:rPr>
              <a:t>Lesson Master (continued)</a:t>
            </a: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8686800" cy="54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9.  Plot y1 and y2 on the grid and tell whether or not y1 appears to be equivalent to y2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Y1 = 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Georgi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– 1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Y2 = |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Georgi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– 1|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not equivalent!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#12: 3 ∙|y| = 3 ∙ |-y|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Equal!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35" name="Picture 4" descr=""/>
          <p:cNvPicPr/>
          <p:nvPr/>
        </p:nvPicPr>
        <p:blipFill>
          <a:blip r:embed="rId1"/>
          <a:srcRect l="0" t="10998" r="81879" b="70005"/>
          <a:stretch/>
        </p:blipFill>
        <p:spPr>
          <a:xfrm>
            <a:off x="609480" y="3124080"/>
            <a:ext cx="2210040" cy="144792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6" descr=""/>
          <p:cNvPicPr/>
          <p:nvPr/>
        </p:nvPicPr>
        <p:blipFill>
          <a:blip r:embed="rId2"/>
          <a:srcRect l="0" t="10998" r="82502" b="70005"/>
          <a:stretch/>
        </p:blipFill>
        <p:spPr>
          <a:xfrm>
            <a:off x="3429000" y="3124080"/>
            <a:ext cx="2133720" cy="144792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7" descr=""/>
          <p:cNvPicPr/>
          <p:nvPr/>
        </p:nvPicPr>
        <p:blipFill>
          <a:blip r:embed="rId3"/>
          <a:srcRect l="3750" t="9000" r="79378" b="72004"/>
          <a:stretch/>
        </p:blipFill>
        <p:spPr>
          <a:xfrm>
            <a:off x="3505320" y="5410080"/>
            <a:ext cx="2057400" cy="144792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8" descr=""/>
          <p:cNvPicPr/>
          <p:nvPr/>
        </p:nvPicPr>
        <p:blipFill>
          <a:blip r:embed="rId4"/>
          <a:srcRect l="2498" t="10998" r="78752" b="70005"/>
          <a:stretch/>
        </p:blipFill>
        <p:spPr>
          <a:xfrm>
            <a:off x="609480" y="5410080"/>
            <a:ext cx="228600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13f9a"/>
                </a:solidFill>
                <a:latin typeface="Trebuchet MS"/>
              </a:rPr>
              <a:t>Partner work (to be handed in):</a:t>
            </a: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de6c3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Do the activity on page 44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de6c3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de6c3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en graph :  y = abs(x) ,  y = abs (x + 3) ,  y = (x – 3)  on your calculators at the same time.  How are these three graphs related? 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de6c3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an you make a generalization from this?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13f9a"/>
                </a:solidFill>
                <a:latin typeface="Trebuchet MS"/>
              </a:rPr>
              <a:t>Homework:</a:t>
            </a: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de6c3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nish up lesson master A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Pages 45 – 46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de6c3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10 – 21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de6c3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de6c3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define concepts of mean, median, mode, rang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0T01:07:52Z</dcterms:created>
  <dc:creator>Laura Helbing</dc:creator>
  <dc:description/>
  <dc:language>en-US</dc:language>
  <cp:lastModifiedBy>Laura Helbing</cp:lastModifiedBy>
  <dcterms:modified xsi:type="dcterms:W3CDTF">2012-08-27T13:38:32Z</dcterms:modified>
  <cp:revision>3</cp:revision>
  <dc:subject/>
  <dc:title>Absolute Value and Distance</dc:title>
</cp:coreProperties>
</file>