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C41-30A6-4090-96B2-41FE7ABD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63F-D7C0-4166-97BB-194140B8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8B4-9C71-4DB3-97C0-9F9598A9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505-0156-490E-9234-B74BC041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C318-B071-4BEC-BCC0-9F54D520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7C74-B284-429F-B0B0-A80A3130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F290-2F75-4813-8C88-1B2F5F26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BFDD-1113-469C-A269-AEFBFFA6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0272-634D-4F99-804A-41B8184E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199C-658F-46D8-9F48-DC675308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66BA-762A-4850-9466-DBCB83DA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A5C-D4AE-4D62-A9D3-6D152D34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0DFF-24BA-46F4-BF6D-3397D43B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C872-74A7-45CD-A655-50724B40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0813-DB69-462C-80D4-1131B186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3D44-8FE3-4B93-85DF-F0C537D0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73FD-49B5-476A-8550-04754738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1A58A-FE72-4480-AD01-55D6937D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85619-773D-4A49-8ABC-14B39706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06FA9-78C0-4368-820D-C3DCDE4D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FDCAD-35B0-4794-9D77-3034F1B2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98358-E2DA-4CA5-853C-65A4A838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051-226D-4FAD-9C56-B4EFBBAD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1CF88-2A99-4B9D-8E13-7E7DA612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0CDFC-CC5B-4AF5-94C0-4F8255EB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E4DB4-15C6-4131-B824-70FE21F6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D7AB2-F5A0-4871-9DFD-31D18D6B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1B9AE-7BA8-4B8C-A2DA-D7E351AF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6E0D8-AC47-4767-ABCB-1AC59F7E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E4423-7F64-4991-AB8E-5F4422EC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A6FE2-CE30-42C6-8007-70EA639E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7A659-816A-43B4-AD29-D5C7FD9B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E65CB-1E99-4FB0-9792-08E29827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09E-D096-4425-94D4-7A33BCAF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A57DB-C133-48F1-8FDC-62D146A7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CCCCA-338D-42F2-95D9-7A9CF000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07B59-D600-4047-A19B-AFC9D0BD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B016A-BDCC-4A91-904C-D0B8AD80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052D3-4552-458D-A481-E6E6C9F7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A70D7-31AC-4C5C-9289-5FD51041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BA9D3-D455-44CC-B1C2-5D4D6790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4F259-4A25-4B96-8683-9F8D9127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96F85-F5ED-4179-9EDD-C0617DE1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F29-AB5D-45AB-B4A7-D7F4C79E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E6C-2D25-4B11-9A3E-5B370288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475-85D6-4B64-A13A-5624FE76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ADB-7CC8-4A0F-8837-DEFD79F9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402-EF54-4588-98C2-DDC50A91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A8D4-9D2C-4703-A27F-39F5A1D0B12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ac66b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B939-A12D-4A94-A84E-F1C7527128D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1F6A-6D3E-4AC1-A5D5-0019AC87FC5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4668-4B24-40FE-9B38-41FD7220585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Absolute Value and Distance</a:t>
            </a:r>
            <a:endParaRPr b="0" lang="en-US" sz="44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Georgia"/>
              </a:rPr>
              <a:t>Lesson 1.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Objectives for the day…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valuate expressions involving absolute val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graphs to determine whether expressions seem to be equival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Absolute Value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your calculator:  math, right arrow to num, ab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tance from the number to zero, so always posit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NOT IN BOOK!!!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| x – 3| = 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solve absolute value problems, we write the problem twice! Like thi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– 3 = 6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– 3 = -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solve both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= 9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= - 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th 9, and -3 are solutions to this probl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 – graph two equations in your graphing calculator:  y = |x – 3| and y = 6 (see where they intersect!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You try!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| 7 – x| = 14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7 – x = 14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7 – x = -14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x = 7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  - x = -21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x = -7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     x = 21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So, the solutions are -7 and 21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Lesson Master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1:  | -89|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2:  - | -16 – 4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3:   | |-73| - |8 ∙ -2| - 100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8: |-m + 6| - |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 3| for m = 5/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2443320" y="2286000"/>
            <a:ext cx="9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6941160" y="22096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-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914400" y="42670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| 73 + -16 + -100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029200" y="4267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914400" y="5638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| -(5/8) + 6| + -|(5/8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3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6858000" y="5105520"/>
                <a:ext cx="1538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5"/>
              <p:cNvSpPr txBox="1"/>
              <p:nvPr/>
            </p:nvSpPr>
            <p:spPr>
              <a:xfrm>
                <a:off x="7481880" y="5994360"/>
                <a:ext cx="620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Lesson Master (continued)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86868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9.  Plot y1 and y2 on the grid and tell whether or not y1 appears to be equivalent to y2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1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1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2 = |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1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equivalent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12: 3 ∙|y| = 3 ∙ |-y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qual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rcRect l="0" t="10998" r="81879" b="70005"/>
          <a:stretch/>
        </p:blipFill>
        <p:spPr>
          <a:xfrm>
            <a:off x="609480" y="3124080"/>
            <a:ext cx="2210040" cy="1447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2"/>
          <a:srcRect l="0" t="10998" r="82502" b="70005"/>
          <a:stretch/>
        </p:blipFill>
        <p:spPr>
          <a:xfrm>
            <a:off x="3429000" y="312408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3"/>
          <a:srcRect l="3750" t="9000" r="79378" b="72004"/>
          <a:stretch/>
        </p:blipFill>
        <p:spPr>
          <a:xfrm>
            <a:off x="3505320" y="541008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4"/>
          <a:srcRect l="2498" t="10998" r="78752" b="70005"/>
          <a:stretch/>
        </p:blipFill>
        <p:spPr>
          <a:xfrm>
            <a:off x="609480" y="5410080"/>
            <a:ext cx="2286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Partner work (to be handed in):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 the activity on page 44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n graph :  y = abs(x) ,  y = abs (x + 3) ,  y = (x – 3)  on your calculators at the same time.  How are these three graphs related?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you make a generalization from thi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Homework: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ish up lesson master 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ges 45 – 4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0 – 2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fine concepts of mean, median, mode, ra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0T01:07:52Z</dcterms:created>
  <dc:creator>Laura Helbing</dc:creator>
  <dc:description/>
  <dc:language>en-US</dc:language>
  <cp:lastModifiedBy>Laura Helbing</cp:lastModifiedBy>
  <dcterms:modified xsi:type="dcterms:W3CDTF">2012-08-27T13:38:32Z</dcterms:modified>
  <cp:revision>3</cp:revision>
  <dc:subject/>
  <dc:title>Absolute Value and Distance</dc:title>
</cp:coreProperties>
</file>